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9.png" ContentType="image/png"/>
  <Override PartName="/ppt/media/image12.png" ContentType="image/png"/>
  <Override PartName="/ppt/media/image7.png" ContentType="image/png"/>
  <Override PartName="/ppt/media/image2.jpeg" ContentType="image/jpeg"/>
  <Override PartName="/ppt/media/image20.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A20D-2D78-45E6-AD7A-23BB61FFC4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EE7C3-0275-44F6-83C3-231B0449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97837-54C0-4067-B921-DD935709D5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AA11D4-C92F-460A-B9BD-79200293D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2A7CDC-BEF4-4B56-9778-6E88411F39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AF80E-1D87-4E48-B97B-2AAD54E1FB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225B3-D806-4A22-BADF-2D8BEEAD2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F0CD6-8B4D-4298-B196-EC57F04D44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DCFFC1-C567-4675-A7D6-FBBFED0E7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632A9-F0F1-48E4-81B0-117552905D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8F6630-7D77-4E0B-B7CC-947AD77698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728B7-38E4-43AC-AE90-F7BAA1F8C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2AB09-30BA-4DF5-9EA6-4EC003475F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AF740-A941-4FC4-9257-DB7333B4A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95C3DE-637B-4E1F-9952-71F7974756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5CADF3-0719-4D8C-886D-BF5DA4268A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1DBED-D9DD-4E01-B1BA-B0CC782CBB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491E9-4ABE-4485-9ADE-D4AC0F292D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A802AD-9ACF-458C-959E-F2C5CA936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EAC82F-D54C-4397-908C-8A15A3F9F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027306-150A-4118-A95D-567DD6804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7B49D9-4195-44EB-9AF4-71DBF19CB6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CC4CA-5CBF-4D04-887A-6BE10EF1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E0DC22-C969-4BCE-8E50-2198F20AC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24887-EE27-43AA-9FC5-8943D8C50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31295-9861-474A-A0BE-45280CF301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D411B4-D51C-4476-A52A-BB9851EEF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D236BA-629E-468F-B4A1-DE0D3D90F0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148AA8-32DF-442F-AE63-94A3920224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DBD0FD-190D-440F-B486-D2F26B6164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23AAEB-11F7-4EDA-A4A4-4028286E49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626CAF-5795-433E-9F81-6A3A17F2D8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1AF0E-83EC-43D7-A72D-7738B39692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589B8-B20D-48E8-AC07-15DD42C9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BC82AE-FED4-40D2-8109-66F64B448C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EE9498-4951-428B-9F6C-302709C5B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A34843-BB77-46EB-A9B5-E904DDCD1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1AB49-39DD-4392-A9A0-4B8306ECE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63846-C1BB-4CF0-B5D6-5C79ACEF0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13D02F-96FF-4BE3-969D-CF57DEB26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9FFEF7-BFAD-46FB-A30F-9FADA24FBC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1AE47-498A-40D0-9039-3CDCA86ABD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8AAF19-F181-4923-839E-B9DDB0B463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15047-17B4-40EA-9A25-C292F0AA24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0E8EF-FFF5-4FF5-BE9D-3177C957A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8CE639-21D9-42F5-88DA-287F07616F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0AD400-C3A4-41F9-8B79-F4EA3A33A4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5C9CD-A121-40FE-8257-768D893E2CE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363874-B687-4DEF-A682-71257EC93B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30D77-F693-4904-AA32-8AF72021FE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D3C82D-463F-4BF7-BDDA-0F223CC0D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273CB5-A177-4248-A0F6-7D6ABD25EC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CE005B-AE32-40D9-A1E0-FADDE448B8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15B5A-C508-4331-90A6-ABDE72E92F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8126B1-37A6-43BC-847C-BE80458F0D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76EC8-62CA-42EC-86DD-A90D58813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46EA4-76E4-43AB-B8F1-7CE2E615B03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C4120C-2C28-4A1D-8E61-3143409F31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52759F-879C-4C4E-9488-420FD6D83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EC692-C4A0-44CB-A5D3-01E2EC589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87C4EF-ED67-4469-8FEA-59D2CF798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C3377D-2454-49EC-8585-514D6714BF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ABB1FD-3C94-4EAF-BF74-E27ABCFB37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8606B1-9BA3-4B58-88EB-3296D49F3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9D17C7-B161-4C7E-A13B-557DE1123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5ED24-EA93-4090-97B5-FBA71E87F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02C6A-1479-4BE5-AA57-50A5EE40A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808F51-2976-4C0F-9BC1-589E017F78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8055ED-4955-46ED-8F64-B91AD182FD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2317F5-2C49-4B90-85BE-85CCA6B2C7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7E844C-5175-423C-A3DF-9C2F0DFCF4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17D84A-5524-43A9-8327-5302B2078F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18477C-69E4-44CE-AA5D-458D33AC6C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D4B3B6-5AF1-49C8-B207-26FC1EE8C9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3C25F2-D1B4-4818-AD0B-A1942F53B1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F445F-ABD0-454D-B84C-ED8B35EE6E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E435F-36A0-4F24-99A1-AFBEFD46F8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2D5E1-BD79-4F25-A814-BF3804A4E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DE1548-1CBB-498B-9DB3-E843426CCF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35B927-2A1E-442C-AAFB-35C11B786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3F98DE-6343-4C68-8A60-35780F546F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6B65A6-009D-4FA4-A52D-C52D2DB6B3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85518D-2A96-4AD5-9E35-D22465991A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9287148-1FF4-437A-9064-77AE35150D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31BD30-E7E3-4FA0-B10C-645BB4993C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DF8D08-2F0E-41E0-92B4-0190EDA483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764176-79D9-4B95-84E8-AE421D58F3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5199C5-3B04-45C6-91E7-BE9ECA02B3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EE373-2C4F-4A52-BCDF-F8D6951C4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70F45F-B455-4C89-B85E-5967C26B43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638958-9660-4C5F-811A-3B614E1165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F31822-508E-456D-B104-645E33FE1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977EE5-1028-4757-A55E-2E3E375C9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833484-EBDF-411F-A7D4-4CDFFAAFEC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74FF9B2-4F88-4707-8B93-2CA36D3884B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121A294-ACA5-448D-8CE6-5BFEF0C2462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AEA6-0293-43EF-9341-555FBCDDF6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Равнобедренный треугольник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C80D-E758-443C-89EE-7AB94398C929}" type="slidenum">
              <a:rPr b="0" lang="ru-RU"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80C1-45DE-4DD2-810F-B2373B7A069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Прямоугольный треугольник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Равнобедренный треугольник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Прямая соединительная линия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Прямая соединительная линия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BF133-8FC8-4701-BA41-CD3342CB495F}"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Прямоугольный треугольник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Прямая соединительная линия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Прямая соединительная линия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73FE9-670F-4E84-8C8B-66914D512F5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95B3D-FC07-4E5F-9155-E7DD902D88F9}"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AF4E6-5CD0-4EA5-BE75-357834ADAB2C}" type="slidenum">
              <a:rPr b="0" lang="ru-RU"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859E4-A0CD-4C4F-9951-25E0E28E04BE}" type="slidenum">
              <a:rPr b="0" lang="ru-RU"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pic>
        <p:nvPicPr>
          <p:cNvPr id="345" name="Заголовок 1" descr=""/>
          <p:cNvPicPr/>
          <p:nvPr/>
        </p:nvPicPr>
        <p:blipFill>
          <a:blip r:embed="rId1"/>
          <a:stretch/>
        </p:blipFill>
        <p:spPr>
          <a:xfrm>
            <a:off x="146160" y="1390680"/>
            <a:ext cx="9028080" cy="1942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Заголовок 1" descr=""/>
          <p:cNvPicPr/>
          <p:nvPr/>
        </p:nvPicPr>
        <p:blipFill>
          <a:blip r:embed="rId1"/>
          <a:stretch/>
        </p:blipFill>
        <p:spPr>
          <a:xfrm>
            <a:off x="133200" y="-201600"/>
            <a:ext cx="8877600" cy="1633680"/>
          </a:xfrm>
          <a:prstGeom prst="rect">
            <a:avLst/>
          </a:prstGeom>
          <a:ln w="0">
            <a:noFill/>
          </a:ln>
        </p:spPr>
      </p:pic>
      <p:sp>
        <p:nvSpPr>
          <p:cNvPr id="360" name=""/>
          <p:cNvSpPr txBox="1"/>
          <p:nvPr/>
        </p:nvSpPr>
        <p:spPr>
          <a:xfrm>
            <a:off x="-360" y="1142640"/>
            <a:ext cx="6072120" cy="57150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разных регионах, у разных народов в ходе накопления и осмысления шаманского опыта примитивные и аморфные системы религиозных взглядов (а также связанные с ними религиозные институты) развивались в более сложные и устойчивые. Примером результата такой эволюции является даосизм — всеобъемлющее мировоззрение, аккумулирующее представления о природе, душе, мире добрых и злых духов и т. д.</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1" name="Рисунок 3" descr="93.jpg"/>
          <p:cNvPicPr/>
          <p:nvPr/>
        </p:nvPicPr>
        <p:blipFill>
          <a:blip r:embed="rId2"/>
          <a:stretch/>
        </p:blipFill>
        <p:spPr>
          <a:xfrm>
            <a:off x="5857920" y="1214280"/>
            <a:ext cx="3286080" cy="564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Заголовок 1" descr=""/>
          <p:cNvPicPr/>
          <p:nvPr/>
        </p:nvPicPr>
        <p:blipFill>
          <a:blip r:embed="rId1"/>
          <a:stretch/>
        </p:blipFill>
        <p:spPr>
          <a:xfrm>
            <a:off x="208080" y="-23760"/>
            <a:ext cx="8727840" cy="1816200"/>
          </a:xfrm>
          <a:prstGeom prst="rect">
            <a:avLst/>
          </a:prstGeom>
          <a:ln w="0">
            <a:noFill/>
          </a:ln>
        </p:spPr>
      </p:pic>
      <p:sp>
        <p:nvSpPr>
          <p:cNvPr id="363" name=""/>
          <p:cNvSpPr txBox="1"/>
          <p:nvPr/>
        </p:nvSpPr>
        <p:spPr>
          <a:xfrm>
            <a:off x="214200" y="1571760"/>
            <a:ext cx="4572000" cy="488304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В XX веке шаманские техники стали активно применяться вне традиционного контекста — в школах и религиях Нью-эйдж, и в различных системах психотерапии. Большое распространение получили «методики», описанные американским писателем Карлосом Кастанедой.</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pic>
        <p:nvPicPr>
          <p:cNvPr id="364" name="Рисунок 3" descr="Shaman_1.jpg"/>
          <p:cNvPicPr/>
          <p:nvPr/>
        </p:nvPicPr>
        <p:blipFill>
          <a:blip r:embed="rId2"/>
          <a:stretch/>
        </p:blipFill>
        <p:spPr>
          <a:xfrm>
            <a:off x="4667400" y="1428840"/>
            <a:ext cx="4476600" cy="542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Заголовок 1" descr=""/>
          <p:cNvPicPr/>
          <p:nvPr/>
        </p:nvPicPr>
        <p:blipFill>
          <a:blip r:embed="rId1"/>
          <a:stretch/>
        </p:blipFill>
        <p:spPr>
          <a:xfrm>
            <a:off x="450720" y="646200"/>
            <a:ext cx="8906040" cy="5578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Заголовок 1" descr=""/>
          <p:cNvPicPr/>
          <p:nvPr/>
        </p:nvPicPr>
        <p:blipFill>
          <a:blip r:embed="rId1"/>
          <a:stretch/>
        </p:blipFill>
        <p:spPr>
          <a:xfrm>
            <a:off x="450720" y="-6480"/>
            <a:ext cx="8242560" cy="1225800"/>
          </a:xfrm>
          <a:prstGeom prst="rect">
            <a:avLst/>
          </a:prstGeom>
          <a:ln w="0">
            <a:noFill/>
          </a:ln>
        </p:spPr>
      </p:pic>
      <p:sp>
        <p:nvSpPr>
          <p:cNvPr id="367" name=""/>
          <p:cNvSpPr txBox="1"/>
          <p:nvPr/>
        </p:nvSpPr>
        <p:spPr>
          <a:xfrm>
            <a:off x="214200" y="1071360"/>
            <a:ext cx="6786720" cy="538308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Региональная (и национальная) форма шаманизма. Территория распространения — Алтай.</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Алтайский шаманизм носит вербальный характер. Это учение не имеет письменного изложения своих основ, положений, деклараций. Нет канонических правил, заповедей, запретов, текстов молений и т. д.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се учение держится лишь на устно-визуальной базе и простом ритуальном реквизите.</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Служители культа называются </a:t>
            </a:r>
            <a:r>
              <a:rPr b="0" i="1" lang="ru-RU" sz="2100" spc="-1" strike="noStrike">
                <a:solidFill>
                  <a:srgbClr val="ffffff"/>
                </a:solidFill>
                <a:latin typeface="Century Gothic"/>
              </a:rPr>
              <a:t>камами</a:t>
            </a:r>
            <a:r>
              <a:rPr b="0" lang="ru-RU" sz="2100" spc="-1" strike="noStrike">
                <a:solidFill>
                  <a:srgbClr val="ffffff"/>
                </a:solidFill>
                <a:latin typeface="Century Gothic"/>
              </a:rPr>
              <a:t>.</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ам служит проводником между миром живых и миром ушедших в иной мир, а также между миром людей и миром природы.</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Основной обряд, во время которого шаман «общается» и «вызывает» духов называется </a:t>
            </a:r>
            <a:r>
              <a:rPr b="0" i="1" lang="ru-RU" sz="2100" spc="-1" strike="noStrike">
                <a:solidFill>
                  <a:srgbClr val="ffffff"/>
                </a:solidFill>
                <a:latin typeface="Century Gothic"/>
              </a:rPr>
              <a:t>камланием.</a:t>
            </a: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a:p>
            <a:pPr indent="5302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pic>
        <p:nvPicPr>
          <p:cNvPr id="368" name="Рисунок 3" descr="52325381_86666.jpg"/>
          <p:cNvPicPr/>
          <p:nvPr/>
        </p:nvPicPr>
        <p:blipFill>
          <a:blip r:embed="rId2"/>
          <a:stretch/>
        </p:blipFill>
        <p:spPr>
          <a:xfrm>
            <a:off x="6572160" y="1500120"/>
            <a:ext cx="2400480" cy="3500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Заголовок 1" descr=""/>
          <p:cNvPicPr/>
          <p:nvPr/>
        </p:nvPicPr>
        <p:blipFill>
          <a:blip r:embed="rId1"/>
          <a:stretch/>
        </p:blipFill>
        <p:spPr>
          <a:xfrm>
            <a:off x="450720" y="-23760"/>
            <a:ext cx="8242560" cy="957240"/>
          </a:xfrm>
          <a:prstGeom prst="rect">
            <a:avLst/>
          </a:prstGeom>
          <a:ln w="0">
            <a:noFill/>
          </a:ln>
        </p:spPr>
      </p:pic>
      <p:sp>
        <p:nvSpPr>
          <p:cNvPr id="370" name=""/>
          <p:cNvSpPr txBox="1"/>
          <p:nvPr/>
        </p:nvSpPr>
        <p:spPr>
          <a:xfrm>
            <a:off x="356760" y="857160"/>
            <a:ext cx="8572680" cy="6500880"/>
          </a:xfrm>
          <a:prstGeom prst="rect">
            <a:avLst/>
          </a:prstGeom>
          <a:noFill/>
          <a:ln w="0">
            <a:noFill/>
          </a:ln>
        </p:spPr>
        <p:txBody>
          <a:bodyPr lIns="90000" rIns="90000" tIns="46800" bIns="46800"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и с каким другим уголком на Байкале не связано столько удивительных легенд и преданий, как с Ольхонским районом. </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Ольхон в целом – это не только живописнейшие, завораживающие своей красотой пейзажи, но и средоточие загадок и тайн, обитель духов и шаманов.</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Шаманизм – исконное верование бурят. В основе своей он составляет поклонение духам природы, местности.</a:t>
            </a:r>
            <a:endParaRPr b="0" lang="en-US" sz="2600" spc="-1" strike="noStrike">
              <a:solidFill>
                <a:srgbClr val="ffffff"/>
              </a:solidFill>
              <a:latin typeface="Century Gothic"/>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Таинственные пещеры, остатки древних городищ и могильников, скалы, перевалы, вековые лиственницы и могучие кедры – все это становилось предметом особого почитания. Сюда приходили для совершения обрядов, мимо таких мест нельзя проезжать без подарка, который нужно оставить хозяину святых мест – эжину. </a:t>
            </a:r>
            <a:endParaRPr b="0" lang="en-US" sz="2600" spc="-1" strike="noStrike">
              <a:solidFill>
                <a:srgbClr val="ffffff"/>
              </a:solidFill>
              <a:latin typeface="Century Gothic"/>
            </a:endParaRPr>
          </a:p>
          <a:p>
            <a:pPr indent="44280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Заголовок 1" descr=""/>
          <p:cNvPicPr/>
          <p:nvPr/>
        </p:nvPicPr>
        <p:blipFill>
          <a:blip r:embed="rId1"/>
          <a:stretch/>
        </p:blipFill>
        <p:spPr>
          <a:xfrm>
            <a:off x="450720" y="49320"/>
            <a:ext cx="8242560" cy="957240"/>
          </a:xfrm>
          <a:prstGeom prst="rect">
            <a:avLst/>
          </a:prstGeom>
          <a:ln w="0">
            <a:noFill/>
          </a:ln>
        </p:spPr>
      </p:pic>
      <p:sp>
        <p:nvSpPr>
          <p:cNvPr id="372" name=""/>
          <p:cNvSpPr txBox="1"/>
          <p:nvPr/>
        </p:nvSpPr>
        <p:spPr>
          <a:xfrm>
            <a:off x="457200" y="1285560"/>
            <a:ext cx="8229600" cy="5357880"/>
          </a:xfrm>
          <a:prstGeom prst="rect">
            <a:avLst/>
          </a:prstGeom>
          <a:noFill/>
          <a:ln w="0">
            <a:noFill/>
          </a:ln>
        </p:spPr>
        <p:txBody>
          <a:bodyPr lIns="90000" rIns="90000" tIns="46800" bIns="46800" anchor="t">
            <a:norm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В Туве шаманство распространено сильнее любой религии. В этом отношении она очень близка и к Бурятии, и к Монголии, где много сильных учителей как по шаманству, так и по горловому пению. Бубен, горловое пение и игра на игиле — средства, которыми пользуются шаманы. Чтобы научиться горловому пению, нужно освоить определенные дыхательные техники, уметь погружать организм в такое состояние, когда внутри все буквально вибрирует и звук, способный остановить даже время и продлить человеку жизнь, идет от всего тела.</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Заголовок 1" descr=""/>
          <p:cNvPicPr/>
          <p:nvPr/>
        </p:nvPicPr>
        <p:blipFill>
          <a:blip r:embed="rId1"/>
          <a:stretch/>
        </p:blipFill>
        <p:spPr>
          <a:xfrm>
            <a:off x="450720" y="79200"/>
            <a:ext cx="8242560" cy="1000440"/>
          </a:xfrm>
          <a:prstGeom prst="rect">
            <a:avLst/>
          </a:prstGeom>
          <a:ln w="0">
            <a:noFill/>
          </a:ln>
        </p:spPr>
      </p:pic>
      <p:sp>
        <p:nvSpPr>
          <p:cNvPr id="374" name=""/>
          <p:cNvSpPr txBox="1"/>
          <p:nvPr/>
        </p:nvSpPr>
        <p:spPr>
          <a:xfrm>
            <a:off x="456840" y="1071720"/>
            <a:ext cx="8472600" cy="3643200"/>
          </a:xfrm>
          <a:prstGeom prst="rect">
            <a:avLst/>
          </a:prstGeom>
          <a:noFill/>
          <a:ln w="0">
            <a:noFill/>
          </a:ln>
        </p:spPr>
        <p:txBody>
          <a:bodyPr lIns="90000" rIns="90000" tIns="46800" bIns="46800" anchor="t">
            <a:normAutofit/>
          </a:bodyPr>
          <a:p>
            <a:pP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Чукотский шаманизм имеет один интересный аспект. Существует целый класс шаманов, изменивших пол. Их называют мягкими мужчинами или мужчинами, похожими на женщин. Как утверждают, по повелению келет (духов) они поменяли свой мужской пол на женский. Они носят женскую одежду, ведут себя как женщины и порой даже выходят замуж за мужчин. Однако обычно приказу келет подчиняются только отчасти: шаман носит женскую одежду, но продолжает жить со своей женой и имеет детей. Иногда шаман, получивший подобный приказ, предпочитает трансвестизму самоубийство.</a:t>
            </a:r>
            <a:endParaRPr b="0" lang="en-US" sz="2300" spc="-1" strike="noStrike">
              <a:solidFill>
                <a:srgbClr val="ffffff"/>
              </a:solidFill>
              <a:latin typeface="Century Gothic"/>
            </a:endParaRPr>
          </a:p>
          <a:p>
            <a:pPr indent="44280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pic>
        <p:nvPicPr>
          <p:cNvPr id="375" name="Рисунок 3" descr="Чукотка.jpg"/>
          <p:cNvPicPr/>
          <p:nvPr/>
        </p:nvPicPr>
        <p:blipFill>
          <a:blip r:embed="rId2"/>
          <a:stretch/>
        </p:blipFill>
        <p:spPr>
          <a:xfrm>
            <a:off x="2428920" y="4572000"/>
            <a:ext cx="4572000" cy="2104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Заголовок 1" descr=""/>
          <p:cNvPicPr/>
          <p:nvPr/>
        </p:nvPicPr>
        <p:blipFill>
          <a:blip r:embed="rId1"/>
          <a:stretch/>
        </p:blipFill>
        <p:spPr>
          <a:xfrm>
            <a:off x="450720" y="-122400"/>
            <a:ext cx="8242560" cy="841680"/>
          </a:xfrm>
          <a:prstGeom prst="rect">
            <a:avLst/>
          </a:prstGeom>
          <a:ln w="0">
            <a:noFill/>
          </a:ln>
        </p:spPr>
      </p:pic>
      <p:sp>
        <p:nvSpPr>
          <p:cNvPr id="377" name=""/>
          <p:cNvSpPr txBox="1"/>
          <p:nvPr/>
        </p:nvSpPr>
        <p:spPr>
          <a:xfrm>
            <a:off x="456840" y="642600"/>
            <a:ext cx="8472600" cy="3143160"/>
          </a:xfrm>
          <a:prstGeom prst="rect">
            <a:avLst/>
          </a:prstGeom>
          <a:noFill/>
          <a:ln w="0">
            <a:noFill/>
          </a:ln>
        </p:spPr>
        <p:txBody>
          <a:bodyPr lIns="90000" rIns="90000" tIns="46800" bIns="46800"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Айыы́ — божества традиционных верований якутов. Согласно мифологии, айыы — жители Верхнего мира.</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 </a:t>
            </a:r>
            <a:r>
              <a:rPr b="0" lang="ru-RU" sz="1800" spc="-1" strike="noStrike">
                <a:solidFill>
                  <a:srgbClr val="ffffff"/>
                </a:solidFill>
                <a:latin typeface="Century Gothic"/>
              </a:rPr>
              <a:t>Айыы не принимают кровавых жертвоприношений, и поэтому им преподносят жертвы растительного происхождения и молочные продукты.</a:t>
            </a:r>
            <a:endParaRPr b="0" lang="en-US" sz="1800" spc="-1" strike="noStrike">
              <a:solidFill>
                <a:srgbClr val="ffffff"/>
              </a:solidFill>
              <a:latin typeface="Century Gothic"/>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entury Gothic"/>
              </a:rPr>
              <a:t>В широком смысле учение Айыы является своего рода уникальным реликтом древних триалектических учений (вероятно индо-китайского происхождения). Триалектика — это философская концепция, согласно которой всякая сущность/явление в мире состоит из трёх неделимых частей (в противоположность диалектике, которая утверждает о существовании двух частей — т. н. борьба и единство противоположностей).</a:t>
            </a:r>
            <a:endParaRPr b="0" lang="en-US" sz="1800" spc="-1" strike="noStrike">
              <a:solidFill>
                <a:srgbClr val="ffffff"/>
              </a:solidFill>
              <a:latin typeface="Century Gothic"/>
            </a:endParaRPr>
          </a:p>
          <a:p>
            <a:pPr indent="442800">
              <a:lnSpc>
                <a:spcPct val="80000"/>
              </a:lnSpc>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pic>
        <p:nvPicPr>
          <p:cNvPr id="378" name="Рисунок 3" descr="Айыы.jpg"/>
          <p:cNvPicPr/>
          <p:nvPr/>
        </p:nvPicPr>
        <p:blipFill>
          <a:blip r:embed="rId2"/>
          <a:stretch/>
        </p:blipFill>
        <p:spPr>
          <a:xfrm>
            <a:off x="1643040" y="3568680"/>
            <a:ext cx="5715000" cy="328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213840"/>
            <a:ext cx="8229600" cy="6643800"/>
          </a:xfrm>
          <a:prstGeom prst="rect">
            <a:avLst/>
          </a:prstGeom>
          <a:noFill/>
          <a:ln w="0">
            <a:noFill/>
          </a:ln>
        </p:spPr>
        <p:txBody>
          <a:bodyPr lIns="90000" rIns="90000" tIns="46800" bIns="46800" anchor="t">
            <a:norm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Не менее причудливым является в учении Айыы представление о душе (кут). Согласно этим представлениям кут состоит из 3-х частей:</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Ийэ-кут (материнская душа) — то что передается от родителей: традиции, культура;</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Буор-кут (земляная душа) — материальная часть, физическое тело;</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Салгын-кут (воздушная душа) — интеллект, разум, коммуникативно-социальная составляющая.</a:t>
            </a:r>
            <a:endParaRPr b="0" lang="en-US" sz="2700" spc="-1" strike="noStrike">
              <a:solidFill>
                <a:srgbClr val="ffffff"/>
              </a:solidFill>
              <a:latin typeface="Century Gothic"/>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ffffff"/>
                </a:solidFill>
                <a:latin typeface="Century Gothic"/>
              </a:rPr>
              <a:t>Утверждается, что по данным социологических опросов в 2002 году веру в айыы исповедовали 0,0004 % жителей Москвы, в 2006 — уже 0,0014 % жителей</a:t>
            </a:r>
            <a:endParaRPr b="0" lang="en-US" sz="2700" spc="-1" strike="noStrike">
              <a:solidFill>
                <a:srgbClr val="ffffff"/>
              </a:solidFill>
              <a:latin typeface="Century Gothic"/>
            </a:endParaRPr>
          </a:p>
          <a:p>
            <a:pPr indent="442800">
              <a:lnSpc>
                <a:spcPct val="90000"/>
              </a:lnSpc>
              <a:spcBef>
                <a:spcPts val="6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Заголовок 1" descr=""/>
          <p:cNvPicPr/>
          <p:nvPr/>
        </p:nvPicPr>
        <p:blipFill>
          <a:blip r:embed="rId1"/>
          <a:stretch/>
        </p:blipFill>
        <p:spPr>
          <a:xfrm>
            <a:off x="420840" y="-60480"/>
            <a:ext cx="8242200" cy="993960"/>
          </a:xfrm>
          <a:prstGeom prst="rect">
            <a:avLst/>
          </a:prstGeom>
          <a:ln w="0">
            <a:noFill/>
          </a:ln>
        </p:spPr>
      </p:pic>
      <p:sp>
        <p:nvSpPr>
          <p:cNvPr id="381" name=""/>
          <p:cNvSpPr txBox="1"/>
          <p:nvPr/>
        </p:nvSpPr>
        <p:spPr>
          <a:xfrm>
            <a:off x="457200" y="1000080"/>
            <a:ext cx="8229600" cy="545472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Шамани́зм (корейское название — мусо́к) до недавнего времени являлся одним из нескольких основных религиозных течений, распространённых на Корейском полуострове. Шаманизм в Корее имеет давние корни. С течением времени на него оказывали влияние другие распространённые религии страны — буддизм и даосизм.</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Корни корейского шаманизма уходят в глубокое прошлое — он развился из языческих верований племён древнего Чосона. Наряду с одухотворением видимой природы и её сил стояло, по-видимому, общераспространенное представление о том, что после смерти человека душа его продолжает жить, требуя для своего существования подношения со стороны живых. </a:t>
            </a:r>
            <a:endParaRPr b="0" lang="en-US" sz="2100" spc="-1" strike="noStrike">
              <a:solidFill>
                <a:srgbClr val="ffffff"/>
              </a:solidFill>
              <a:latin typeface="Century Gothic"/>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ffffff"/>
                </a:solidFill>
                <a:latin typeface="Century Gothic"/>
              </a:rPr>
              <a:t>Во времена японской оккупации, когда преследовались все национальные проявления среди корейцев, занятия шаманством были строго запрещены. Свобода вероисповеданий, провозглашённая в Южной Корее после Второй мировой войны позволила сохранить шаманизм как религию.</a:t>
            </a:r>
            <a:endParaRPr b="0" lang="en-US" sz="2100" spc="-1" strike="noStrike">
              <a:solidFill>
                <a:srgbClr val="ffffff"/>
              </a:solidFill>
              <a:latin typeface="Century Gothic"/>
            </a:endParaRPr>
          </a:p>
          <a:p>
            <a:pPr indent="44280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285840"/>
            <a:ext cx="8229600" cy="616896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ffffff"/>
                </a:solidFill>
                <a:latin typeface="Century Gothic"/>
              </a:rPr>
              <a:t>Шамани́зм</a:t>
            </a:r>
            <a:r>
              <a:rPr b="0" lang="ru-RU" sz="3000" spc="-1" strike="noStrike">
                <a:solidFill>
                  <a:srgbClr val="ffffff"/>
                </a:solidFill>
                <a:latin typeface="Century Gothic"/>
              </a:rPr>
              <a:t> — устоявшееся в науке название комплекса представлений людей о способах осознанного и целенаправленного взаимодействия с трансцендетальным («потусторонним») миром, в первую очередь — с духами, которое осуществляет шаман.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	</a:t>
            </a:r>
            <a:r>
              <a:rPr b="0" lang="ru-RU" sz="3000" spc="-1" strike="noStrike">
                <a:solidFill>
                  <a:srgbClr val="ffffff"/>
                </a:solidFill>
                <a:latin typeface="Century Gothic"/>
              </a:rPr>
              <a:t>Шаманизм был развит у народов Сибири, Дальнего Востока, Юго-Восточной Азии и Африки. В той или иной форме он существовал у большинства народов Земли.</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456840" y="142920"/>
            <a:ext cx="8472600" cy="6929280"/>
          </a:xfrm>
          <a:prstGeom prst="rect">
            <a:avLst/>
          </a:prstGeom>
          <a:noFill/>
          <a:ln w="0">
            <a:noFill/>
          </a:ln>
        </p:spPr>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В Корее существует два разных типа шаманов — пансу (слепые провидцы) и муданъ или мунё (одержимые женщины). Паньсу считается повелителем демонов, способным посредством магических формул и заклинаний прогонять и даже хоронить их. Мудан могут лишь умилостивить злых духов и располагать их к себе.</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Пансу — слепые колдуны, которые начинали свое ремесло с самого юного возраста. Колдовство для них зачастую служит единственным средством к существованию. Насколько выгодно это ремесло, видно из того, что родители слепорожденных детей считались счастливыми, так как заработок этих будущих пансу вполне обеспечивал их старость.</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Слепые, поступающие в корпорации пансу, были обязаны, прежде принятия в число членов, пробыть на испытании 3 года, в течение которых их посвящали во все тайны колдовства. Колдун, кроме того, должен был знать обычаи, привычки и слабые стороны всех классов корейского общества, чтобы уметь обращаться со своими клиентами.</a:t>
            </a:r>
            <a:endParaRPr b="0" lang="en-US" sz="2000" spc="-1" strike="noStrike">
              <a:solidFill>
                <a:srgbClr val="ffffff"/>
              </a:solidFill>
              <a:latin typeface="Century Gothic"/>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entury Gothic"/>
              </a:rPr>
              <a:t>Мудан — более многочисленный тип шаманов. Муданы — обычно женщины, хотя к ним причисляются также и мужчины — паксуму, но функции мудан считаются настолько свойственными одним лишь женщинам, что даже паксуму на время исполнения своих обрядов переодеваются в женское платье.</a:t>
            </a:r>
            <a:endParaRPr b="0" lang="en-US" sz="2000" spc="-1" strike="noStrike">
              <a:solidFill>
                <a:srgbClr val="ffffff"/>
              </a:solidFill>
              <a:latin typeface="Century Gothic"/>
            </a:endParaRPr>
          </a:p>
          <a:p>
            <a:pPr indent="44280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57120" y="357120"/>
            <a:ext cx="8329680" cy="6500880"/>
          </a:xfrm>
          <a:prstGeom prst="rect">
            <a:avLst/>
          </a:prstGeom>
          <a:noFill/>
          <a:ln w="0">
            <a:noFill/>
          </a:ln>
        </p:spPr>
        <p:txBody>
          <a:bodyPr lIns="90000" rIns="90000" tIns="46800" bIns="4680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Сейчас шаманизм практически утерял свои позиции, став фактически декоративным элементом жизни современных корейцев. Ритуальные обряды шаманизма в Корее можно увидеть в основном во время фольклорных фестивалей или народных праздников. Однако даже сейчас при решении сложных проблем или в тяжёлых ситуациях корейцы обращаются к шаманам за помощью. Основное проявление шаманизма в современной Корее — это гадальные дома («чом чип»), где можно предугадать свою судьбу, заранее узнать о работе, женитьбе или результатах важных экзаменов.</a:t>
            </a:r>
            <a:endParaRPr b="0" lang="en-US" sz="2800" spc="-1" strike="noStrike">
              <a:solidFill>
                <a:srgbClr val="ffffff"/>
              </a:solidFill>
              <a:latin typeface="Century Gothic"/>
            </a:endParaRPr>
          </a:p>
          <a:p>
            <a:pPr indent="44280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60" y="213840"/>
            <a:ext cx="5786280" cy="6240600"/>
          </a:xfrm>
          <a:prstGeom prst="rect">
            <a:avLst/>
          </a:prstGeom>
          <a:noFill/>
          <a:ln w="0">
            <a:noFill/>
          </a:ln>
        </p:spPr>
        <p:txBody>
          <a:bodyPr lIns="90000" rIns="90000" tIns="46800" bIns="46800"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Century Gothic"/>
              </a:rPr>
              <a:t>Шаманские верования удерживались, как пережитки, в виде различных поверий и суеверий, иногда совершенно утратившие первоначальный смысл. Значение шаманства и теперь очень велико; так, основа мировоззрения китайцев осталась чисто шаманская (в особенности все то, что касается культа предков).</a:t>
            </a:r>
            <a:endParaRPr b="0" lang="en-US" sz="3000" spc="-1" strike="noStrike">
              <a:solidFill>
                <a:srgbClr val="ffffff"/>
              </a:solidFill>
              <a:latin typeface="Century Gothic"/>
            </a:endParaRPr>
          </a:p>
        </p:txBody>
      </p:sp>
      <p:pic>
        <p:nvPicPr>
          <p:cNvPr id="348" name="Рисунок 4" descr="250px-SB_-_Altay_shaman_with_gong.jpg"/>
          <p:cNvPicPr/>
          <p:nvPr/>
        </p:nvPicPr>
        <p:blipFill>
          <a:blip r:embed="rId1"/>
          <a:stretch/>
        </p:blipFill>
        <p:spPr>
          <a:xfrm>
            <a:off x="5715000" y="0"/>
            <a:ext cx="340524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214200" y="0"/>
            <a:ext cx="6215040" cy="645480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По шаманскому учению, мир наполнен бесчисленными духами, как добрыми, так и злыми. Они находятся всюду: в воде, в лесах, в жилищах; отсюда наши водяные, лешие, домовые. Все имеет свое божество или духа: огонь, дерево, камень, местность и т. д. Все эти духи оказывают существенное влияние на человека и его судьбу. Особенно опасно влияние злых духов, имеющих стремление вредить человеку; все напасти, болезни и самая смерть человека происходят от этих духов. Поэтому человек должен остерегаться разгневать их, а если разгневал, то должен умилостивить. Умилостивить духов можно только жертвами; поэтому жертвоприношение совершается у шаманистов постоянно.</a:t>
            </a:r>
            <a:endParaRPr b="0" lang="en-US" sz="2300" spc="-1" strike="noStrike">
              <a:solidFill>
                <a:srgbClr val="ffffff"/>
              </a:solidFill>
              <a:latin typeface="Century Gothic"/>
            </a:endParaRPr>
          </a:p>
        </p:txBody>
      </p:sp>
      <p:pic>
        <p:nvPicPr>
          <p:cNvPr id="350" name="Рисунок 3" descr="aiportret2.jpg"/>
          <p:cNvPicPr/>
          <p:nvPr/>
        </p:nvPicPr>
        <p:blipFill>
          <a:blip r:embed="rId1"/>
          <a:stretch/>
        </p:blipFill>
        <p:spPr>
          <a:xfrm>
            <a:off x="5648400" y="0"/>
            <a:ext cx="34956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214200" y="357120"/>
            <a:ext cx="8715600" cy="6500880"/>
          </a:xfrm>
          <a:prstGeom prst="rect">
            <a:avLst/>
          </a:prstGeom>
          <a:noFill/>
          <a:ln w="0">
            <a:noFill/>
          </a:ln>
        </p:spPr>
        <p:txBody>
          <a:bodyPr lIns="90000" rIns="90000" tIns="46800" bIns="46800"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300" spc="-1" strike="noStrike">
                <a:solidFill>
                  <a:srgbClr val="ffffff"/>
                </a:solidFill>
                <a:latin typeface="Century Gothic"/>
              </a:rPr>
              <a:t>Так как шаман может причинять людям вред, то и все духовные лица других религий считаются опасными, а потому их надо задобрить. На этом основании монголы и татары всюду освобождали от податей и повинностей христианских священников, буддийских лам, еврейских раввинов, мусульманских мулл, выдавая им тарханные грамоты. Все стихии - вода, огонь - священны, потому что там находятся божества; за осквернение их у монголов определялась смертная казнь. Нельзя было стирать платье - и его носили грязным и засаленным; нельзя было лить что-нибудь нечистое в огонь или касаться его ножом, так как этим отрезали огню голову; но полезно лить в огонь масло, вино, тогда он горит ярко, весело, это ему приятно. Огонь сам очищает вещи; если над ним подержать оскверненный предмет, то последний делается опять чистым. Огонь может уничтожать злые намерения людей, лишать силы их дурной взгляд, который способен причинить несчастие; поэтому в Золотой орде русских князей и других лиц, представлявшихся ханам, проводили между двух костров. </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213840" y="213840"/>
            <a:ext cx="8643960" cy="6643800"/>
          </a:xfrm>
          <a:prstGeom prst="rect">
            <a:avLst/>
          </a:prstGeom>
          <a:noFill/>
          <a:ln w="0">
            <a:noFill/>
          </a:ln>
        </p:spPr>
        <p:txBody>
          <a:bodyPr lIns="90000" rIns="90000" tIns="46800" bIns="46800"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На шаманской почве развились и окрепли различные обряды, исполнявшиеся при всех важных моментах жизни человека; некоторые из этих обрядов удержались и поныне. Сюда относятся обряды при родах, свадебные и похоронные. Если женщина мучается в родах, то это значит, что в нее вселился злой дух, которого необходимо выгнать разными устрашающими мерами. С этою целью шаман старается испугать роженицу, чтобы вместе с тем и дух выскочил из нее, бьет плетью по юрте, а иногда и по роженице. Если последняя все-таки умрет, это покажет только, что шаман не мог справиться с злым духом, что следовало бы пригласить более могущественного шамана. Роженицы и молодухи носят, как предохранительное средство, различные амулеты, в особенности перья совы, которые прицепляют и детям. </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Заголовок 1" descr=""/>
          <p:cNvPicPr/>
          <p:nvPr/>
        </p:nvPicPr>
        <p:blipFill>
          <a:blip r:embed="rId1"/>
          <a:stretch/>
        </p:blipFill>
        <p:spPr>
          <a:xfrm>
            <a:off x="450720" y="-133200"/>
            <a:ext cx="8242560" cy="925200"/>
          </a:xfrm>
          <a:prstGeom prst="rect">
            <a:avLst/>
          </a:prstGeom>
          <a:ln w="0">
            <a:noFill/>
          </a:ln>
        </p:spPr>
      </p:pic>
      <p:sp>
        <p:nvSpPr>
          <p:cNvPr id="354" name=""/>
          <p:cNvSpPr txBox="1"/>
          <p:nvPr/>
        </p:nvSpPr>
        <p:spPr>
          <a:xfrm>
            <a:off x="457200" y="714240"/>
            <a:ext cx="8229600" cy="6143760"/>
          </a:xfrm>
          <a:prstGeom prst="rect">
            <a:avLst/>
          </a:prstGeom>
          <a:noFill/>
          <a:ln w="0">
            <a:noFill/>
          </a:ln>
        </p:spPr>
        <p:txBody>
          <a:bodyPr lIns="90000" rIns="90000" tIns="46800" bIns="46800" anchor="t">
            <a:normAutofit/>
          </a:bodyPr>
          <a:p>
            <a:pPr marL="447840" indent="-3826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	</a:t>
            </a:r>
            <a:r>
              <a:rPr b="0" lang="ru-RU" sz="1700" spc="-1" strike="noStrike">
                <a:solidFill>
                  <a:srgbClr val="ffffff"/>
                </a:solidFill>
                <a:latin typeface="Century Gothic"/>
              </a:rPr>
              <a:t>Шаманизм обладает следующими особенностями, которые могут значительно варьироваться от региона к региону:</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является избранником духов. Это означает, что шаманами становятся не по своей воле, не вследствие обучения, а по воле духа, вселяющегося в шамана. Иногда встречается термин шаманская болезнь;</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изм опирается в первую очередь на индивидуальный опыт, который почти не накапливается в виде книг и канонов. Критерием истинности всегда являются индивидуальные экстатические переживания конкретного шамана;</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как правило, не может полностью контролировать духа, который в него вселяется или с которым он общается, он служит скорее посредником при общении с духами, а иногда следует воле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 может изучать духа, опираясь на личный опыт, и составлять свои карты мироздания, которые, как правило, сугубо индивидуальны.</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для вызова духа или общения с ним используются ритуалы камлания, когда шаман входит в транс или испытывает трансперсональные состояния. Во многих регионах для камлания используется бубен или варган, определённые танцы и заклинания;</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шаманы воспринимают мир как взаимодействие духов, и в этом мире большое значение играют всевозможные ритуалы — инициации, подношения духам, борьбы с духами и т. п.;</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Century Gothic"/>
              </a:rPr>
              <a:t>входя в транс, шаманы отправляются путешествовать в иные миры: нижний мир (мир духов), верхний мир (мир богов), средний мир (мир земных духов).</a:t>
            </a:r>
            <a:endParaRPr b="0" lang="en-US" sz="1700" spc="-1" strike="noStrike">
              <a:solidFill>
                <a:srgbClr val="ffffff"/>
              </a:solidFill>
              <a:latin typeface="Century Gothic"/>
            </a:endParaRPr>
          </a:p>
          <a:p>
            <a:pPr marL="447840" indent="-382680">
              <a:lnSpc>
                <a:spcPct val="80000"/>
              </a:lnSpc>
              <a:spcBef>
                <a:spcPts val="42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Заголовок 1" descr=""/>
          <p:cNvPicPr/>
          <p:nvPr/>
        </p:nvPicPr>
        <p:blipFill>
          <a:blip r:embed="rId1"/>
          <a:stretch/>
        </p:blipFill>
        <p:spPr>
          <a:xfrm>
            <a:off x="-6480" y="85680"/>
            <a:ext cx="9279000" cy="1133640"/>
          </a:xfrm>
          <a:prstGeom prst="rect">
            <a:avLst/>
          </a:prstGeom>
          <a:ln w="0">
            <a:noFill/>
          </a:ln>
        </p:spPr>
      </p:pic>
      <p:sp>
        <p:nvSpPr>
          <p:cNvPr id="356" name=""/>
          <p:cNvSpPr txBox="1"/>
          <p:nvPr/>
        </p:nvSpPr>
        <p:spPr>
          <a:xfrm>
            <a:off x="356760" y="1071720"/>
            <a:ext cx="8572680" cy="5572080"/>
          </a:xfrm>
          <a:prstGeom prst="rect">
            <a:avLst/>
          </a:prstGeom>
          <a:noFill/>
          <a:ln w="0">
            <a:noFill/>
          </a:ln>
        </p:spPr>
        <p:txBody>
          <a:bodyPr lIns="90000" rIns="90000" tIns="46800" bIns="46800" anchor="t">
            <a:normAutofit/>
          </a:bodyPr>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entury Gothic"/>
              </a:rPr>
              <a:t>По данным археологии, шаманские ритуалы практиковались в Сибири ещё в эпоху неолита и в бронзовом веке. В отличие от большинства религиозных учений, созданных тем или иным основателем, шаманизм сложился естественным, историческим путем. На определённом этапе отражения мира в сознании людей образ мифической Вселенной стал настолько значимым и разработанным, что разобраться в нём могли только личности, имевшие особые способности и прошедшие специальную подготовку. В большинстве обществ появилась потребность в «посреднике» между человеческим и потусторонним мирами.</a:t>
            </a:r>
            <a:endParaRPr b="0" lang="en-US" sz="2600" spc="-1" strike="noStrike">
              <a:solidFill>
                <a:srgbClr val="ffffff"/>
              </a:solidFill>
              <a:latin typeface="Century Gothic"/>
            </a:endParaRPr>
          </a:p>
          <a:p>
            <a:pPr marL="447840" indent="-382680">
              <a:lnSpc>
                <a:spcPct val="9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Заголовок 1" descr=""/>
          <p:cNvPicPr/>
          <p:nvPr/>
        </p:nvPicPr>
        <p:blipFill>
          <a:blip r:embed="rId1"/>
          <a:stretch/>
        </p:blipFill>
        <p:spPr>
          <a:xfrm>
            <a:off x="450720" y="-152280"/>
            <a:ext cx="8242560" cy="1231920"/>
          </a:xfrm>
          <a:prstGeom prst="rect">
            <a:avLst/>
          </a:prstGeom>
          <a:ln w="0">
            <a:noFill/>
          </a:ln>
        </p:spPr>
      </p:pic>
      <p:sp>
        <p:nvSpPr>
          <p:cNvPr id="358" name=""/>
          <p:cNvSpPr txBox="1"/>
          <p:nvPr/>
        </p:nvSpPr>
        <p:spPr>
          <a:xfrm>
            <a:off x="457200" y="713880"/>
            <a:ext cx="8229600" cy="5929560"/>
          </a:xfrm>
          <a:prstGeom prst="rect">
            <a:avLst/>
          </a:prstGeom>
          <a:noFill/>
          <a:ln w="0">
            <a:noFill/>
          </a:ln>
        </p:spPr>
        <p:txBody>
          <a:bodyPr lIns="90000" rIns="90000" tIns="46800" bIns="46800"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Century Gothic"/>
              </a:rPr>
              <a:t>Шаманизм был глобальным явлением, затронувшим большинство народов древней Евразии. Историки обнаруживают следы его присутствия даже в античной культуре. Ряд исследователей во главе с Э. Р. Доддсом объясняют распространение шаманской практики и мифологии у древних греков контактами греческих колоний в Геллеспонте и на Чёрном море с иранскими племенами скифов. К. Мойли первым описал шаманскую природу ряда скифских обычаев и указал на их отражение в греческой традиции, а также обнаружил шаманские элементы в греческой эпической поэзии.</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4T23:34:31Z</dcterms:created>
  <dc:creator>Masha</dc:creator>
  <dc:description/>
  <dc:language>en-US</dc:language>
  <cp:lastModifiedBy>Немец Людмила</cp:lastModifiedBy>
  <dcterms:modified xsi:type="dcterms:W3CDTF">2011-05-31T08:07:26Z</dcterms:modified>
  <cp:revision>7</cp:revision>
  <dc:subject/>
  <dc:title>ШАМАНИЗМ</dc:title>
</cp:coreProperties>
</file>