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988A6-A68B-4860-B146-C4A3AD006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3FECA-2C58-416A-B8DF-5945811A1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4CC12-E814-449D-99AA-374CD8B90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3AA20-CFBF-45ED-A943-059985B5C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31938-CF32-46C3-AC30-8799FAE55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C898D-B72A-4DFE-AB87-B7A1A72B1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934A8-0394-4213-A7B9-E98FB2811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A5DE3-9F36-4EB9-AE17-4B41B8510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1F474-7788-493A-A85F-3E4532380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D5087-DF00-46D2-822B-070CCEA7E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0017A-868F-4C05-9B3F-6D38E7F9F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30C3E-2E81-48C2-ACB9-B2179763F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9707F-3D13-4F85-A649-247E8A841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5CCBF-FEF0-43CE-B1A7-413F19210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E134E-0220-4625-AA96-1F3C615ED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22456-A683-42D3-A03F-AE515D366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8B4C0-726A-4D24-9648-A0A790320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9A9B6-81DA-4581-B814-6E812C2B7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34DB2-E7E4-4363-ABEC-56420C4C0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152CE-D415-4CA8-8170-F6957DC0B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715D4-BE6C-4C1F-9F7A-2B2929600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EE37A-338D-449E-91F7-F7D8E3FDD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ABB25-5B80-4AB0-9BF3-F42BDE869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37731-281A-4B80-9770-5F63CEEE8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9A9D6-6295-4E3B-B1AD-D5C500342EC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A5F49-0C83-4A55-A12B-18F80D7DCE5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uk.wikipedia.org/wiki/&#1051;&#1072;&#1090;&#1080;&#1085;&#1089;&#1100;&#1082;&#1072;_&#1084;&#1086;&#1074;&#1072;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uk.wikipedia.org/wiki/&#1050;&#1091;&#1083;&#1100;&#1090;" TargetMode="External"/><Relationship Id="rId3" Type="http://schemas.openxmlformats.org/officeDocument/2006/relationships/hyperlink" Target="http://uk.wikipedia.org/wiki/&#1041;&#1086;&#1075;&#1086;&#1088;&#1086;&#1076;&#1080;&#1094;&#1103;" TargetMode="External"/><Relationship Id="rId4" Type="http://schemas.openxmlformats.org/officeDocument/2006/relationships/hyperlink" Target="http://uk.wikipedia.org/wiki/&#1041;&#1086;&#1075;&#1086;&#1089;&#1083;&#1091;&#1078;&#1110;&#1085;&#1085;&#1103;" TargetMode="External"/><Relationship Id="rId5" Type="http://schemas.openxmlformats.org/officeDocument/2006/relationships/hyperlink" Target="http://uk.wikipedia.org/wiki/&#1055;&#1088;&#1086;&#1087;&#1086;&#1074;&#1110;&#1076;&#1100;" TargetMode="External"/><Relationship Id="rId6" Type="http://schemas.openxmlformats.org/officeDocument/2006/relationships/hyperlink" Target="http://uk.wikipedia.org/wiki/&#1041;&#1086;&#1075;&#1086;&#1089;&#1083;&#1091;&#1078;&#1110;&#1085;&#1085;&#1103;" TargetMode="External"/><Relationship Id="rId7" Type="http://schemas.openxmlformats.org/officeDocument/2006/relationships/hyperlink" Target="http://uk.wikipedia.org/wiki/&#1055;&#1088;&#1086;&#1087;&#1086;&#1074;&#1110;&#1076;&#1100;" TargetMode="External"/><Relationship Id="rId8" Type="http://schemas.openxmlformats.org/officeDocument/2006/relationships/hyperlink" Target="http://uk.wikipedia.org/wiki/&#1053;&#1086;&#1074;&#1080;&#1081;_&#1047;&#1072;&#1087;&#1086;&#1074;&#1110;&#1090;" TargetMode="External"/><Relationship Id="rId9" Type="http://schemas.openxmlformats.org/officeDocument/2006/relationships/hyperlink" Target="http://uk.wikipedia.org/wiki/&#1041;&#1086;&#1075;" TargetMode="External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uk.wikipedia.org/wiki/1529" TargetMode="External"/><Relationship Id="rId3" Type="http://schemas.openxmlformats.org/officeDocument/2006/relationships/hyperlink" Target="http://uk.wikipedia.org/w/index.php?title=&#1064;&#1087;&#1077;&#1081;&#1088;&#1089;&#1100;&#1082;&#1080;&#1081;_&#1088;&#1077;&#1081;&#1093;&#1089;&#1090;&#1072;&#1075;&amp;action=edit&amp;redlink=1" TargetMode="External"/><Relationship Id="rId4" Type="http://schemas.openxmlformats.org/officeDocument/2006/relationships/hyperlink" Target="http://uk.wikipedia.org/w/index.php?title=&#1064;&#1087;&#1077;&#1081;&#1088;&#1089;&#1100;&#1082;&#1080;&#1081;_&#1088;&#1077;&#1081;&#1093;&#1089;&#1090;&#1072;&#1075;&amp;action=edit&amp;redlink=1" TargetMode="External"/><Relationship Id="rId5" Type="http://schemas.openxmlformats.org/officeDocument/2006/relationships/hyperlink" Target="http://uk.wikipedia.org/wiki/1526" TargetMode="External"/><Relationship Id="rId6" Type="http://schemas.openxmlformats.org/officeDocument/2006/relationships/hyperlink" Target="http://uk.wikipedia.org/wiki/&#1042;&#1086;&#1088;&#1084;&#1089;&#1100;&#1082;&#1080;&#1081;_&#1077;&#1076;&#1080;&#1082;&#1090;" TargetMode="External"/><Relationship Id="rId7" Type="http://schemas.openxmlformats.org/officeDocument/2006/relationships/hyperlink" Target="http://uk.wikipedia.org/wiki/&#1042;&#1086;&#1088;&#1084;&#1089;&#1100;&#1082;&#1080;&#1081;_&#1077;&#1076;&#1080;&#1082;&#1090;" TargetMode="External"/><Relationship Id="rId8" Type="http://schemas.openxmlformats.org/officeDocument/2006/relationships/hyperlink" Target="http://uk.wikipedia.org/wiki/&#1051;&#1102;&#1090;&#1077;&#1088;_&#1052;&#1072;&#1088;&#1090;&#1110;&#1085;" TargetMode="External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uk.wikipedia.org/wiki/&#1052;&#1072;&#1088;&#1090;&#1110;&#1085;_&#1051;&#1102;&#1090;&#1077;&#1088;" TargetMode="External"/><Relationship Id="rId3" Type="http://schemas.openxmlformats.org/officeDocument/2006/relationships/hyperlink" Target="http://uk.wikipedia.org/wiki/&#1030;&#1089;&#1091;&#1089;" TargetMode="External"/><Relationship Id="rId4" Type="http://schemas.openxmlformats.org/officeDocument/2006/relationships/hyperlink" Target="http://uk.wikipedia.org/w/index.php?title=&#1055;&#1086;&#1089;&#1083;&#1072;&#1085;&#1085;&#1103;_&#1076;&#1086;_&#1045;&#1092;&#1077;&#1089;&#1103;&#1085;&amp;action=edit&amp;redlink=1" TargetMode="External"/><Relationship Id="rId5" Type="http://schemas.openxmlformats.org/officeDocument/2006/relationships/hyperlink" Target="http://uk.wikipedia.org/w/index.php?title=&#1055;&#1086;&#1089;&#1083;&#1072;&#1085;&#1085;&#1103;_&#1076;&#1086;_&#1045;&#1092;&#1077;&#1089;&#1103;&#1085;&amp;action=edit&amp;redlink=1" TargetMode="External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uk.wikipedia.org/wiki/&#1055;&#1088;&#1086;&#1090;&#1077;&#1089;&#1090;&#1072;&#1085;&#1090;&#1080;&#1079;&#1084;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24000" y="990360"/>
            <a:ext cx="88200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000000"/>
                </a:solidFill>
                <a:latin typeface="Verdana"/>
              </a:rPr>
              <a:t>ПРОТЕСТАНТИЗМ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50560" y="304920"/>
            <a:ext cx="85690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400" spc="-1" strike="noStrike">
                <a:solidFill>
                  <a:srgbClr val="000000"/>
                </a:solidFill>
                <a:latin typeface="Verdana"/>
              </a:rPr>
              <a:t>Особливості найпоширеніших напрямків протестантизму (продовження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Verdana"/>
              </a:rPr>
              <a:t>Харизмати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Як і традиційний релігійний пацифізм, прирікає людей на пасивне чекання миру, не може задовольнити інтереси і бажання віруючих, які прагнуть до більш активної діяльності на користь миру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 u="sng">
                <a:solidFill>
                  <a:srgbClr val="000000"/>
                </a:solidFill>
                <a:uFillTx/>
                <a:latin typeface="Verdana"/>
              </a:rPr>
              <a:t>Анабаптизм.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Verdana"/>
              </a:rPr>
              <a:t>Сутність полягає в тому, що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людина одержує порятунок і виправдання від Бога не власними ділами, а через віру в жертву, принесену Христом на Голгофському хресті. Але врятовує тільки Бог, бо без божої допомоги не може з'явитися віра в серцях людей.</a:t>
            </a:r>
            <a:r>
              <a:rPr b="0" lang="uk-UA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400" spc="-1" strike="noStrike">
                <a:solidFill>
                  <a:srgbClr val="000000"/>
                </a:solidFill>
                <a:latin typeface="Verdana"/>
              </a:rPr>
              <a:t>Регіони поширення протестантизму у світі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У наш час налічується більш як 344 мли. протестантів, об'єднаних у Всесвітню раду церков, яку було створено 1943 р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Verdana"/>
              </a:rPr>
              <a:t>Найбільшого поширення християнська гілка протестантизму набула в Західній Європі, Зокрема в Великій Британій, Ірландії, Ісландії тощо та в країна-колишніх колоніях зазначеного регіону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Сучасний протестантизм в Україні: динаміка і тенденції розвитку</a:t>
            </a:r>
            <a:r>
              <a:rPr b="1" lang="uk-UA" sz="3200" spc="-1" strike="noStrike">
                <a:solidFill>
                  <a:srgbClr val="000000"/>
                </a:solidFill>
                <a:latin typeface="Verdana"/>
              </a:rPr>
              <a:t>. Регіони поширенн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Сучасний протестантизм в Україні це переважно пізні течії. Вони продемонстрували живучість за умов чужих їм соціально-економічних відносин, відсутності ідейного плюралізму та релігійної свободи. За кількістю прихильників протестантизм сьогодні поступається тільки православ’ю, в західних областях — і греко-католицизму. В останнє десятиліття XX ст. конфесія вступила з певними надіями на перспективу подальшого існування і навіть зростання своїх церков, зміцнення позицій у релігійному житті України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Verdana"/>
              </a:rPr>
              <a:t>Територіальна організація релігійних осередків протестантизму на Україні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Розвинуті ознаки церковної будови мають, здебільшого, ті протестантські спільноти, що існують в обласних центрах (зокрема, у Донецьку, Дніпропетровську, Харкові, Львові, Рівному, Одесі, не кажучи вже про Київ) і налічують близько 2-3 тис. або й більше віруючих. Наприклад, у Львові тільки дві п’ятидесятницькі громади у 1990 р. мали близько 5 тис. членів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Найінтенсивніше відбувається процес оцерковлення протестантизму у західних областях України, де конфесія зберегла чимало резервів для видавничої, освітньої, місіонерської практики. Скажімо, у Рівному, Луцьку, Тернополі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Лютеранські парафії, наприклад, відновили діяльність у Західній Україні (Луцьку, Рівному, Львові, Івано-Франківську), започатковуючи її на східних теренах та в Києві 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постерігається тенденція на утвердження в Україні позицій кальвіністів. У Закарпатській області існує вже понад 100 реформатських громад, членами яких є переважно угорці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800" spc="-1" strike="noStrike">
                <a:solidFill>
                  <a:srgbClr val="000000"/>
                </a:solidFill>
                <a:latin typeface="Verdana"/>
              </a:rPr>
              <a:t>Висновки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Протестантизм</a:t>
            </a:r>
            <a:r>
              <a:rPr b="0" lang="uk-UA" sz="2000" spc="-1" strike="noStrike">
                <a:solidFill>
                  <a:srgbClr val="000000"/>
                </a:solidFill>
                <a:latin typeface="Verdana"/>
              </a:rPr>
              <a:t> – гілка християнства, що відмежувалася в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XV</a:t>
            </a:r>
            <a:r>
              <a:rPr b="0" lang="uk-UA" sz="2000" spc="-1" strike="noStrike">
                <a:solidFill>
                  <a:srgbClr val="000000"/>
                </a:solidFill>
                <a:latin typeface="Verdana"/>
              </a:rPr>
              <a:t>І ст, в процесі історичного розвитку. Вважається найбільш прогресивною течією, центрами поширення є країни Західної Європи і країни-протекторати, колишні колонії країн зазаначеного регіону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Verdana"/>
              </a:rPr>
              <a:t>Що стосується України, то н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езважаючи на понад 400-літню історію в Україні, протестантизм, по суті, тільки тепер, наприкінці XX ст., отримує сприятливі можливості для розвитку. Йдеться про поступову, хоч і надзвичайно ускладнену багатьма факторами, еволюцію самої України у напрямі економічної, політичної та духовної свободи. Сьогодні це допомагає конфесії “переходити” у нові суспільні й духовні реалії Цей внутрішній потенціал дає змогу більшості протестантських течій розвиватися за висхідною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Verdana"/>
              </a:rPr>
              <a:t>Світові релігії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24000" y="1752480"/>
            <a:ext cx="86407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385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85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Віровчення</a:t>
            </a:r>
            <a:r>
              <a:rPr b="0" lang="uk-UA" sz="2000" spc="-1" strike="noStrike">
                <a:solidFill>
                  <a:srgbClr val="000000"/>
                </a:solidFill>
                <a:latin typeface="Verdana"/>
              </a:rPr>
              <a:t> або 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релігія</a:t>
            </a:r>
            <a:r>
              <a:rPr b="0" lang="uk-UA" sz="2000" spc="-1" strike="noStrike">
                <a:solidFill>
                  <a:srgbClr val="000000"/>
                </a:solidFill>
                <a:latin typeface="Verdana"/>
              </a:rPr>
              <a:t> (від </a:t>
            </a:r>
            <a:r>
              <a:rPr b="0" lang="uk-UA" sz="2000" spc="-1" strike="noStrike" u="sng">
                <a:solidFill>
                  <a:srgbClr val="336699"/>
                </a:solidFill>
                <a:uFillTx/>
                <a:latin typeface="Verdana"/>
                <a:hlinkClick r:id="rId2"/>
              </a:rPr>
              <a:t>лат.</a:t>
            </a:r>
            <a:r>
              <a:rPr b="0" lang="uk-UA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religio</a:t>
            </a:r>
            <a:r>
              <a:rPr b="0" lang="uk-UA" sz="2000" spc="-1" strike="noStrike">
                <a:solidFill>
                  <a:srgbClr val="000000"/>
                </a:solidFill>
                <a:latin typeface="Verdana"/>
              </a:rPr>
              <a:t> – зв'язок) - в широкому розумінні віра, світогляд, бачення, сприйняття і відображення сущого людиною або спільнотою людей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4788000" y="2862360"/>
            <a:ext cx="3959280" cy="36097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611280" y="2924280"/>
            <a:ext cx="392436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християнство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ісла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буддизм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Verdana"/>
              </a:rPr>
              <a:t>Відгалудження християнства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9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Verdana"/>
              </a:rPr>
              <a:t>православ'я;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9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Verdana"/>
              </a:rPr>
              <a:t>католицизм;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9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Verdana"/>
              </a:rPr>
              <a:t>протестантизм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250920" y="3860640"/>
            <a:ext cx="863604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400" spc="-1" strike="noStrike">
                <a:solidFill>
                  <a:srgbClr val="000000"/>
                </a:solidFill>
                <a:latin typeface="Verdana"/>
              </a:rPr>
              <a:t>Визначення сутності протестантизму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Verdana"/>
              </a:rPr>
              <a:t>Протестантизм 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— один із найпоширеніших напрямів у християнстві, що відокремився від католицтва в період Реформації у 16 столітті (лютеранство, кальвінізм та ін.) та у результаті подальшого внутрішнього поділу (баптисти, методисти та ін.). </a:t>
            </a:r>
            <a:r>
              <a:rPr b="0" lang="uk-UA" sz="2100" spc="-1" strike="noStrike">
                <a:solidFill>
                  <a:srgbClr val="000000"/>
                </a:solidFill>
                <a:latin typeface="Verdana"/>
              </a:rPr>
              <a:t>Протестантизм виступає за спрощення та здешевлення </a:t>
            </a:r>
            <a:r>
              <a:rPr b="0" lang="uk-UA" sz="2100" spc="-1" strike="noStrike" u="sng">
                <a:solidFill>
                  <a:srgbClr val="336699"/>
                </a:solidFill>
                <a:uFillTx/>
                <a:latin typeface="Verdana"/>
                <a:hlinkClick r:id="rId2"/>
              </a:rPr>
              <a:t>культу</a:t>
            </a:r>
            <a:r>
              <a:rPr b="0" lang="uk-UA" sz="2100" spc="-1" strike="noStrike">
                <a:solidFill>
                  <a:srgbClr val="000000"/>
                </a:solidFill>
                <a:latin typeface="Verdana"/>
              </a:rPr>
              <a:t>, відкидає молитву за померлих, поклоніння </a:t>
            </a:r>
            <a:r>
              <a:rPr b="0" lang="uk-UA" sz="2100" spc="-1" strike="noStrike" u="sng">
                <a:solidFill>
                  <a:srgbClr val="336699"/>
                </a:solidFill>
                <a:uFillTx/>
                <a:latin typeface="Verdana"/>
                <a:hlinkClick r:id="rId3"/>
              </a:rPr>
              <a:t>Богородиці</a:t>
            </a:r>
            <a:r>
              <a:rPr b="0" lang="uk-UA" sz="2100" spc="-1" strike="noStrike">
                <a:solidFill>
                  <a:srgbClr val="000000"/>
                </a:solidFill>
                <a:latin typeface="Verdana"/>
              </a:rPr>
              <a:t> і святим, почитання мощів, ікон та інших реліквій. На перший план </a:t>
            </a:r>
            <a:r>
              <a:rPr b="0" lang="uk-UA" sz="2100" spc="-1" strike="noStrike" u="sng">
                <a:solidFill>
                  <a:srgbClr val="336699"/>
                </a:solidFill>
                <a:uFillTx/>
                <a:latin typeface="Verdana"/>
                <a:hlinkClick r:id="rId4"/>
              </a:rPr>
              <a:t>богослужіння</a:t>
            </a:r>
            <a:r>
              <a:rPr b="0" lang="uk-UA" sz="2100" spc="-1" strike="noStrike">
                <a:solidFill>
                  <a:srgbClr val="000000"/>
                </a:solidFill>
                <a:latin typeface="Verdana"/>
              </a:rPr>
              <a:t> висувається </a:t>
            </a:r>
            <a:r>
              <a:rPr b="0" lang="uk-UA" sz="2100" spc="-1" strike="noStrike" u="sng">
                <a:solidFill>
                  <a:srgbClr val="336699"/>
                </a:solidFill>
                <a:uFillTx/>
                <a:latin typeface="Verdana"/>
                <a:hlinkClick r:id="rId5"/>
              </a:rPr>
              <a:t>проповідь</a:t>
            </a:r>
            <a:r>
              <a:rPr b="0" lang="uk-UA" sz="21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0" lang="uk-UA" sz="2100" spc="-1" strike="noStrike" u="sng">
                <a:solidFill>
                  <a:srgbClr val="336699"/>
                </a:solidFill>
                <a:uFillTx/>
                <a:latin typeface="Verdana"/>
                <a:hlinkClick r:id="rId6"/>
              </a:rPr>
              <a:t>Богослужіння</a:t>
            </a:r>
            <a:r>
              <a:rPr b="0" lang="uk-UA" sz="2100" spc="-1" strike="noStrike">
                <a:solidFill>
                  <a:srgbClr val="000000"/>
                </a:solidFill>
                <a:latin typeface="Verdana"/>
              </a:rPr>
              <a:t> ведеться на народних мовах, складається з </a:t>
            </a:r>
            <a:r>
              <a:rPr b="0" lang="uk-UA" sz="2100" spc="-1" strike="noStrike" u="sng">
                <a:solidFill>
                  <a:srgbClr val="336699"/>
                </a:solidFill>
                <a:uFillTx/>
                <a:latin typeface="Verdana"/>
                <a:hlinkClick r:id="rId7"/>
              </a:rPr>
              <a:t>проповіді</a:t>
            </a:r>
            <a:r>
              <a:rPr b="0" lang="uk-UA" sz="2100" spc="-1" strike="noStrike">
                <a:solidFill>
                  <a:srgbClr val="000000"/>
                </a:solidFill>
                <a:latin typeface="Verdana"/>
              </a:rPr>
              <a:t>, співання молитовних гімнів і читання </a:t>
            </a:r>
            <a:r>
              <a:rPr b="0" lang="uk-UA" sz="2100" spc="-1" strike="noStrike" u="sng">
                <a:solidFill>
                  <a:srgbClr val="336699"/>
                </a:solidFill>
                <a:uFillTx/>
                <a:latin typeface="Verdana"/>
                <a:hlinkClick r:id="rId8"/>
              </a:rPr>
              <a:t>Нового Заповіту</a:t>
            </a:r>
            <a:r>
              <a:rPr b="0" lang="uk-UA" sz="2100" spc="-1" strike="noStrike">
                <a:solidFill>
                  <a:srgbClr val="000000"/>
                </a:solidFill>
                <a:latin typeface="Verdana"/>
              </a:rPr>
              <a:t>. Протестантизм відкидає розподіл віруючих на духовенство і мирян — тобто кожен віруючий може звернутися до </a:t>
            </a:r>
            <a:r>
              <a:rPr b="0" lang="uk-UA" sz="2100" spc="-1" strike="noStrike" u="sng">
                <a:solidFill>
                  <a:srgbClr val="336699"/>
                </a:solidFill>
                <a:uFillTx/>
                <a:latin typeface="Verdana"/>
                <a:hlinkClick r:id="rId9"/>
              </a:rPr>
              <a:t>Бога</a:t>
            </a:r>
            <a:r>
              <a:rPr b="0" lang="uk-UA" sz="2100" spc="-1" strike="noStrike">
                <a:solidFill>
                  <a:srgbClr val="000000"/>
                </a:solidFill>
                <a:latin typeface="Verdana"/>
              </a:rPr>
              <a:t> без посередників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400" spc="-1" strike="noStrike">
                <a:solidFill>
                  <a:srgbClr val="000000"/>
                </a:solidFill>
                <a:latin typeface="Verdana"/>
              </a:rPr>
              <a:t>Походження терміну  “протистанство”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Verdana"/>
              </a:rPr>
              <a:t>Термін </a:t>
            </a:r>
            <a:r>
              <a:rPr b="0" i="1" lang="uk-UA" sz="3000" spc="-1" strike="noStrike">
                <a:solidFill>
                  <a:srgbClr val="000000"/>
                </a:solidFill>
                <a:latin typeface="Verdana"/>
              </a:rPr>
              <a:t>"протестантизм"</a:t>
            </a:r>
            <a:r>
              <a:rPr b="0" lang="uk-UA" sz="3000" spc="-1" strike="noStrike">
                <a:solidFill>
                  <a:srgbClr val="000000"/>
                </a:solidFill>
                <a:latin typeface="Verdana"/>
              </a:rPr>
              <a:t> з'явився у </a:t>
            </a:r>
            <a:r>
              <a:rPr b="0" lang="uk-UA" sz="3000" spc="-1" strike="noStrike" u="sng">
                <a:solidFill>
                  <a:srgbClr val="336699"/>
                </a:solidFill>
                <a:uFillTx/>
                <a:latin typeface="Verdana"/>
                <a:hlinkClick r:id="rId2"/>
              </a:rPr>
              <a:t>1529</a:t>
            </a:r>
            <a:r>
              <a:rPr b="0" lang="uk-UA" sz="3000" spc="-1" strike="noStrike">
                <a:solidFill>
                  <a:srgbClr val="000000"/>
                </a:solidFill>
                <a:latin typeface="Verdana"/>
              </a:rPr>
              <a:t>, коли </a:t>
            </a:r>
            <a:r>
              <a:rPr b="0" lang="uk-UA" sz="3000" spc="-1" strike="noStrike" u="sng">
                <a:solidFill>
                  <a:srgbClr val="336699"/>
                </a:solidFill>
                <a:uFillTx/>
                <a:latin typeface="Verdana"/>
                <a:hlinkClick r:id="rId3"/>
              </a:rPr>
              <a:t>Шпейрський</a:t>
            </a:r>
            <a:r>
              <a:rPr b="0" lang="uk-UA" sz="3000" spc="-1" strike="noStrike" u="sng">
                <a:solidFill>
                  <a:srgbClr val="336699"/>
                </a:solidFill>
                <a:uFillTx/>
                <a:latin typeface="Verdana"/>
                <a:hlinkClick r:id="rId4"/>
              </a:rPr>
              <a:t> рейхстаг</a:t>
            </a:r>
            <a:r>
              <a:rPr b="0" lang="uk-UA" sz="3000" spc="-1" strike="noStrike">
                <a:solidFill>
                  <a:srgbClr val="000000"/>
                </a:solidFill>
                <a:latin typeface="Verdana"/>
              </a:rPr>
              <a:t> скасував своє попереднє рішення від </a:t>
            </a:r>
            <a:r>
              <a:rPr b="0" lang="uk-UA" sz="3000" spc="-1" strike="noStrike" u="sng">
                <a:solidFill>
                  <a:srgbClr val="336699"/>
                </a:solidFill>
                <a:uFillTx/>
                <a:latin typeface="Verdana"/>
                <a:hlinkClick r:id="rId5"/>
              </a:rPr>
              <a:t>1526</a:t>
            </a:r>
            <a:r>
              <a:rPr b="0" lang="uk-UA" sz="3000" spc="-1" strike="noStrike">
                <a:solidFill>
                  <a:srgbClr val="000000"/>
                </a:solidFill>
                <a:latin typeface="Verdana"/>
              </a:rPr>
              <a:t>, яким призупинялася дія </a:t>
            </a:r>
            <a:r>
              <a:rPr b="0" lang="uk-UA" sz="3000" spc="-1" strike="noStrike" u="sng">
                <a:solidFill>
                  <a:srgbClr val="336699"/>
                </a:solidFill>
                <a:uFillTx/>
                <a:latin typeface="Verdana"/>
                <a:hlinkClick r:id="rId6"/>
              </a:rPr>
              <a:t>Вормського</a:t>
            </a:r>
            <a:r>
              <a:rPr b="0" lang="uk-UA" sz="3000" spc="-1" strike="noStrike" u="sng">
                <a:solidFill>
                  <a:srgbClr val="336699"/>
                </a:solidFill>
                <a:uFillTx/>
                <a:latin typeface="Verdana"/>
                <a:hlinkClick r:id="rId7"/>
              </a:rPr>
              <a:t> едикту</a:t>
            </a:r>
            <a:r>
              <a:rPr b="0" lang="uk-UA" sz="3000" spc="-1" strike="noStrike">
                <a:solidFill>
                  <a:srgbClr val="000000"/>
                </a:solidFill>
                <a:latin typeface="Verdana"/>
              </a:rPr>
              <a:t> проти </a:t>
            </a:r>
            <a:r>
              <a:rPr b="0" lang="uk-UA" sz="3000" spc="-1" strike="noStrike" u="sng">
                <a:solidFill>
                  <a:srgbClr val="336699"/>
                </a:solidFill>
                <a:uFillTx/>
                <a:latin typeface="Verdana"/>
                <a:hlinkClick r:id="rId8"/>
              </a:rPr>
              <a:t>Мартіна Лютера</a:t>
            </a:r>
            <a:r>
              <a:rPr b="0" lang="uk-UA" sz="3000" spc="-1" strike="noStrike">
                <a:solidFill>
                  <a:srgbClr val="000000"/>
                </a:solidFill>
                <a:latin typeface="Verdana"/>
              </a:rPr>
              <a:t>. У відповідь декілька німецьких земель та ряд імперських міст виголосили протест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400" spc="-1" strike="noStrike">
                <a:solidFill>
                  <a:srgbClr val="000000"/>
                </a:solidFill>
                <a:latin typeface="Verdana"/>
              </a:rPr>
              <a:t>Основна ідея протестантизму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000000"/>
                </a:solidFill>
                <a:latin typeface="Verdana"/>
              </a:rPr>
              <a:t>Основною ідеєю протестантизму, сформульованою </a:t>
            </a:r>
            <a:r>
              <a:rPr b="0" lang="uk-UA" sz="2100" spc="-1" strike="noStrike" u="sng">
                <a:solidFill>
                  <a:srgbClr val="336699"/>
                </a:solidFill>
                <a:uFillTx/>
                <a:latin typeface="Verdana"/>
                <a:hlinkClick r:id="rId2"/>
              </a:rPr>
              <a:t>Мартіном Лютером</a:t>
            </a:r>
            <a:r>
              <a:rPr b="0" lang="uk-UA" sz="2100" spc="-1" strike="noStrike">
                <a:solidFill>
                  <a:srgbClr val="000000"/>
                </a:solidFill>
                <a:latin typeface="Verdana"/>
              </a:rPr>
              <a:t>, є заперечення того, що спасіння можна досягти добрими вчинками чи будь-якими людськими зусиллями (на момент появи протестантизму суттєвим моментом була також боротьба з продажем індульгенцій, тобто ідеєю того, що від гріхів можна позбавитися за гроші). Натомість, спасіння досягається винятково вірою у викупну жертву </a:t>
            </a:r>
            <a:r>
              <a:rPr b="0" lang="uk-UA" sz="2100" spc="-1" strike="noStrike" u="sng">
                <a:solidFill>
                  <a:srgbClr val="336699"/>
                </a:solidFill>
                <a:uFillTx/>
                <a:latin typeface="Verdana"/>
                <a:hlinkClick r:id="rId3"/>
              </a:rPr>
              <a:t>Ісуса Христа</a:t>
            </a:r>
            <a:r>
              <a:rPr b="0" lang="uk-UA" sz="2100" spc="-1" strike="noStrike">
                <a:solidFill>
                  <a:srgbClr val="000000"/>
                </a:solidFill>
                <a:latin typeface="Verdana"/>
              </a:rPr>
              <a:t>, згідно з ключовим для протестантизму біблійним текстом — </a:t>
            </a:r>
            <a:r>
              <a:rPr b="0" lang="uk-UA" sz="2100" spc="-1" strike="noStrike" u="sng">
                <a:solidFill>
                  <a:srgbClr val="336699"/>
                </a:solidFill>
                <a:uFillTx/>
                <a:latin typeface="Verdana"/>
                <a:hlinkClick r:id="rId4"/>
              </a:rPr>
              <a:t>Послання до </a:t>
            </a:r>
            <a:r>
              <a:rPr b="0" lang="uk-UA" sz="2100" spc="-1" strike="noStrike" u="sng">
                <a:solidFill>
                  <a:srgbClr val="336699"/>
                </a:solidFill>
                <a:uFillTx/>
                <a:latin typeface="Verdana"/>
                <a:hlinkClick r:id="rId5"/>
              </a:rPr>
              <a:t>Ефесян</a:t>
            </a:r>
            <a:r>
              <a:rPr b="0" lang="uk-UA" sz="2100" spc="-1" strike="noStrike">
                <a:solidFill>
                  <a:srgbClr val="000000"/>
                </a:solidFill>
                <a:latin typeface="Verdana"/>
              </a:rPr>
              <a:t> 2:8,9: </a:t>
            </a:r>
            <a:r>
              <a:rPr b="0" i="1" lang="uk-UA" sz="2100" spc="-1" strike="noStrike">
                <a:solidFill>
                  <a:srgbClr val="000000"/>
                </a:solidFill>
                <a:latin typeface="Verdana"/>
              </a:rPr>
              <a:t>Бо спасені ви благодаттю через віру, а це не від вас, то дар Божий, не від діл, щоб ніхто не хвалився</a:t>
            </a:r>
            <a:r>
              <a:rPr b="0" lang="uk-UA" sz="2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Verdana"/>
              </a:rPr>
              <a:t>Ідея Бога в протестантизмі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З погляду протестантської ідеології, Бог існує тому, що він потрібен людині, котра в нього вірить. «У що віриш, те й маєш» — ось формула протестантів. Найбільш значними напрямами у протестан-тизмі, що виникли в XVI ст., були лютеранство і кальвінізм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800" spc="-1" strike="noStrike">
                <a:solidFill>
                  <a:srgbClr val="000000"/>
                </a:solidFill>
                <a:latin typeface="Verdana"/>
              </a:rPr>
              <a:t>Напрямки</a:t>
            </a:r>
            <a:r>
              <a:rPr b="1" i="1" lang="uk-UA" sz="3800" spc="-1" strike="noStrike">
                <a:solidFill>
                  <a:srgbClr val="000000"/>
                </a:solidFill>
                <a:latin typeface="Verdana"/>
              </a:rPr>
              <a:t> протестантизму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Verdana"/>
              </a:rPr>
              <a:t>а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нгліканство</a:t>
            </a:r>
            <a:r>
              <a:rPr b="0" lang="uk-UA" sz="30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uk-UA" sz="3000" spc="-1" strike="noStrike">
                <a:solidFill>
                  <a:srgbClr val="000000"/>
                </a:solidFill>
                <a:latin typeface="Verdana"/>
              </a:rPr>
              <a:t>л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ютеранство</a:t>
            </a:r>
            <a:r>
              <a:rPr b="0" lang="uk-UA" sz="30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Verdana"/>
              </a:rPr>
              <a:t>к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альвінізм</a:t>
            </a:r>
            <a:r>
              <a:rPr b="0" lang="uk-UA" sz="30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Verdana"/>
              </a:rPr>
              <a:t>а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набаптизм</a:t>
            </a:r>
            <a:r>
              <a:rPr b="0" lang="uk-UA" sz="30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Verdana"/>
              </a:rPr>
              <a:t>ц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вінгліанство</a:t>
            </a:r>
            <a:r>
              <a:rPr b="0" lang="uk-UA" sz="30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соцініани, або польські брати</a:t>
            </a:r>
            <a:r>
              <a:rPr b="0" lang="uk-UA" sz="30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харизмат</a:t>
            </a:r>
            <a:r>
              <a:rPr b="0" lang="uk-UA" sz="3000" spc="-1" strike="noStrike">
                <a:solidFill>
                  <a:srgbClr val="000000"/>
                </a:solidFill>
                <a:latin typeface="Verdana"/>
              </a:rPr>
              <a:t>и.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400" spc="-1" strike="noStrike">
                <a:solidFill>
                  <a:srgbClr val="000000"/>
                </a:solidFill>
                <a:latin typeface="Verdana"/>
              </a:rPr>
              <a:t>Особливості найпоширеніших напрямків протестантизму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 u="sng">
                <a:solidFill>
                  <a:srgbClr val="000000"/>
                </a:solidFill>
                <a:uFillTx/>
                <a:latin typeface="Verdana"/>
              </a:rPr>
              <a:t>Англіканство</a:t>
            </a:r>
            <a:r>
              <a:rPr b="0" lang="uk-UA" sz="2000" spc="-1" strike="noStrike">
                <a:solidFill>
                  <a:srgbClr val="000000"/>
                </a:solidFill>
                <a:latin typeface="Verdana"/>
              </a:rPr>
              <a:t> - християнська </a:t>
            </a:r>
            <a:r>
              <a:rPr b="0" lang="uk-UA" sz="2000" spc="-1" strike="noStrike" u="sng">
                <a:solidFill>
                  <a:srgbClr val="336699"/>
                </a:solidFill>
                <a:uFillTx/>
                <a:latin typeface="Verdana"/>
                <a:hlinkClick r:id="rId2"/>
              </a:rPr>
              <a:t>протестантська</a:t>
            </a:r>
            <a:r>
              <a:rPr b="0" lang="uk-UA" sz="2000" spc="-1" strike="noStrike">
                <a:solidFill>
                  <a:srgbClr val="000000"/>
                </a:solidFill>
                <a:latin typeface="Verdana"/>
              </a:rPr>
              <a:t> церква, яку було засновано в 1534 Є державною в Англії. Головою Англіканської церкви був англійський король. Усі католицькі догмати та обряди зберігалися, землі й цінності монастирів конфіскувались і переходили у власність короля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Verdana"/>
              </a:rPr>
              <a:t>Лютеранство.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Одним з центральних догматів протестантизму стало вчення Лютера про спасіння душі за допомогою віри у спокутну жертву Христа. Лютер твердив, що людина може врятувати душу тільки завдяки особистій вірі, яка безпосередньо дарується їй Богом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Verdana"/>
              </a:rPr>
              <a:t>Кальвінізм.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Одним з головних догматів кальвінізму є вчення про «абсолютне приречення»: ще до «створення світу» Бог, начебто, визначив долю людей, одним — рай, іншим — пекло, і ніякі зусилля людей, ніякі «добрі справи» не зможуть змінити того вироку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8T04:34:17Z</dcterms:created>
  <dc:creator>WIN7XP</dc:creator>
  <dc:description/>
  <dc:language>en-US</dc:language>
  <cp:lastModifiedBy>Немец Людмила</cp:lastModifiedBy>
  <dcterms:modified xsi:type="dcterms:W3CDTF">2011-05-31T08:10:28Z</dcterms:modified>
  <cp:revision>3</cp:revision>
  <dc:subject/>
  <dc:title>«Витоки, особливості та територіальна організація протестанської гілки християнства»</dc:title>
</cp:coreProperties>
</file>