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6BFE-E1F5-44B9-99C0-E5A360A42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C897-EFE1-43AA-9DC3-23876073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5C14-1E5B-4705-BC28-5B0F36D4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D043-783E-410D-95FA-B2C03A4A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0736-8DA1-4959-876C-ECA29711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779A-EE57-48EC-ADCE-4C0125AC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B4C0-982B-42ED-ADD7-580AB3B9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8BBFF-6B9F-4092-8EE8-C66E1C5D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B25D-F5A0-4536-AC0C-33B059AF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8CDC-A3FD-44AA-949B-D7E0003F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C054-7401-466B-B638-7D54C73F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9E91-A927-4C43-AEDB-108A7B06F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C5C93-3013-4C94-ABB0-79417C2D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DC2F-981B-4074-91FE-DB96B32A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8EB5-4946-487C-B5D5-A4C77231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FC9C-8266-4760-A248-ACB2B9B3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BCA4-B5BD-4EDD-8047-C9CF1BE7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8E3-EF20-45CD-8A7E-FDC0CCC1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CDA5-3C94-44F3-8A33-4D938345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595D-F69A-4852-A1A0-1A8459DE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A748-195A-4EF9-BDA4-0F50FEA9B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7DD-A14E-474F-825F-FFB752D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90A-6595-4B33-8F34-DCDAB96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8922-EE1A-4B3B-BEF0-81AB3AB2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DCF-AFA2-4C18-9BF6-91A070B9C4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1A53-424E-4087-8258-27496235C4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1;&#1072;&#1090;&#1080;&#1085;&#1089;&#1100;&#1082;&#1072;_&#1084;&#1086;&#1074;&#1072;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0;&#1091;&#1083;&#1100;&#1090;" TargetMode="External"/><Relationship Id="rId3" Type="http://schemas.openxmlformats.org/officeDocument/2006/relationships/hyperlink" Target="http://uk.wikipedia.org/wiki/&#1041;&#1086;&#1075;&#1086;&#1088;&#1086;&#1076;&#1080;&#1094;&#1103;" TargetMode="External"/><Relationship Id="rId4" Type="http://schemas.openxmlformats.org/officeDocument/2006/relationships/hyperlink" Target="http://uk.wikipedia.org/wiki/&#1041;&#1086;&#1075;&#1086;&#1089;&#1083;&#1091;&#1078;&#1110;&#1085;&#1085;&#1103;" TargetMode="External"/><Relationship Id="rId5" Type="http://schemas.openxmlformats.org/officeDocument/2006/relationships/hyperlink" Target="http://uk.wikipedia.org/wiki/&#1055;&#1088;&#1086;&#1087;&#1086;&#1074;&#1110;&#1076;&#1100;" TargetMode="External"/><Relationship Id="rId6" Type="http://schemas.openxmlformats.org/officeDocument/2006/relationships/hyperlink" Target="http://uk.wikipedia.org/wiki/&#1041;&#1086;&#1075;&#1086;&#1089;&#1083;&#1091;&#1078;&#1110;&#1085;&#1085;&#1103;" TargetMode="External"/><Relationship Id="rId7" Type="http://schemas.openxmlformats.org/officeDocument/2006/relationships/hyperlink" Target="http://uk.wikipedia.org/wiki/&#1055;&#1088;&#1086;&#1087;&#1086;&#1074;&#1110;&#1076;&#1100;" TargetMode="External"/><Relationship Id="rId8" Type="http://schemas.openxmlformats.org/officeDocument/2006/relationships/hyperlink" Target="http://uk.wikipedia.org/wiki/&#1053;&#1086;&#1074;&#1080;&#1081;_&#1047;&#1072;&#1087;&#1086;&#1074;&#1110;&#1090;" TargetMode="External"/><Relationship Id="rId9" Type="http://schemas.openxmlformats.org/officeDocument/2006/relationships/hyperlink" Target="http://uk.wikipedia.org/wiki/&#1041;&#1086;&#1075;" TargetMode="External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1529" TargetMode="External"/><Relationship Id="rId3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4" Type="http://schemas.openxmlformats.org/officeDocument/2006/relationships/hyperlink" Target="http://uk.wikipedia.org/w/index.php?title=&#1064;&#1087;&#1077;&#1081;&#1088;&#1089;&#1100;&#1082;&#1080;&#1081;_&#1088;&#1077;&#1081;&#1093;&#1089;&#1090;&#1072;&#1075;&amp;action=edit&amp;redlink=1" TargetMode="External"/><Relationship Id="rId5" Type="http://schemas.openxmlformats.org/officeDocument/2006/relationships/hyperlink" Target="http://uk.wikipedia.org/wiki/1526" TargetMode="External"/><Relationship Id="rId6" Type="http://schemas.openxmlformats.org/officeDocument/2006/relationships/hyperlink" Target="http://uk.wikipedia.org/wiki/&#1042;&#1086;&#1088;&#1084;&#1089;&#1100;&#1082;&#1080;&#1081;_&#1077;&#1076;&#1080;&#1082;&#1090;" TargetMode="External"/><Relationship Id="rId7" Type="http://schemas.openxmlformats.org/officeDocument/2006/relationships/hyperlink" Target="http://uk.wikipedia.org/wiki/&#1042;&#1086;&#1088;&#1084;&#1089;&#1100;&#1082;&#1080;&#1081;_&#1077;&#1076;&#1080;&#1082;&#1090;" TargetMode="External"/><Relationship Id="rId8" Type="http://schemas.openxmlformats.org/officeDocument/2006/relationships/hyperlink" Target="http://uk.wikipedia.org/wiki/&#1051;&#1102;&#1090;&#1077;&#1088;_&#1052;&#1072;&#1088;&#1090;&#1110;&#1085;" TargetMode="Externa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2;&#1072;&#1088;&#1090;&#1110;&#1085;_&#1051;&#1102;&#1090;&#1077;&#1088;" TargetMode="External"/><Relationship Id="rId3" Type="http://schemas.openxmlformats.org/officeDocument/2006/relationships/hyperlink" Target="http://uk.wikipedia.org/wiki/&#1030;&#1089;&#1091;&#1089;" TargetMode="External"/><Relationship Id="rId4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5" Type="http://schemas.openxmlformats.org/officeDocument/2006/relationships/hyperlink" Target="http://uk.wikipedia.org/w/index.php?title=&#1055;&#1086;&#1089;&#1083;&#1072;&#1085;&#1085;&#1103;_&#1076;&#1086;_&#1045;&#1092;&#1077;&#1089;&#1103;&#1085;&amp;action=edit&amp;redlink=1" TargetMode="Externa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k.wikipedia.org/wiki/&#1055;&#1088;&#1086;&#1090;&#1077;&#1089;&#1090;&#1072;&#1085;&#1090;&#1080;&#1079;&#1084;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990360"/>
            <a:ext cx="88200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304920"/>
            <a:ext cx="856908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 (продовження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Харизмати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Як і традиційний релігійний пацифізм, прирікає людей на пасивне чекання миру, не може задовольнити інтереси і бажання віруючих, які прагнуть до більш активної діяльності на користь мир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абаптизм.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Сутність полягає в тому, щ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юдина одержує порятунок і виправдання від Бога не власними ділами, а через віру в жертву, принесену Христом на Голгофському хресті. Але врятовує тільки Бог, бо без божої допомоги не може з'явитися віра в серцях людей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Регіони поширення протестантизму у світі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У наш час налічується більш як 344 мли. протестантів, об'єднаних у Всесвітню раду церков, яку було створено 1943 р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Verdana"/>
              </a:rPr>
              <a:t>Найбільшого поширення християнська гілка протестантизму набула в Західній Європі, Зокрема в Великій Британій, Ірландії, Ісландії тощо та в країна-колишніх колоніях зазначеного регіон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: динаміка і тенденції розвитку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. Регіони поширенн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учасний протестантизм в Україні це переважно пізні течії. Вони продемонстрували живучість за умов чужих їм соціально-економічних відносин, відсутності ідейного плюралізму та релігійної свободи. За кількістю прихильників протестантизм сьогодні поступається тільки православ’ю, в західних областях — і греко-католицизму. В останнє десятиліття XX ст. конфесія вступила з певними надіями на перспективу подальшого існування і навіть зростання своїх церков, зміцнення позицій у релігійному житті України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Територіальна організація релігійних осередків протестантизму на Україні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озвинуті ознаки церковної будови мають, здебільшого, ті протестантські спільноти, що існують в обласних центрах (зокрема, у Донецьку, Дніпропетровську, Харкові, Львові, Рівному, Одесі, не кажучи вже про Київ) і налічують близько 2-3 тис. або й більше віруючих. Наприклад, у Львові тільки дві п’ятидесятницькі громади у 1990 р. мали близько 5 тис. членів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інтенсивніше відбувається процес оцерковлення протестантизму у західних областях України, де конфесія зберегла чимало резервів для видавничої, освітньої, місіонерської практики. Скажімо, у Рівному, Луцьку, Тернополі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теранські парафії, наприклад, відновили діяльність у Західній Україні (Луцьку, Рівному, Львові, Івано-Франківську), започатковуючи її на східних теренах та в Києві 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стерігається тенденція на утвердження в Україні позицій кальвіністів. У Закарпатській області існує вже понад 100 реформатських громад, членами яких є переважно угорці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Висновк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Протестантизм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гілка християнства, що відмежувалася в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V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І ст, в процесі історичного розвитку. Вважається найбільш прогресивною течією, центрами поширення є країни Західної Європи і країни-протекторати, колишні колонії країн зазаначеного регіон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Що стосується України, то 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зважаючи на понад 400-літню історію в Україні, протестантизм, по суті, тільки тепер, наприкінці XX ст., отримує сприятливі можливості для розвитку. Йдеться про поступову, хоч і надзвичайно ускладнену багатьма факторами, еволюцію самої України у напрямі економічної, політичної та духовної свободи. Сьогодні це допомагає конфесії “переходити” у нові суспільні й духовні реалії Цей внутрішній потенціал дає змогу більшості протестантських течій розвиватися за висхідно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Світові релігії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640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5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Віровченн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або </a:t>
            </a:r>
            <a:r>
              <a:rPr b="1" lang="uk-UA" sz="2000" spc="-1" strike="noStrike">
                <a:solidFill>
                  <a:srgbClr val="000000"/>
                </a:solidFill>
                <a:latin typeface="Verdana"/>
              </a:rPr>
              <a:t>релігія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(від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лат.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religio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– зв'язок) - в широкому розумінні віра, світогляд, бачення, сприйняття і відображення сущого людиною або спільнотою люд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8000" y="2862360"/>
            <a:ext cx="3959280" cy="3609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11280" y="2924280"/>
            <a:ext cx="3924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истиянст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ісл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дизм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Відгалудження християн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авослав'я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католицизм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протестантизм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86360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Verdana"/>
              </a:rPr>
              <a:t>Визначення сутності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Verdana"/>
              </a:rPr>
              <a:t>Протестантизм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— один із найпоширеніших напрямів у християнстві, що відокремився від католицтва в період Реформації у 16 столітті (лютеранство, кальвінізм та ін.) та у результаті подальшого внутрішнього поділу (баптисти, методисти та ін.). 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Протестантизм виступає за спрощення та здешевле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куль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відкидає молитву за померлих, поклоні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Богородиц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і святим, почитання мощів, ікон та інших реліквій. На перший план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исуваєтьс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проповідь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Богослужінн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ведеться на народних мовах, складається з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проповіді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співання молитовних гімнів і читання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Нового Заповіту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. Протестантизм відкидає розподіл віруючих на духовенство і мирян — тобто кожен віруючий може звернутис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9"/>
              </a:rPr>
              <a:t>Бог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без посередників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Походження терміну  “протистанство”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ермін </a:t>
            </a:r>
            <a:r>
              <a:rPr b="0" i="1" lang="uk-UA" sz="3000" spc="-1" strike="noStrike">
                <a:solidFill>
                  <a:srgbClr val="000000"/>
                </a:solidFill>
                <a:latin typeface="Verdana"/>
              </a:rPr>
              <a:t>"протестантизм"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з'явився у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1529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кол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Шпейрський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рейхстаг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скасував своє попереднє рішення від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1526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, яким призупинялася дія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Вормського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 едикту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проти </a:t>
            </a:r>
            <a:r>
              <a:rPr b="0" lang="uk-UA" sz="30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Мартіна Лютера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. У відповідь декілька німецьких земель та ряд імперських міст виголосили протес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новна ідея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Основною ідеєю протестантизму, сформульованою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Мартіном Лютером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є заперечення того, що спасіння можна досягти добрими вчинками чи будь-якими людськими зусиллями (на момент появи протестантизму суттєвим моментом була також боротьба з продажем індульгенцій, тобто ідеєю того, що від гріхів можна позбавитися за гроші). Натомість, спасіння досягається винятково вірою у викупну жертву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Ісуса Христа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, згідно з ключовим для протестантизму біблійним текстом —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Послання до </a:t>
            </a:r>
            <a:r>
              <a:rPr b="0" lang="uk-UA" sz="21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Ефесян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2:8,9: </a:t>
            </a:r>
            <a:r>
              <a:rPr b="0" i="1" lang="uk-UA" sz="2100" spc="-1" strike="noStrike">
                <a:solidFill>
                  <a:srgbClr val="000000"/>
                </a:solidFill>
                <a:latin typeface="Verdana"/>
              </a:rPr>
              <a:t>Бо спасені ви благодаттю через віру, а це не від вас, то дар Божий, не від діл, щоб ніхто не хвалився</a:t>
            </a:r>
            <a:r>
              <a:rPr b="0" lang="uk-UA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Verdana"/>
              </a:rPr>
              <a:t>Ідея Бога в протестантизмі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 погляду протестантської ідеології, Бог існує тому, що він потрібен людині, котра в нього вірить. «У що віриш, те й маєш» — ось формула протестантів. Найбільш значними напрямами у протестан-тизмі, що виникли в XVI ст., були лютеранство і кальвінізм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800" spc="-1" strike="noStrike">
                <a:solidFill>
                  <a:srgbClr val="000000"/>
                </a:solidFill>
                <a:latin typeface="Verdana"/>
              </a:rPr>
              <a:t>Напрямки</a:t>
            </a:r>
            <a:r>
              <a:rPr b="1" i="1" lang="uk-UA" sz="3800" spc="-1" strike="noStrike">
                <a:solidFill>
                  <a:srgbClr val="000000"/>
                </a:solidFill>
                <a:latin typeface="Verdana"/>
              </a:rPr>
              <a:t> протестантизму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глік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ютер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львіні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набаптизм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інгліанство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цініани, або польські брати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харизмат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и.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Verdana"/>
              </a:rPr>
              <a:t>Особливості найпоширеніших напрямків протестантизм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000000"/>
                </a:solidFill>
                <a:uFillTx/>
                <a:latin typeface="Verdana"/>
              </a:rPr>
              <a:t>Англіканство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- християнська </a:t>
            </a:r>
            <a:r>
              <a:rPr b="0" lang="uk-UA" sz="2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протестантська</a:t>
            </a:r>
            <a:r>
              <a:rPr b="0" lang="uk-UA" sz="2000" spc="-1" strike="noStrike">
                <a:solidFill>
                  <a:srgbClr val="000000"/>
                </a:solidFill>
                <a:latin typeface="Verdana"/>
              </a:rPr>
              <a:t> церква, яку було засновано в 1534 Є державною в Англії. Головою Англіканської церкви був англійський король. Усі католицькі догмати та обряди зберігалися, землі й цінності монастирів конфіскувались і переходили у власність короля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Лютеранств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центральних догматів протестантизму стало вчення Лютера про спасіння душі за допомогою віри у спокутну жертву Христа. Лютер твердив, що людина може врятувати душу тільки завдяки особистій вірі, яка безпосередньо дарується їй Богом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Кальвінізм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Одним з головних догматів кальвінізму є вчення про «абсолютне приречення»: ще до «створення світу» Бог, начебто, визначив долю людей, одним — рай, іншим — пекло, і ніякі зусилля людей, ніякі «добрі справи» не зможуть змінити того вирок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04:34:17Z</dcterms:created>
  <dc:creator>WIN7XP</dc:creator>
  <dc:description/>
  <dc:language>en-US</dc:language>
  <cp:lastModifiedBy>Немец Людмила</cp:lastModifiedBy>
  <dcterms:modified xsi:type="dcterms:W3CDTF">2011-05-31T08:10:28Z</dcterms:modified>
  <cp:revision>3</cp:revision>
  <dc:subject/>
  <dc:title>«Витоки, особливості та територіальна організація протестанської гілки християнства»</dc:title>
</cp:coreProperties>
</file>