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EC5-B27A-458B-924E-7821BD0C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3FA-B276-4EA5-953A-B93B003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A2E-177D-491C-A109-42FA56DF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83D-E4BA-4269-892F-3D386049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17B-DEE6-45D0-AA15-F22DBB06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779B-EA31-41BE-81A8-1E37371B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D62B-16E4-4ABE-BF32-26B2FBE0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83C3-8942-4074-9CEF-4DE68F4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8A8C-90DA-4FFC-A066-63B922A0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067-52BF-49BD-BE90-FD6100F8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886-814F-4C55-B61B-B56EB2E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EC7-EFED-491E-BCD0-3269E4D8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96E9-3C35-4A4A-B9B9-76DB816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9AF9-A117-49CA-96A9-57F1A3C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AC9C-10DD-496A-B496-07CE925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B55F-D2BD-476C-846E-FDBD77AF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1FB5-3C63-4456-90F3-65F3FE4D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778-A9C1-4755-96E2-77A833D7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92B-CA21-48EB-9E1F-8B759271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B09-CDF8-45E8-9151-2B1A91BF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887-207D-4E5C-8323-DF4437CE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0EC-A395-4DC9-A95C-A42E4A39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C46-EC9D-44DB-995C-C1C1D2F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9C9-8BE1-4149-AE9B-7AB46A7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48AD-3DBF-4B0B-BE69-AE75B8F423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20B-CFCC-46DD-826C-9E834CE9D6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1;&#1072;&#1090;&#1080;&#1085;&#1089;&#1100;&#1082;&#1072;_&#1084;&#1086;&#1074;&#1072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0;&#1091;&#1083;&#1100;&#1090;" TargetMode="External"/><Relationship Id="rId3" Type="http://schemas.openxmlformats.org/officeDocument/2006/relationships/hyperlink" Target="http://uk.wikipedia.org/wiki/&#1041;&#1086;&#1075;&#1086;&#1088;&#1086;&#1076;&#1080;&#1094;&#1103;" TargetMode="External"/><Relationship Id="rId4" Type="http://schemas.openxmlformats.org/officeDocument/2006/relationships/hyperlink" Target="http://uk.wikipedia.org/wiki/&#1041;&#1086;&#1075;&#1086;&#1089;&#1083;&#1091;&#1078;&#1110;&#1085;&#1085;&#1103;" TargetMode="External"/><Relationship Id="rId5" Type="http://schemas.openxmlformats.org/officeDocument/2006/relationships/hyperlink" Target="http://uk.wikipedia.org/wiki/&#1055;&#1088;&#1086;&#1087;&#1086;&#1074;&#1110;&#1076;&#1100;" TargetMode="External"/><Relationship Id="rId6" Type="http://schemas.openxmlformats.org/officeDocument/2006/relationships/hyperlink" Target="http://uk.wikipedia.org/wiki/&#1041;&#1086;&#1075;&#1086;&#1089;&#1083;&#1091;&#1078;&#1110;&#1085;&#1085;&#1103;" TargetMode="External"/><Relationship Id="rId7" Type="http://schemas.openxmlformats.org/officeDocument/2006/relationships/hyperlink" Target="http://uk.wikipedia.org/wiki/&#1055;&#1088;&#1086;&#1087;&#1086;&#1074;&#1110;&#1076;&#1100;" TargetMode="External"/><Relationship Id="rId8" Type="http://schemas.openxmlformats.org/officeDocument/2006/relationships/hyperlink" Target="http://uk.wikipedia.org/wiki/&#1053;&#1086;&#1074;&#1080;&#1081;_&#1047;&#1072;&#1087;&#1086;&#1074;&#1110;&#1090;" TargetMode="External"/><Relationship Id="rId9" Type="http://schemas.openxmlformats.org/officeDocument/2006/relationships/hyperlink" Target="http://uk.wikipedia.org/wiki/&#1041;&#1086;&#1075;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1529" TargetMode="External"/><Relationship Id="rId3" Type="http://schemas.openxmlformats.org/officeDocument/2006/relationships/hyperlink" Target="http://uk.wikipedia.org/w/index.php?title=&#1064;&#1087;&#1077;&#1081;&#1088;&#1089;&#1100;&#1082;&#1080;&#1081;_&#1088;&#1077;&#1081;&#1093;&#1089;&#1090;&#1072;&#1075;&amp;action=edit&amp;redlink=1" TargetMode="External"/><Relationship Id="rId4" Type="http://schemas.openxmlformats.org/officeDocument/2006/relationships/hyperlink" Target="http://uk.wikipedia.org/w/index.php?title=&#1064;&#1087;&#1077;&#1081;&#1088;&#1089;&#1100;&#1082;&#1080;&#1081;_&#1088;&#1077;&#1081;&#1093;&#1089;&#1090;&#1072;&#1075;&amp;action=edit&amp;redlink=1" TargetMode="External"/><Relationship Id="rId5" Type="http://schemas.openxmlformats.org/officeDocument/2006/relationships/hyperlink" Target="http://uk.wikipedia.org/wiki/1526" TargetMode="External"/><Relationship Id="rId6" Type="http://schemas.openxmlformats.org/officeDocument/2006/relationships/hyperlink" Target="http://uk.wikipedia.org/wiki/&#1042;&#1086;&#1088;&#1084;&#1089;&#1100;&#1082;&#1080;&#1081;_&#1077;&#1076;&#1080;&#1082;&#1090;" TargetMode="External"/><Relationship Id="rId7" Type="http://schemas.openxmlformats.org/officeDocument/2006/relationships/hyperlink" Target="http://uk.wikipedia.org/wiki/&#1042;&#1086;&#1088;&#1084;&#1089;&#1100;&#1082;&#1080;&#1081;_&#1077;&#1076;&#1080;&#1082;&#1090;" TargetMode="External"/><Relationship Id="rId8" Type="http://schemas.openxmlformats.org/officeDocument/2006/relationships/hyperlink" Target="http://uk.wikipedia.org/wiki/&#1051;&#1102;&#1090;&#1077;&#1088;_&#1052;&#1072;&#1088;&#1090;&#1110;&#1085;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2;&#1072;&#1088;&#1090;&#1110;&#1085;_&#1051;&#1102;&#1090;&#1077;&#1088;" TargetMode="External"/><Relationship Id="rId3" Type="http://schemas.openxmlformats.org/officeDocument/2006/relationships/hyperlink" Target="http://uk.wikipedia.org/wiki/&#1030;&#1089;&#1091;&#1089;" TargetMode="External"/><Relationship Id="rId4" Type="http://schemas.openxmlformats.org/officeDocument/2006/relationships/hyperlink" Target="http://uk.wikipedia.org/w/index.php?title=&#1055;&#1086;&#1089;&#1083;&#1072;&#1085;&#1085;&#1103;_&#1076;&#1086;_&#1045;&#1092;&#1077;&#1089;&#1103;&#1085;&amp;action=edit&amp;redlink=1" TargetMode="External"/><Relationship Id="rId5" Type="http://schemas.openxmlformats.org/officeDocument/2006/relationships/hyperlink" Target="http://uk.wikipedia.org/w/index.php?title=&#1055;&#1086;&#1089;&#1083;&#1072;&#1085;&#1085;&#1103;_&#1076;&#1086;_&#1045;&#1092;&#1077;&#1089;&#1103;&#1085;&amp;action=edit&amp;redlink=1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5;&#1088;&#1086;&#1090;&#1077;&#1089;&#1090;&#1072;&#1085;&#1090;&#1080;&#1079;&#1084;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990360"/>
            <a:ext cx="88200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ПРОТЕСТАНТИЗМ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обливості найпоширеніших напрямків протестантизму (продовження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Харизмат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Як і традиційний релігійний пацифізм, прирікає людей на пасивне чекання миру, не може задовольнити інтереси і бажання віруючих, які прагнуть до більш активної діяльності на користь мир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Анабаптизм.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утність полягає в тому, щ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дина одержує порятунок і виправдання від Бога не власними ділами, а через віру в жертву, принесену Христом на Голгофському хресті. Але врятовує тільки Бог, бо без божої допомоги не може з'явитися віра в серцях людей.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Регіони поширення протестантизму у світ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наш час налічується більш як 344 мли. протестантів, об'єднаних у Всесвітню раду церков, яку було створено 1943 р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йбільшого поширення християнська гілка протестантизму набула в Західній Європі, Зокрема в Великій Британій, Ірландії, Ісландії тощо та в країна-колишніх колоніях зазначеного регіон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учасний протестантизм в Україні: динаміка і тенденції розвитку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. Регіони пошир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учасний протестантизм в Україні це переважно пізні течії. Вони продемонстрували живучість за умов чужих їм соціально-економічних відносин, відсутності ідейного плюралізму та релігійної свободи. За кількістю прихильників протестантизм сьогодні поступається тільки православ’ю, в західних областях — і греко-католицизму. В останнє десятиліття XX ст. конфесія вступила з певними надіями на перспективу подальшого існування і навіть зростання своїх церков, зміцнення позицій у релігійному житті Україн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Територіальна організація релігійних осередків протестантизму на Україн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озвинуті ознаки церковної будови мають, здебільшого, ті протестантські спільноти, що існують в обласних центрах (зокрема, у Донецьку, Дніпропетровську, Харкові, Львові, Рівному, Одесі, не кажучи вже про Київ) і налічують близько 2-3 тис. або й більше віруючих. Наприклад, у Львові тільки дві п’ятидесятницькі громади у 1990 р. мали близько 5 тис. члені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інтенсивніше відбувається процес оцерковлення протестантизму у західних областях України, де конфесія зберегла чимало резервів для видавничої, освітньої, місіонерської практики. Скажімо, у Рівному, Луцьку, Тернополі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теранські парафії, наприклад, відновили діяльність у Західній Україні (Луцьку, Рівному, Львові, Івано-Франківську), започатковуючи її на східних теренах та в Києві 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терігається тенденція на утвердження в Україні позицій кальвіністів. У Закарпатській області існує вже понад 100 реформатських громад, членами яких є переважно угорці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Висно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тестантизм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гілка християнства, що відмежувалася 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V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 ст, в процесі історичного розвитку. Вважається найбільш прогресивною течією, центрами поширення є країни Західної Європи і країни-протекторати, колишні колонії країн зазаначеного регі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Що стосується України, то 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зважаючи на понад 400-літню історію в Україні, протестантизм, по суті, тільки тепер, наприкінці XX ст., отримує сприятливі можливості для розвитку. Йдеться про поступову, хоч і надзвичайно ускладнену багатьма факторами, еволюцію самої України у напрямі економічної, політичної та духовної свободи. Сьогодні це допомагає конфесії “переходити” у нові суспільні й духовні реалії Цей внутрішній потенціал дає змогу більшості протестантських течій розвиватися за висхідно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Світові релігі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ров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елігі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(від </a:t>
            </a:r>
            <a:r>
              <a:rPr b="0" lang="uk-UA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лат.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religio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зв'язок) - в широкому розумінні віра, світогляд, бачення, сприйняття і відображення сущого людиною або спільнотою люд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8000" y="2862360"/>
            <a:ext cx="3959280" cy="36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2924280"/>
            <a:ext cx="3924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истия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іс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диз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Відгалудження християн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авослав'я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католицизм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отестантиз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63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Визначення сутності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отестантизм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— один із найпоширеніших напрямів у християнстві, що відокремився від католицтва в період Реформації у 16 столітті (лютеранство, кальвінізм та ін.) та у результаті подальшого внутрішнього поділу (баптисти, методисти та ін.)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тестантизм виступає за спрощення та здешевле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культу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відкидає молитву за померлих, поклоні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Богородиці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і святим, почитання мощів, ікон та інших реліквій. На перший план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богослужінн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висуваєтьс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проповідь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Богослужінн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ведеться на народних мовах, складається з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проповіді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співання молитовних гімнів і чита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Нового Заповіту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Протестантизм відкидає розподіл віруючих на духовенство і мирян — тобто кожен віруючий може звернутися до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Бога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без посередник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Походження терміну  “протистанство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0" i="1" lang="uk-UA" sz="3000" spc="-1" strike="noStrike">
                <a:solidFill>
                  <a:srgbClr val="000000"/>
                </a:solidFill>
                <a:latin typeface="Verdana"/>
              </a:rPr>
              <a:t>"протестантизм"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з'явився у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1529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, коли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Шпейрський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рейхстаг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скасував своє попереднє рішення від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1526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, яким призупинялася дія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Вормського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едикту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проти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Мартіна Лютера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 У відповідь декілька німецьких земель та ряд імперських міст виголосили протес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новна ідея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сновною ідеєю протестантизму, сформульованою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Мартіном Лютером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є заперечення того, що спасіння можна досягти добрими вчинками чи будь-якими людськими зусиллями (на момент появи протестантизму суттєвим моментом була також боротьба з продажем індульгенцій, тобто ідеєю того, що від гріхів можна позбавитися за гроші). Натомість, спасіння досягається винятково вірою у викупну жертву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Ісуса Христа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згідно з ключовим для протестантизму біблійним текстом —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Послання до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Ефесян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2:8,9: </a:t>
            </a:r>
            <a:r>
              <a:rPr b="0" i="1" lang="uk-UA" sz="2100" spc="-1" strike="noStrike">
                <a:solidFill>
                  <a:srgbClr val="000000"/>
                </a:solidFill>
                <a:latin typeface="Verdana"/>
              </a:rPr>
              <a:t>Бо спасені ви благодаттю через віру, а це не від вас, то дар Божий, не від діл, щоб ніхто не хваливс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Ідея Бога в протестантизм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 погляду протестантської ідеології, Бог існує тому, що він потрібен людині, котра в нього вірить. «У що віриш, те й маєш» — ось формула протестантів. Найбільш значними напрямами у протестан-тизмі, що виникли в XVI ст., були лютеранство і кальвінізм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Напрямки</a:t>
            </a:r>
            <a:r>
              <a:rPr b="1" i="1" lang="uk-UA" sz="3800" spc="-1" strike="noStrike">
                <a:solidFill>
                  <a:srgbClr val="000000"/>
                </a:solidFill>
                <a:latin typeface="Verdana"/>
              </a:rPr>
              <a:t> протестантизм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глік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ютер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львінізм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баптизм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інглі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цініани, або польські бра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измат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обливості найпоширеніших напрямків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Англіканство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- християнська </a:t>
            </a:r>
            <a:r>
              <a:rPr b="0" lang="uk-UA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протестантська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церква, яку було засновано в 1534 Є державною в Англії. Головою Англіканської церкви був англійський король. Усі католицькі догмати та обряди зберігалися, землі й цінності монастирів конфіскувались і переходили у власність коро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Лютеранств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им з центральних догматів протестантизму стало вчення Лютера про спасіння душі за допомогою віри у спокутну жертву Христа. Лютер твердив, що людина може врятувати душу тільки завдяки особистій вірі, яка безпосередньо дарується їй Бог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альвінізм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им з головних догматів кальвінізму є вчення про «абсолютне приречення»: ще до «створення світу» Бог, начебто, визначив долю людей, одним — рай, іншим — пекло, і ніякі зусилля людей, ніякі «добрі справи» не зможуть змінити того вирок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34:17Z</dcterms:created>
  <dc:creator>WIN7XP</dc:creator>
  <dc:description/>
  <dc:language>en-US</dc:language>
  <cp:lastModifiedBy>Немец Людмила</cp:lastModifiedBy>
  <dcterms:modified xsi:type="dcterms:W3CDTF">2011-05-31T08:10:28Z</dcterms:modified>
  <cp:revision>3</cp:revision>
  <dc:subject/>
  <dc:title>«Витоки, особливості та територіальна організація протестанської гілки християнства»</dc:title>
</cp:coreProperties>
</file>