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873-7EEC-4E81-BE14-A639CF98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5062-7D3B-4F37-ADF1-C06C811F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C4E-0697-4CDF-AE4F-0F09359E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3B40-E435-4197-8237-EC02E822C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8724-2183-48C6-BA98-87212073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97DDA-F328-4965-A6E1-DA11D7F6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6AA1-26B5-4533-ACEF-C6B6F0D9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D647-2A26-4C97-9B67-20116046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9889-AC5D-4EFD-A39E-63627114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9476-4463-4354-A95D-6C602A14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6F37-663D-4261-937A-501FCAC5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76F-D0F1-47B7-831A-B52C037C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109D0-18F2-402A-9E7C-859794FC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B76A-7C66-49BF-AD87-018AAF05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FB45-CB02-4798-8514-90B5B7F8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1BE8-F72A-40E4-9609-7E064D2D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D870-B41C-4CC3-B5FD-2379493DF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B9151-B4E7-4D6E-BB60-A6A364D5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B4C17-C6F3-439C-947E-A394E7C4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CF2E3-8B12-4D19-AAED-FA881956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E3C82-11FC-4484-BA5B-B0AB3F67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03CF0-5661-4A0A-AD97-C9E95443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996A-3CC6-4BE3-B54F-2F41A7FD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58FBF-D1AB-47FB-8CE1-48FB5034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D4D32-FC3C-40F3-BE29-8335BF06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21676-B141-431C-A409-33DAC627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45D9C-64F5-43DC-9014-78E3EC58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5031F-6FB3-4DB2-A19F-C4D66068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B0E01-77AD-4088-9364-C705BEC9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CD3EA-F5B7-4EB3-A85F-00668950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DA60A-C756-4115-A143-C183637A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CC524-3288-45D6-9B83-3E99DCC7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04EE9-439C-4EDA-9DCC-FFAEC561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527C-83C3-4A58-BD28-DE8011ED0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2A7E9-2E35-4F69-90C0-94D423C4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4CA11-CC7A-4BAA-A1A2-A129FB67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5F928-257D-4601-B4D3-D6D9A2F2C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257AC-275E-4C3A-9EDB-135C658D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CD21F-BAD3-4032-87E1-0B6F9256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C718-B139-4883-8ACD-8B38FA92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371EE-B84A-403B-9BE3-5D1A2E7A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42D70-6468-49A5-BED3-5CF3F5F2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B0087-AC9F-4899-80DD-C4CADB40D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2BE-2733-4F1C-9C29-5C54066F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6170-B410-4943-9874-554487DDF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5BB-58AF-4B93-999A-31A2C61C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7F80-EF96-4B7F-8D31-01C7CF44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D562-5345-4F5D-A04F-B499F387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FF7B-4431-426C-9AF6-EC6A284735A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4C7E-972F-4795-B9DD-2EDF7C9EFE8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7AD5-F279-413E-8E0A-A67DBC7F8B6A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B50C-6C82-409B-9C5D-EEA60CFDFA3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7;&#1096;&#1080;&#1074;&#1072;" TargetMode="External"/><Relationship Id="rId2" Type="http://schemas.openxmlformats.org/officeDocument/2006/relationships/hyperlink" Target="http://ru.wikipedia.org/wiki/&#1042;&#1090;&#1086;&#1088;&#1072;&#1103;_&#1084;&#1080;&#1088;&#1086;&#1074;&#1072;&#1103;_&#1074;&#1086;&#1081;&#1085;&#1072;" TargetMode="External"/><Relationship Id="rId3" Type="http://schemas.openxmlformats.org/officeDocument/2006/relationships/hyperlink" Target="http://ru.wikipedia.org/wiki/&#1042;&#1077;&#1083;&#1080;&#1082;&#1086;&#1077;_&#1082;&#1085;&#1103;&#1078;&#1077;&#1089;&#1090;&#1074;&#1086;_&#1051;&#1080;&#1090;&#1086;&#1074;&#1089;&#1082;&#1086;&#1077;" TargetMode="External"/><Relationship Id="rId4" Type="http://schemas.openxmlformats.org/officeDocument/2006/relationships/hyperlink" Target="http://ru.wikipedia.org/wiki/&#1051;&#1080;&#1090;&#1074;&#1072;" TargetMode="External"/><Relationship Id="rId5" Type="http://schemas.openxmlformats.org/officeDocument/2006/relationships/hyperlink" Target="http://ru.wikipedia.org/wiki/&#1055;&#1086;&#1083;&#1100;&#1096;&#1072;" TargetMode="External"/><Relationship Id="rId6" Type="http://schemas.openxmlformats.org/officeDocument/2006/relationships/hyperlink" Target="http://ru.wikipedia.org/wiki/&#1041;&#1077;&#1083;&#1072;&#1088;&#1091;&#1089;&#1100;" TargetMode="External"/><Relationship Id="rId7" Type="http://schemas.openxmlformats.org/officeDocument/2006/relationships/hyperlink" Target="http://ru.wikipedia.org/wiki/&#1059;&#1082;&#1088;&#1072;&#1080;&#1085;&#1072;" TargetMode="External"/><Relationship Id="rId8" Type="http://schemas.openxmlformats.org/officeDocument/2006/relationships/hyperlink" Target="http://ru.wikipedia.org/wiki/&#1061;&#1072;&#1089;&#1080;&#1076;&#1080;&#1079;&#1084;" TargetMode="External"/><Relationship Id="rId9" Type="http://schemas.openxmlformats.org/officeDocument/2006/relationships/hyperlink" Target="http://ru.wikipedia.org/wiki/&#1056;&#1077;&#1083;&#1080;&#1075;&#1080;&#1086;&#1079;&#1085;&#1099;&#1081;_&#1089;&#1080;&#1086;&#1085;&#1080;&#1079;&#1084;" TargetMode="External"/><Relationship Id="rId10" Type="http://schemas.openxmlformats.org/officeDocument/2006/relationships/hyperlink" Target="http://ru.wikipedia.org/wiki/&#1042;&#1080;&#1083;&#1077;&#1085;&#1089;&#1082;&#1080;&#1081;_&#1043;&#1072;&#1086;&#1085;" TargetMode="External"/><Relationship Id="rId11" Type="http://schemas.openxmlformats.org/officeDocument/2006/relationships/hyperlink" Target="http://ru.wikipedia.org/w/index.php?title=&#1058;&#1072;&#1083;&#1084;&#1091;&#1076;&#1080;&#1089;&#1090;&amp;action=edit&amp;redlink=1" TargetMode="External"/><Relationship Id="rId12" Type="http://schemas.openxmlformats.org/officeDocument/2006/relationships/hyperlink" Target="http://ru.wikipedia.org/wiki/&#1048;&#1077;&#1096;&#1080;&#1074;&#1072;" TargetMode="External"/><Relationship Id="rId13" Type="http://schemas.openxmlformats.org/officeDocument/2006/relationships/hyperlink" Target="http://ru.wikipedia.org/wiki/&#1050;&#1086;&#1085;&#1075;&#1088;&#1077;&#1089;&#1089;_&#1077;&#1074;&#1088;&#1077;&#1081;&#1089;&#1082;&#1080;&#1093;_&#1088;&#1077;&#1083;&#1080;&#1075;&#1080;&#1086;&#1079;&#1085;&#1099;&#1093;_&#1086;&#1073;&#1097;&#1080;&#1085;_&#1080;_&#1086;&#1088;&#1075;&#1072;&#1085;&#1080;&#1079;&#1072;&#1094;&#1080;&#1081;_&#1056;&#1086;&#1089;&#1089;&#1080;&#1080;" TargetMode="External"/><Relationship Id="rId14" Type="http://schemas.openxmlformats.org/officeDocument/2006/relationships/hyperlink" Target="http://ru.wikipedia.org/wiki/&#1064;&#1072;&#1093;,_&#1069;&#1083;&#1080;&#1101;&#1079;&#1077;&#1088;_&#1052;&#1077;&#1085;&#1072;&#1093;&#1077;&#1084;" TargetMode="External"/><Relationship Id="rId15" Type="http://schemas.openxmlformats.org/officeDocument/2006/relationships/hyperlink" Target="http://ru.wikipedia.org/wiki/&#1061;&#1072;&#1092;&#1077;&#1094;_&#1061;&#1072;&#1080;&#1084;" TargetMode="External"/><Relationship Id="rId1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91;&#1076;&#1072;&#1080;&#1079;&#1084;" TargetMode="External"/><Relationship Id="rId2" Type="http://schemas.openxmlformats.org/officeDocument/2006/relationships/hyperlink" Target="http://ru.wikipedia.org/wiki/XIX_&#1074;&#1077;&#1082;" TargetMode="External"/><Relationship Id="rId3" Type="http://schemas.openxmlformats.org/officeDocument/2006/relationships/hyperlink" Target="http://ru.wikipedia.org/wiki/&#1043;&#1077;&#1088;&#1084;&#1072;&#1085;&#1080;&#1103;" TargetMode="External"/><Relationship Id="rId4" Type="http://schemas.openxmlformats.org/officeDocument/2006/relationships/hyperlink" Target="http://ru.wikipedia.org/wiki/XX_&#1074;&#1077;&#1082;" TargetMode="External"/><Relationship Id="rId5" Type="http://schemas.openxmlformats.org/officeDocument/2006/relationships/hyperlink" Target="http://ru.wikipedia.org/wiki/&#1057;&#1086;&#1077;&#1076;&#1080;&#1085;&#1105;&#1085;&#1085;&#1099;&#1077;_&#1064;&#1090;&#1072;&#1090;&#1099;_&#1040;&#1084;&#1077;&#1088;&#1080;&#1082;&#1080;" TargetMode="External"/><Relationship Id="rId6" Type="http://schemas.openxmlformats.org/officeDocument/2006/relationships/hyperlink" Target="http://ru.wikipedia.org/wiki/1850_&#1075;&#1086;&#1076;" TargetMode="External"/><Relationship Id="rId7" Type="http://schemas.openxmlformats.org/officeDocument/2006/relationships/hyperlink" Target="http://ru.wikipedia.org/wiki/&#1048;&#1091;&#1076;&#1072;&#1080;&#1079;&#1084;_&#1088;&#1077;&#1092;&#1086;&#1088;&#1084;&#1080;&#1089;&#1090;&#1089;&#1082;&#1080;&#1081;" TargetMode="External"/><Relationship Id="rId8" Type="http://schemas.openxmlformats.org/officeDocument/2006/relationships/hyperlink" Target="http://ru.wikipedia.org/wiki/&#1054;&#1088;&#1090;&#1086;&#1076;&#1086;&#1082;&#1089;&#1072;&#1083;&#1100;&#1085;&#1099;&#1081;_&#1080;&#1091;&#1076;&#1072;&#1080;&#1079;&#1084;" TargetMode="External"/><Relationship Id="rId9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3;&#1072;&#1083;&#1072;&#1093;&#1072;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7;&#1088;&#1091;&#1089;&#1072;&#1083;&#1080;&#1084;" TargetMode="External"/><Relationship Id="rId2" Type="http://schemas.openxmlformats.org/officeDocument/2006/relationships/hyperlink" Target="http://ru.wikipedia.org/wiki/&#1048;&#1077;&#1088;&#1091;&#1089;&#1072;&#1083;&#1080;&#1084;&#1089;&#1082;&#1080;&#1081;_&#1093;&#1088;&#1072;&#1084;" TargetMode="External"/><Relationship Id="rId3" Type="http://schemas.openxmlformats.org/officeDocument/2006/relationships/hyperlink" Target="http://ru.wikipedia.org/wiki/&#1061;&#1088;&#1072;&#1084;&#1086;&#1074;&#1072;&#1103;_&#1075;&#1086;&#1088;&#1072;" TargetMode="External"/><Relationship Id="rId4" Type="http://schemas.openxmlformats.org/officeDocument/2006/relationships/hyperlink" Target="http://ru.wikipedia.org/wiki/&#1057;&#1074;&#1103;&#1090;&#1099;&#1077;_&#1084;&#1077;&#1089;&#1090;&#1072;" TargetMode="External"/><Relationship Id="rId5" Type="http://schemas.openxmlformats.org/officeDocument/2006/relationships/hyperlink" Target="http://ru.wikipedia.org/wiki/&#1055;&#1077;&#1097;&#1077;&#1088;&#1072;_&#1052;&#1072;&#1093;&#1087;&#1077;&#1083;&#1072;" TargetMode="External"/><Relationship Id="rId6" Type="http://schemas.openxmlformats.org/officeDocument/2006/relationships/hyperlink" Target="http://ru.wikipedia.org/wiki/&#1061;&#1077;&#1074;&#1088;&#1086;&#1085;" TargetMode="External"/><Relationship Id="rId7" Type="http://schemas.openxmlformats.org/officeDocument/2006/relationships/hyperlink" Target="http://ru.wikipedia.org/wiki/&#1042;&#1080;&#1092;&#1083;&#1077;&#1077;&#1084;" TargetMode="External"/><Relationship Id="rId8" Type="http://schemas.openxmlformats.org/officeDocument/2006/relationships/hyperlink" Target="http://ru.wikipedia.org/wiki/&#1056;&#1072;&#1093;&#1080;&#1083;&#1100;" TargetMode="External"/><Relationship Id="rId9" Type="http://schemas.openxmlformats.org/officeDocument/2006/relationships/hyperlink" Target="http://ru.wikipedia.org/wiki/&#1053;&#1072;&#1073;&#1083;&#1091;&#1089;" TargetMode="External"/><Relationship Id="rId10" Type="http://schemas.openxmlformats.org/officeDocument/2006/relationships/hyperlink" Target="http://ru.wikipedia.org/wiki/&#1048;&#1086;&#1089;&#1080;&#1092;_&#1055;&#1088;&#1077;&#1082;&#1088;&#1072;&#1089;&#1085;&#1099;&#1081;" TargetMode="External"/><Relationship Id="rId11" Type="http://schemas.openxmlformats.org/officeDocument/2006/relationships/hyperlink" Target="http://ru.wikipedia.org/wiki/&#1062;&#1092;&#1072;&#1090;" TargetMode="External"/><Relationship Id="rId12" Type="http://schemas.openxmlformats.org/officeDocument/2006/relationships/hyperlink" Target="http://ru.wikipedia.org/wiki/&#1050;&#1072;&#1073;&#1073;&#1072;&#1083;&#1072;" TargetMode="External"/><Relationship Id="rId13" Type="http://schemas.openxmlformats.org/officeDocument/2006/relationships/hyperlink" Target="http://ru.wikipedia.org/wiki/&#1058;&#1074;&#1077;&#1088;&#1080;&#1103;" TargetMode="External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I_&#1074;&#1077;&#1082;_&#1076;&#1086;_&#1085;._&#1101;." TargetMode="External"/><Relationship Id="rId2" Type="http://schemas.openxmlformats.org/officeDocument/2006/relationships/hyperlink" Target="http://ru.wikipedia.org/w/index.php?title=&#1042;&#1090;&#1086;&#1088;&#1072;&#1103;_&#1082;&#1085;&#1080;&#1075;&#1072;_&#1052;&#1072;&#1082;&#1082;&#1072;&#1074;&#1077;&#1081;&#1089;&#1082;&#1072;&#1103;&amp;action=edit&amp;redlink=1" TargetMode="External"/><Relationship Id="rId3" Type="http://schemas.openxmlformats.org/officeDocument/2006/relationships/hyperlink" Target="http://ru.wikisource.org/wiki/&#1042;&#1090;&#1086;&#1088;&#1072;&#1103;_&#1082;&#1085;&#1080;&#1075;&#1072;_&#1052;&#1072;&#1082;&#1082;&#1072;&#1074;&#1077;&#1081;&#1089;&#1082;&#1072;&#1103;#2:21" TargetMode="External"/><Relationship Id="rId4" Type="http://schemas.openxmlformats.org/officeDocument/2006/relationships/hyperlink" Target="http://ru.wikisource.org/wiki/&#1042;&#1090;&#1086;&#1088;&#1072;&#1103;_&#1082;&#1085;&#1080;&#1075;&#1072;_&#1052;&#1072;&#1082;&#1082;&#1072;&#1074;&#1077;&#1081;&#1089;&#1082;&#1072;&#1103;#4:38" TargetMode="External"/><Relationship Id="rId5" Type="http://schemas.openxmlformats.org/officeDocument/2006/relationships/hyperlink" Target="http://ru.wikipedia.org/wiki/&#1048;&#1074;&#1088;&#1080;&#1090;" TargetMode="External"/><Relationship Id="rId6" Type="http://schemas.openxmlformats.org/officeDocument/2006/relationships/hyperlink" Target="http://ru.wikipedia.org/wiki/&#1042;&#1072;&#1074;&#1080;&#1083;&#1086;&#1085;&#1089;&#1082;&#1086;&#1077;_&#1087;&#1083;&#1077;&#1085;&#1077;&#1085;&#1080;&#1077;" TargetMode="External"/><Relationship Id="rId7" Type="http://schemas.openxmlformats.org/officeDocument/2006/relationships/hyperlink" Target="http://ru.wikipedia.org/wiki/&#1048;&#1076;&#1080;&#1096;" TargetMode="External"/><Relationship Id="rId8" Type="http://schemas.openxmlformats.org/officeDocument/2006/relationships/hyperlink" Target="http://ru.wikipedia.org/wiki/&#1048;&#1076;&#1080;&#1096;" TargetMode="External"/><Relationship Id="rId9" Type="http://schemas.openxmlformats.org/officeDocument/2006/relationships/hyperlink" Target="http://ru.wikipedia.org/wiki/&#1048;&#1076;&#1080;&#1096;" TargetMode="External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6;&#1077;&#1083;&#1080;&#1075;&#1080;&#1086;&#1079;&#1085;&#1099;&#1077;_&#1089;&#1080;&#1084;&#1074;&#1086;&#1083;&#1099;" TargetMode="External"/><Relationship Id="rId2" Type="http://schemas.openxmlformats.org/officeDocument/2006/relationships/hyperlink" Target="http://ru.wikipedia.org/wiki/&#1057;&#1080;&#1084;&#1074;&#1086;&#1083;_&#1074;&#1077;&#1088;&#1099;" TargetMode="External"/><Relationship Id="rId3" Type="http://schemas.openxmlformats.org/officeDocument/2006/relationships/hyperlink" Target="http://ru.wikipedia.org/wiki/&#1064;&#1084;&#1072;" TargetMode="External"/><Relationship Id="rId4" Type="http://schemas.openxmlformats.org/officeDocument/2006/relationships/hyperlink" Target="http://ru.wikipedia.org/wiki/&#1064;&#1072;&#1073;&#1073;&#1072;&#1090;" TargetMode="External"/><Relationship Id="rId5" Type="http://schemas.openxmlformats.org/officeDocument/2006/relationships/hyperlink" Target="http://ru.wikipedia.org/wiki/&#1048;&#1074;&#1088;&#1080;&#1090;" TargetMode="External"/><Relationship Id="rId6" Type="http://schemas.openxmlformats.org/officeDocument/2006/relationships/hyperlink" Target="http://ru.wikipedia.org/wiki/&#1058;&#1086;&#1088;&#1072;" TargetMode="External"/><Relationship Id="rId7" Type="http://schemas.openxmlformats.org/officeDocument/2006/relationships/hyperlink" Target="http://ru.wikipedia.org/wiki/&#1048;&#1074;&#1088;&#1080;&#1090;" TargetMode="External"/><Relationship Id="rId8" Type="http://schemas.openxmlformats.org/officeDocument/2006/relationships/hyperlink" Target="http://ru.wikipedia.org/wiki/&#1052;&#1086;&#1083;&#1080;&#1090;&#1074;&#1072;" TargetMode="External"/><Relationship Id="rId9" Type="http://schemas.openxmlformats.org/officeDocument/2006/relationships/hyperlink" Target="http://ru.wikipedia.org/wiki/&#1048;&#1091;&#1076;&#1072;&#1080;&#1079;&#1084;" TargetMode="External"/><Relationship Id="rId10" Type="http://schemas.openxmlformats.org/officeDocument/2006/relationships/hyperlink" Target="http://ru.wikipedia.org/wiki/XIX_&#1074;&#1077;&#1082;" TargetMode="External"/><Relationship Id="rId11" Type="http://schemas.openxmlformats.org/officeDocument/2006/relationships/hyperlink" Target="http://ru.wikipedia.org/wiki/&#1047;&#1074;&#1077;&#1079;&#1076;&#1072;_&#1044;&#1072;&#1074;&#1080;&#1076;&#1072;" TargetMode="External"/><Relationship Id="rId12" Type="http://schemas.openxmlformats.org/officeDocument/2006/relationships/hyperlink" Target="file:///F:/&#208;&#156;&#208;&#190;&#209;&#143;%20&#209;&#131;&#209;&#135;&#208;&#181;&#208;&#177;&#208;&#176;/5%20&#208;&#186;&#209;&#131;&#209;&#128;&#209;&#129;%20(2%20&#209;&#129;&#208;&#181;&#208;&#188;&#208;&#181;&#209;&#129;&#209;&#130;&#209;&#128;)/&#208;&#161;&#208;&#176;&#208;&#186;&#209;&#128;&#208;&#176;&#208;&#187;&#209;&#140;&#208;&#189;&#208;&#176;%20&#208;&#179;&#208;&#181;&#208;&#190;&#208;&#179;&#209;&#128;&#208;&#176;&#209;&#132;.%20&#208;&#154;&#208;&#187;&#209;&#142;&#209;&#135;&#208;&#186;&#208;&#190;/&#208;&#152;&#209;&#131;&#208;&#180;&#208;&#176;&#208;&#184;&#208;&#183;&#208;&#188;/&#208;&#152;&#209;&#131;&#208;&#180;&#208;&#176;&#208;&#184;&#208;&#183;&#208;&#188;%20&#208;&#178;&#208;&#184;&#208;&#186;&#208;&#184;&#208;&#191;&#208;&#181;&#208;&#180;&#208;&#184;&#209;&#143;.htm" TargetMode="External"/><Relationship Id="rId13" Type="http://schemas.openxmlformats.org/officeDocument/2006/relationships/hyperlink" Target="http://ru.wikipedia.org/wiki/&#1052;&#1077;&#1085;&#1086;&#1088;&#1072;" TargetMode="External"/><Relationship Id="rId14" Type="http://schemas.openxmlformats.org/officeDocument/2006/relationships/hyperlink" Target="http://ru.wikipedia.org/wiki/&#1041;&#1080;&#1073;&#1083;&#1080;&#1103;" TargetMode="External"/><Relationship Id="rId15" Type="http://schemas.openxmlformats.org/officeDocument/2006/relationships/hyperlink" Target="http://ru.wikipedia.org/wiki/&#1057;&#1082;&#1080;&#1085;&#1080;&#1103;" TargetMode="External"/><Relationship Id="rId16" Type="http://schemas.openxmlformats.org/officeDocument/2006/relationships/hyperlink" Target="http://ru.wikipedia.org/wiki/&#1048;&#1077;&#1088;&#1091;&#1089;&#1072;&#1083;&#1080;&#1084;&#1089;&#1082;&#1080;&#1081;_&#1093;&#1088;&#1072;&#1084;" TargetMode="External"/><Relationship Id="rId1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ru.wikipedia.org/wiki/&#1052;&#1086;&#1085;&#1086;&#1090;&#1077;&#1080;&#1079;&#1084;" TargetMode="External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8;&#1086;&#1088;&#1072;" TargetMode="External"/><Relationship Id="rId2" Type="http://schemas.openxmlformats.org/officeDocument/2006/relationships/hyperlink" Target="http://ru.wikipedia.org/wiki/613_&#1079;&#1072;&#1087;&#1086;&#1074;&#1077;&#1076;&#1077;&#1081;" TargetMode="External"/><Relationship Id="rId3" Type="http://schemas.openxmlformats.org/officeDocument/2006/relationships/hyperlink" Target="http://ru.wikipedia.org/wiki/&#1052;&#1080;&#1094;&#1074;&#1086;&#1090;" TargetMode="External"/><Relationship Id="rId4" Type="http://schemas.openxmlformats.org/officeDocument/2006/relationships/hyperlink" Target="http://ru.wikipedia.org/wiki/&#1053;&#1086;&#1081;" TargetMode="External"/><Relationship Id="rId5" Type="http://schemas.openxmlformats.org/officeDocument/2006/relationships/hyperlink" Target="http://ru.wikipedia.org/wiki/&#1057;&#1077;&#1084;&#1100;_&#1079;&#1072;&#1082;&#1086;&#1085;&#1086;&#1074;_&#1087;&#1086;&#1090;&#1086;&#1084;&#1082;&#1086;&#1074;_&#1053;&#1086;&#1103;" TargetMode="External"/><Relationship Id="rId6" Type="http://schemas.openxmlformats.org/officeDocument/2006/relationships/hyperlink" Target="http://ru.wikipedia.org/wiki/&#1052;&#1080;&#1089;&#1089;&#1080;&#1086;&#1085;&#1077;&#1088;&#1089;&#1090;&#1074;&#1086;" TargetMode="External"/><Relationship Id="rId7" Type="http://schemas.openxmlformats.org/officeDocument/2006/relationships/hyperlink" Target="http://ru.wikipedia.org/wiki/&#1055;&#1088;&#1086;&#1079;&#1077;&#1083;&#1080;&#1090;&#1080;&#1079;&#1084;" TargetMode="External"/><Relationship Id="rId8" Type="http://schemas.openxmlformats.org/officeDocument/2006/relationships/hyperlink" Target="http://ru.wikipedia.org/wiki/&#1043;&#1080;&#1102;&#1088;" TargetMode="External"/><Relationship Id="rId9" Type="http://schemas.openxmlformats.org/officeDocument/2006/relationships/hyperlink" Target="http://ru.wikipedia.org/wiki/&#1053;&#1072;&#1094;&#1080;&#1086;&#1085;&#1072;&#1083;&#1100;&#1085;&#1086;&#1089;&#1090;&#1100;" TargetMode="External"/><Relationship Id="rId10" Type="http://schemas.openxmlformats.org/officeDocument/2006/relationships/hyperlink" Target="http://ru.wikipedia.org/wiki/&#1056;&#1077;&#1083;&#1080;&#1075;&#1080;&#1103;" TargetMode="External"/><Relationship Id="rId11" Type="http://schemas.openxmlformats.org/officeDocument/2006/relationships/hyperlink" Target="http://ru.wikipedia.org/wiki/&#1045;&#1074;&#1088;&#1077;&#1080;" TargetMode="External"/><Relationship Id="rId1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2;&#1072;&#1096;&#1080;&#1072;&#1093;" TargetMode="External"/><Relationship Id="rId2" Type="http://schemas.openxmlformats.org/officeDocument/2006/relationships/hyperlink" Target="http://ru.wikipedia.org/wiki/&#1052;&#1077;&#1089;&#1089;&#1080;&#1103;" TargetMode="External"/><Relationship Id="rId3" Type="http://schemas.openxmlformats.org/officeDocument/2006/relationships/hyperlink" Target="http://ru.wikipedia.org/wiki/&#1048;&#1074;&#1088;&#1080;&#1090;" TargetMode="External"/><Relationship Id="rId4" Type="http://schemas.openxmlformats.org/officeDocument/2006/relationships/hyperlink" Target="http://ru.wikipedia.org/wiki/&#1050;&#1085;&#1080;&#1075;&#1072;_&#1087;&#1088;&#1086;&#1088;&#1086;&#1082;&#1072;_&#1048;&#1089;&#1072;&#1080;&#1080;" TargetMode="External"/><Relationship Id="rId5" Type="http://schemas.openxmlformats.org/officeDocument/2006/relationships/hyperlink" Target="http://ru.wikisource.org/wiki/&#1050;&#1085;&#1080;&#1075;&#1072;_&#1087;&#1088;&#1086;&#1088;&#1086;&#1082;&#1072;_&#1048;&#1089;&#1072;&#1080;&#1080;#2:4" TargetMode="External"/><Relationship Id="rId6" Type="http://schemas.openxmlformats.org/officeDocument/2006/relationships/hyperlink" Target="http://ru.wikipedia.org/wiki/&#1052;&#1072;&#1096;&#1080;&#1072;&#1093;" TargetMode="External"/><Relationship Id="rId7" Type="http://schemas.openxmlformats.org/officeDocument/2006/relationships/hyperlink" Target="http://ru.wikipedia.org/wiki/&#1044;&#1072;&#1074;&#1080;&#1076;" TargetMode="External"/><Relationship Id="rId8" Type="http://schemas.openxmlformats.org/officeDocument/2006/relationships/hyperlink" Target="http://ru.wikipedia.org/wiki/&#1048;&#1083;&#1080;&#1103;_%28&#1087;&#1088;&#1086;&#1088;&#1086;&#1082;%29" TargetMode="External"/><Relationship Id="rId9" Type="http://schemas.openxmlformats.org/officeDocument/2006/relationships/hyperlink" Target="http://ru.wikipedia.org/wiki/&#1057;&#1090;&#1088;&#1072;&#1096;&#1085;&#1099;&#1081;_&#1089;&#1091;&#1076;" TargetMode="External"/><Relationship Id="rId10" Type="http://schemas.openxmlformats.org/officeDocument/2006/relationships/hyperlink" Target="http://ru.wikipedia.org/wiki/&#1069;&#1089;&#1093;&#1072;&#1090;&#1086;&#1083;&#1086;&#1075;&#1080;&#1103;" TargetMode="External"/><Relationship Id="rId11" Type="http://schemas.openxmlformats.org/officeDocument/2006/relationships/hyperlink" Target="http://ru.wikipedia.org/wiki/&#1048;&#1077;&#1079;&#1077;&#1082;&#1080;&#1080;&#1083;&#1100;_%28&#1087;&#1088;&#1086;&#1088;&#1086;&#1082;%29" TargetMode="External"/><Relationship Id="rId12" Type="http://schemas.openxmlformats.org/officeDocument/2006/relationships/hyperlink" Target="http://ru.wikipedia.org/wiki/&#1044;&#1072;&#1085;&#1080;&#1080;&#1083;" TargetMode="External"/><Relationship Id="rId13" Type="http://schemas.openxmlformats.org/officeDocument/2006/relationships/hyperlink" Target="http://ru.wikipedia.org/wiki/&#1044;&#1072;&#1085;&#1080;&#1080;&#1083;" TargetMode="External"/><Relationship Id="rId14" Type="http://schemas.openxmlformats.org/officeDocument/2006/relationships/hyperlink" Target="http://ru.wikipedia.org/wiki/&#1050;&#1085;&#1080;&#1075;&#1072;_&#1087;&#1088;&#1086;&#1088;&#1086;&#1082;&#1072;_&#1044;&#1072;&#1085;&#1080;&#1080;&#1083;&#1072;" TargetMode="External"/><Relationship Id="rId15" Type="http://schemas.openxmlformats.org/officeDocument/2006/relationships/hyperlink" Target="http://ru.wikisource.org/wiki/&#1050;&#1085;&#1080;&#1075;&#1072;_&#1087;&#1088;&#1086;&#1088;&#1086;&#1082;&#1072;_&#1044;&#1072;&#1085;&#1080;&#1080;&#1083;&#1072;#12:2" TargetMode="External"/><Relationship Id="rId1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ru.wikipedia.org/wiki/&#1048;&#1074;&#1088;&#1080;&#1090;" TargetMode="External"/><Relationship Id="rId3" Type="http://schemas.openxmlformats.org/officeDocument/2006/relationships/hyperlink" Target="http://ru.wikipedia.org/wiki/&#1058;&#1086;&#1088;&#1072;" TargetMode="External"/><Relationship Id="rId4" Type="http://schemas.openxmlformats.org/officeDocument/2006/relationships/hyperlink" Target="http://ru.wikipedia.org/wiki/&#1048;&#1074;&#1088;&#1080;&#1090;" TargetMode="External"/><Relationship Id="rId5" Type="http://schemas.openxmlformats.org/officeDocument/2006/relationships/hyperlink" Target="http://ru.wikipedia.org/wiki/&#1053;&#1077;&#1074;&#1080;&#1080;&#1084;" TargetMode="External"/><Relationship Id="rId6" Type="http://schemas.openxmlformats.org/officeDocument/2006/relationships/hyperlink" Target="http://ru.wikipedia.org/wiki/&#1048;&#1074;&#1088;&#1080;&#1090;" TargetMode="External"/><Relationship Id="rId7" Type="http://schemas.openxmlformats.org/officeDocument/2006/relationships/hyperlink" Target="http://ru.wikipedia.org/wiki/&#1050;&#1090;&#1091;&#1074;&#1080;&#1084;" TargetMode="External"/><Relationship Id="rId8" Type="http://schemas.openxmlformats.org/officeDocument/2006/relationships/hyperlink" Target="http://ru.wikipedia.org/wiki/&#1048;&#1074;&#1088;&#1080;&#1090;" TargetMode="External"/><Relationship Id="rId9" Type="http://schemas.openxmlformats.org/officeDocument/2006/relationships/hyperlink" Target="http://ru.wikipedia.org/wiki/&#1055;&#1103;&#1090;&#1080;&#1082;&#1085;&#1080;&#1078;&#1080;&#1077;_&#1052;&#1086;&#1080;&#1089;&#1077;&#1077;&#1074;&#1086;" TargetMode="External"/><Relationship Id="rId10" Type="http://schemas.openxmlformats.org/officeDocument/2006/relationships/hyperlink" Target="http://ru.wikipedia.org/wiki/&#1052;&#1086;&#1080;&#1089;&#1077;&#1081;" TargetMode="External"/><Relationship Id="rId11" Type="http://schemas.openxmlformats.org/officeDocument/2006/relationships/hyperlink" Target="http://ru.wikipedia.org/wiki/&#1057;&#1080;&#1085;&#1072;&#1081;_%28&#1075;&#1086;&#1088;&#1072;%29" TargetMode="External"/><Relationship Id="rId12" Type="http://schemas.openxmlformats.org/officeDocument/2006/relationships/hyperlink" Target="http://ru.wikipedia.org/wiki/&#1042;&#1077;&#1090;&#1093;&#1080;&#1081;_&#1047;&#1072;&#1074;&#1077;&#1090;" TargetMode="External"/><Relationship Id="rId13" Type="http://schemas.openxmlformats.org/officeDocument/2006/relationships/hyperlink" Target="http://ru.wikipedia.org/wiki/&#1042;&#1090;&#1086;&#1088;&#1086;&#1081;_&#1061;&#1088;&#1072;&#1084;" TargetMode="External"/><Relationship Id="rId14" Type="http://schemas.openxmlformats.org/officeDocument/2006/relationships/hyperlink" Target="http://ru.wikipedia.org/wiki/&#1058;&#1072;&#1053;&#1072;&#1061;" TargetMode="External"/><Relationship Id="rId15" Type="http://schemas.openxmlformats.org/officeDocument/2006/relationships/hyperlink" Target="http://ru.wikipedia.org/wiki/&#1061;&#1088;&#1080;&#1089;&#1090;&#1080;&#1072;&#1085;&#1089;&#1090;&#1074;&#1086;" TargetMode="External"/><Relationship Id="rId16" Type="http://schemas.openxmlformats.org/officeDocument/2006/relationships/hyperlink" Target="http://ru.wikipedia.org/wiki/&#1048;&#1089;&#1083;&#1072;&#1084;" TargetMode="External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88;&#1077;&#1074;&#1085;&#1077;&#1075;&#1088;&#1077;&#1095;&#1077;&#1089;&#1082;&#1080;&#1081;_&#1103;&#1079;&#1099;&#1082;" TargetMode="External"/><Relationship Id="rId2" Type="http://schemas.openxmlformats.org/officeDocument/2006/relationships/hyperlink" Target="http://ru.wikipedia.org/wiki/&#1043;&#1072;&#1083;&#1072;&#1093;&#1072;" TargetMode="External"/><Relationship Id="rId3" Type="http://schemas.openxmlformats.org/officeDocument/2006/relationships/hyperlink" Target="http://ru.wikipedia.org/wiki/&#1058;&#1072;&#1083;&#1084;&#1091;&#1076;" TargetMode="External"/><Relationship Id="rId4" Type="http://schemas.openxmlformats.org/officeDocument/2006/relationships/hyperlink" Target="http://ru.wikipedia.org/wiki/&#1064;&#1091;&#1083;&#1093;&#1072;&#1085;_&#1072;&#1088;&#1091;&#1093;" TargetMode="External"/><Relationship Id="rId5" Type="http://schemas.openxmlformats.org/officeDocument/2006/relationships/hyperlink" Target="http://ru.wikipedia.org/wiki/&#1051;&#1080;&#1090;&#1074;&#1072;&#1082;&#1080;" TargetMode="External"/><Relationship Id="rId6" Type="http://schemas.openxmlformats.org/officeDocument/2006/relationships/hyperlink" Target="http://ru.wikipedia.org/wiki/&#1061;&#1072;&#1089;&#1080;&#1076;&#1080;&#1079;&#1084;" TargetMode="External"/><Relationship Id="rId7" Type="http://schemas.openxmlformats.org/officeDocument/2006/relationships/hyperlink" Target="http://ru.wikipedia.org/wiki/&#1056;&#1077;&#1083;&#1080;&#1075;&#1080;&#1086;&#1079;&#1085;&#1099;&#1081;_&#1089;&#1080;&#1086;&#1085;&#1080;&#1079;&#1084;" TargetMode="External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811080"/>
            <a:ext cx="7864560" cy="3054600"/>
          </a:xfrm>
          <a:prstGeom prst="rect">
            <a:avLst/>
          </a:prstGeom>
          <a:ln w="0">
            <a:noFill/>
          </a:ln>
        </p:spPr>
      </p:pic>
      <p:pic>
        <p:nvPicPr>
          <p:cNvPr id="196" name="Рисунок 5" descr="jud1.jpg"/>
          <p:cNvPicPr/>
          <p:nvPr/>
        </p:nvPicPr>
        <p:blipFill>
          <a:blip r:embed="rId3"/>
          <a:stretch/>
        </p:blipFill>
        <p:spPr>
          <a:xfrm>
            <a:off x="1357200" y="3071880"/>
            <a:ext cx="1905120" cy="2152440"/>
          </a:xfrm>
          <a:prstGeom prst="rect">
            <a:avLst/>
          </a:prstGeom>
          <a:ln w="0">
            <a:noFill/>
          </a:ln>
        </p:spPr>
      </p:pic>
      <p:pic>
        <p:nvPicPr>
          <p:cNvPr id="197" name="Рисунок 6" descr="jud2.gif"/>
          <p:cNvPicPr/>
          <p:nvPr/>
        </p:nvPicPr>
        <p:blipFill>
          <a:blip r:embed="rId4"/>
          <a:stretch/>
        </p:blipFill>
        <p:spPr>
          <a:xfrm>
            <a:off x="6786720" y="281160"/>
            <a:ext cx="1933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214200" y="142920"/>
            <a:ext cx="878688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onstantia"/>
              </a:rPr>
              <a:t>Литвак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едставители наиболее классического направления в ашкеназской ветви современного иудаизма. Называются литваками, так как основные их духовные центры —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иешивы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находились, вплоть до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Второй мировой войны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преимущественно в Литве (в Литву, точне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Великое княжество Литовское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входили земли современной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Литвы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части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Польши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Беларуси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Украины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Литовская Школа» появилась хронологически раньш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хасидизм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религиозного сионизм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Литваки являются последователями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Виленского Гаон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(рабби Элиягу бен Шлоймэ Залмана), великого еврейского ученого-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талмудист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 С его благословления была создана первая литвакская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иешива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современного образца в Воложине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 России литваки входят в состав КЕРООРа (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Конгресс еврейских религиозных общин и организаций России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Выдающиеся раввины, ученые и общественные деятели, принадлежащие к течению литваков: рабби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Шах, Элиэзер Менахе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рабби Исроэль Мейр а-Коэн (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Хафец Хаи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142920" y="14292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Консервативный иудаиз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— современное течение в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иудаизм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 Возникло в середин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XIX век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Германии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первые организованные формы образовались в начал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XX век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СШ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Консервативный иудаизм берет начало в так называемом Позитивно-Историческом иудаизме, философском и религиозном течении возникшем в Германии в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1850 году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как ответ на гораздо более либеральные позиции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Реформистского иудаизма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и попытка найти компромисс между традиционным вероучением и современностью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Тем не менее, несмотря на своё название, Консервативный иудаизм в целом стоит на более либеральных позициях, чем любые течения внутри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Ортодоксального иудаизма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85840" y="357120"/>
            <a:ext cx="8572320" cy="3857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nstantia"/>
              </a:rPr>
              <a:t>Основные принципы Консервативного иудаизма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Признание </a:t>
            </a:r>
            <a:r>
              <a:rPr b="0" lang="uk-UA" sz="3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Галахи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 в качестве руководства к жизни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Не-фундаменталистское преподавание основ еврейской религии;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Constantia"/>
              </a:rPr>
              <a:t>Позитивное отношение к современной культур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Рисунок 5" descr="jud3.jpg"/>
          <p:cNvPicPr/>
          <p:nvPr/>
        </p:nvPicPr>
        <p:blipFill>
          <a:blip r:embed="rId2"/>
          <a:stretch/>
        </p:blipFill>
        <p:spPr>
          <a:xfrm>
            <a:off x="781200" y="4425840"/>
            <a:ext cx="2869920" cy="1914480"/>
          </a:xfrm>
          <a:prstGeom prst="rect">
            <a:avLst/>
          </a:prstGeom>
          <a:ln w="0">
            <a:noFill/>
          </a:ln>
        </p:spPr>
      </p:pic>
      <p:pic>
        <p:nvPicPr>
          <p:cNvPr id="213" name="Рисунок 6" descr="jud4.jpg"/>
          <p:cNvPicPr/>
          <p:nvPr/>
        </p:nvPicPr>
        <p:blipFill>
          <a:blip r:embed="rId3"/>
          <a:stretch/>
        </p:blipFill>
        <p:spPr>
          <a:xfrm>
            <a:off x="5353200" y="3706920"/>
            <a:ext cx="2705040" cy="28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214200" y="214200"/>
            <a:ext cx="878688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onstantia"/>
              </a:rPr>
              <a:t>Святые места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Святой город 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—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Иерусали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в котором находился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Хра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Храмовая гор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на которой возвышался Храм, — в иудаизме считается наиболе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святым место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 Другие святые места иудаизма —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Пещера Махпел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Хеврон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где похоронены библейские праотцы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Вифлее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Бейт-Лехем) — город, на пути к которому похоронена праматерь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Рахиль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Наблус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Шхем), где похоронен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Иосиф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Цфа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в котором развилось мистическое учени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Каббалы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Тверия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где долгое время заседал </a:t>
            </a:r>
            <a:r>
              <a:rPr b="0" lang="ru-RU" sz="2600" spc="-1" strike="noStrike" u="sng">
                <a:solidFill>
                  <a:srgbClr val="ffffff"/>
                </a:solidFill>
                <a:uFillTx/>
                <a:latin typeface="Constantia"/>
              </a:rPr>
              <a:t>Синедрион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Рисунок 3" descr="jud6.jpg"/>
          <p:cNvPicPr/>
          <p:nvPr/>
        </p:nvPicPr>
        <p:blipFill>
          <a:blip r:embed="rId14"/>
          <a:stretch/>
        </p:blipFill>
        <p:spPr>
          <a:xfrm>
            <a:off x="785880" y="4572000"/>
            <a:ext cx="2857320" cy="186696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4" descr="jud7.jpg"/>
          <p:cNvPicPr/>
          <p:nvPr/>
        </p:nvPicPr>
        <p:blipFill>
          <a:blip r:embed="rId15"/>
          <a:stretch/>
        </p:blipFill>
        <p:spPr>
          <a:xfrm>
            <a:off x="5429160" y="4643280"/>
            <a:ext cx="285768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285480" y="285840"/>
            <a:ext cx="8643960" cy="6286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Среди еврейского населения Израиля (5,3 млн) около 25 % являются полностью соблюдающими сторонниками ортодоксального иудаизма (из них около половины — сторонники литовского направления и хасидизма, другая половина — сторонники религиозного сионизма), еще около 35 % соблюдают частично, но также считают себя сторонниками ортодоксального иудаизма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8" name="Рисунок 3" descr="Молящиеся_в_синагоге.jpg"/>
          <p:cNvPicPr/>
          <p:nvPr/>
        </p:nvPicPr>
        <p:blipFill>
          <a:blip r:embed="rId1"/>
          <a:stretch/>
        </p:blipFill>
        <p:spPr>
          <a:xfrm>
            <a:off x="566640" y="3780000"/>
            <a:ext cx="3822840" cy="2455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4" descr="jud12.jpg"/>
          <p:cNvPicPr/>
          <p:nvPr/>
        </p:nvPicPr>
        <p:blipFill>
          <a:blip r:embed="rId2"/>
          <a:stretch/>
        </p:blipFill>
        <p:spPr>
          <a:xfrm>
            <a:off x="5065560" y="3492360"/>
            <a:ext cx="3627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214200" y="142920"/>
            <a:ext cx="871560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Сторонников консервативного и реформистского направлений — менее 1 %. В Государстве </a:t>
            </a:r>
            <a:r>
              <a:rPr b="0" lang="uk-UA" sz="2600" spc="-1" strike="noStrike" u="sng">
                <a:solidFill>
                  <a:srgbClr val="ffffff"/>
                </a:solidFill>
                <a:uFillTx/>
                <a:latin typeface="Constantia"/>
              </a:rPr>
              <a:t>Израиль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религия не является государственной (то есть обязательной для граждан), но она и не отделена от государства. Есть вопросы (женитьба, развод, смерть, </a:t>
            </a:r>
            <a:r>
              <a:rPr b="0" lang="uk-UA" sz="2600" spc="-1" strike="noStrike" u="sng">
                <a:solidFill>
                  <a:srgbClr val="ffffff"/>
                </a:solidFill>
                <a:uFillTx/>
                <a:latin typeface="Constantia"/>
              </a:rPr>
              <a:t>гиюр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 — переход в иудаизм), которые находятся в исключительном ведении религиозных учреждений. Есть также и другие вопросы, которые могут рассматриваться в «</a:t>
            </a:r>
            <a:r>
              <a:rPr b="0" i="1" lang="uk-UA" sz="2600" spc="-1" strike="noStrike" u="sng">
                <a:solidFill>
                  <a:srgbClr val="ffffff"/>
                </a:solidFill>
                <a:uFillTx/>
                <a:latin typeface="Constantia"/>
              </a:rPr>
              <a:t>Бейт дин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» (религиозным судом) по обоюдному согласию сторон. В любом случае возможна апелляция в Верховный суд. Некоторые законы Израиля приняты на основании </a:t>
            </a:r>
            <a:r>
              <a:rPr b="0" lang="uk-UA" sz="2600" spc="-1" strike="noStrike" u="sng">
                <a:solidFill>
                  <a:srgbClr val="ffffff"/>
                </a:solidFill>
                <a:uFillTx/>
                <a:latin typeface="Constantia"/>
              </a:rPr>
              <a:t>Галахи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Рисунок 3" descr="180px-Shabbat_table_setting.jpg"/>
          <p:cNvPicPr/>
          <p:nvPr/>
        </p:nvPicPr>
        <p:blipFill>
          <a:blip r:embed="rId1"/>
          <a:stretch/>
        </p:blipFill>
        <p:spPr>
          <a:xfrm>
            <a:off x="5778360" y="4565520"/>
            <a:ext cx="28720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85840" y="214200"/>
            <a:ext cx="857232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Термин </a:t>
            </a:r>
            <a:r>
              <a:rPr b="1" lang="ru-RU" sz="2400" spc="-1" strike="noStrike" u="sng">
                <a:solidFill>
                  <a:srgbClr val="ffc000"/>
                </a:solidFill>
                <a:uFillTx/>
                <a:latin typeface="Constantia"/>
              </a:rPr>
              <a:t>«иудаизм»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происходит от греческого 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Ἰουδαϊσμός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(в русском произношении «йудаисмо́с»), появляющегося в еврейско-эллинистической литературе на рубеж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I в. до н. э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2Макк.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2:21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;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4:38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 и обозначающего еврейскую религию как антитезу эллинистическому язычеству. В некоторых языках наряду с термином «иудаизм», обозначающим еврейскую религию в узком смысле, существует более общий термин, охватывающий всю еврейскую цивилизацию, включая религию, в целом — русское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еврейство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немецкое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Judentum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английское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Jewry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На иврите термины «иудаизм» и «еврейство» — синонимы. Термин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ив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יַהֲדוּת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‎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яхадут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, возник в иврите посл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Вавилонского пленения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 На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идише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иудаизм традиционно обозначается термином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идиш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ייִדישקײט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и́дишкейт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или 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и́дишкайт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, дословно означающим «еврейскость» (от прилагательного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идиш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ייִדיש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еврейский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), то есть еврейский образ жизни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13840" y="142920"/>
            <a:ext cx="857268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Религиозные символ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существенном смысле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символическое значени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в иудаизме имеют молитва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Шм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и соблюдени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Шаббат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Шабба́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ивр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שַׁבָּת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от корня </a:t>
            </a:r>
            <a:r>
              <a:rPr b="0" i="1" lang="ru-RU" sz="2600" spc="-1" strike="noStrike">
                <a:solidFill>
                  <a:srgbClr val="ffffff"/>
                </a:solidFill>
                <a:latin typeface="Constantia"/>
              </a:rPr>
              <a:t>швт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 — «покоиться, прекращать деятельность»), в иудаизме — седьмой день недели, в который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Тор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предписывает воздерживаться от работ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i="1" lang="ru-RU" sz="2600" spc="-1" strike="noStrike">
                <a:solidFill>
                  <a:srgbClr val="ffffff"/>
                </a:solidFill>
                <a:latin typeface="Constantia"/>
              </a:rPr>
              <a:t>ШМ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ивр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שְׁמַע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`слушай`) —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молитв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провозглашающая главную идею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иудаизм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— единство Всевышнего и нерасторжимость союза еврейского народа с Творцом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Один из внешних символов иудаизма с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XIX века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 — шестиконечная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Звезда Давида</a:t>
            </a:r>
            <a:r>
              <a:rPr b="0" lang="uk-UA" sz="2600" spc="-1" strike="noStrike" u="sng" baseline="30000">
                <a:solidFill>
                  <a:srgbClr val="e2d700"/>
                </a:solidFill>
                <a:uFillTx/>
                <a:latin typeface="Constantia"/>
                <a:hlinkClick r:id="rId12"/>
              </a:rPr>
              <a:t>[5]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. Более древним символом иудаизма является семисвечник (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Менора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), который, согласно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Библии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и традиции, стоял в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Скинии</a:t>
            </a: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uk-UA" sz="26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Иерусалимском храм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1" descr=""/>
          <p:cNvPicPr/>
          <p:nvPr/>
        </p:nvPicPr>
        <p:blipFill>
          <a:blip r:embed="rId1"/>
          <a:stretch/>
        </p:blipFill>
        <p:spPr>
          <a:xfrm>
            <a:off x="633240" y="-324000"/>
            <a:ext cx="7864560" cy="17449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285840" y="78588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marL="514440" indent="-514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Иудаизм первым в истории человечества провозгласил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монотеизм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, углублённый учением о сотворении человека Богом по Своему образу и подобию (еврейская концепция «Богочеловека») — следствием чего является любовь Бога к человеку, стремление Бога помочь человеку и уверенность в конечной победе Добра. Это учение дало и даёт повод к глубочайшим философским и религиозным прозрениям, обнаруживая глубину своего содержания в течение веков всё с новых и новых сторон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онятие о Боге как абсолютно Совершенном, не только абсолютном Разуме и Всемогуществе, но и источнике Благости, Любви и Справедливости, который выступает по отношению к человеку не только как Творец, но и как Отец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just"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514440" indent="-514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142920" y="214200"/>
            <a:ext cx="8858160" cy="6500880"/>
          </a:xfrm>
          <a:prstGeom prst="rect">
            <a:avLst/>
          </a:prstGeom>
          <a:noFill/>
          <a:ln w="9360">
            <a:solidFill>
              <a:srgbClr val="dbf5f9"/>
            </a:solidFill>
            <a:miter/>
          </a:ln>
        </p:spPr>
        <p:txBody>
          <a:bodyPr lIns="0" rIns="18360" tIns="46800" bIns="46800" anchor="t">
            <a:noAutofit/>
          </a:bodyPr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Понятие о жизни как о Диалоге Бога и Человека, — 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ведущемся как на уровне индивидуума, так и на уровне народа (проявление Провидения в национальной истории) и на уровне «всего человечества как единого целого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Учение об абсолютной ценности Человека (как индивидуума, так и народов и также всего человечества в целом) — как бессмертного духовного существа, созданного Богом по Своему образу и подобию, учение об идеальном назначении человека, заключающемся в бесконечном, всестороннем, духовном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усовершенствовании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Учение о равенстве всех людей в их отношениях к Богу: каждый человек является Сыном Божьим, каждому открыта дорога к совершенствованию в направлении соединения с Богом, всем людям даются средства к достижению этого предназначения — свободная воля и божественная помощь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13840" y="214200"/>
            <a:ext cx="8643960" cy="65008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При этом у еврейского народа есть особая Миссия (то есть Избранность), заключающаяся в том, чтобы донести эти Божественные истины до человечества и через это помочь человечеству приблизиться к Богу. Для реализации этой задачи Бог заключил с еврейским народом Завет и дал ему заповеди. Божественный Завет неотменим; и он налагает на еврейский народ более высокий уровень ответственности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Иудаизм предлагает всем людям и народам (неевреям) принять необходимый минимум моральных обязательств, налагаемых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Торой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на всё человечество: в то время как евреи обязаны соблюдать все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613 извлеченных из Пятикнижия предписаний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мицвот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), нееврей, который считается участником завета, заключенного Богом с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Ноем</a:t>
            </a: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,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обязан выполнять лишь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семь законов Ноевых сынов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. В то же время, иудаизм принципиально не занимается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миссионерством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, то есть не стремится к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прозелитизму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(на иврите —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гиюр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) и является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национальной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религией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2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еврейского народа</a:t>
            </a:r>
            <a:r>
              <a:rPr b="0" lang="uk-UA" sz="22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-360" y="285840"/>
            <a:ext cx="8929800" cy="65721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lvl="1" marL="4572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Учение о полном господстве духовного начала над материей, но при этом духовной ценности также и мира материального: Бог — безусловный Владыка материи, как её Творец: и Он вручил Человеку господство над материальным миром, чтобы через материальное тело и в материальном мире осуществить своё идеальное назначение;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Учение о приходе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Машиаха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Мессии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, слово происходит от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ивр.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מָשִׁיחַ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, «помазанник», то есть царь), когда «</a:t>
            </a:r>
            <a:r>
              <a:rPr b="0" i="1" lang="uk-UA" sz="2000" spc="-1" strike="noStrike">
                <a:solidFill>
                  <a:srgbClr val="ffffff"/>
                </a:solidFill>
                <a:latin typeface="Constantia"/>
              </a:rPr>
              <a:t>И перекуют мечи свои на орала и копья свои — на серпы; не поднимет народ меча на народ, и не будут больше учиться воевать … и наполнится вся земля познанием Господа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»  (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Ис.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2:4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).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Машиах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является царём, прямым потомком царя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Давида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, и, согласно иудейской традиции, должен быть помазан на царство пророком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Илией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(Элиягу), который был взят на небо живым)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Учение о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воскресении из мертвых в конце дней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(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эсхатология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), то есть вера в то, что в определенное время мертвые будут оживлены во плоти и будут снова жить на земле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just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  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О воскресении из мертвых говорили многие еврейские пророки, такие как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Иезекииль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(Йехезкель),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Даниил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(Даниель) и др. Так, пророк 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Даниил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 об этом говорит следующее: «</a:t>
            </a:r>
            <a:r>
              <a:rPr b="0" i="1" lang="uk-UA" sz="2000" spc="-1" strike="noStrike">
                <a:solidFill>
                  <a:srgbClr val="ffffff"/>
                </a:solidFill>
                <a:latin typeface="Constantia"/>
              </a:rPr>
              <a:t>И многие из спящих в прахе земли пробудятся, одни для жизни вечной, другие на вечное поругание и посрамление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»  (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Дан.</a:t>
            </a:r>
            <a:r>
              <a:rPr b="0" lang="uk-UA" sz="20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12:2</a:t>
            </a:r>
            <a:r>
              <a:rPr b="0" lang="uk-UA" sz="2000" spc="-1" strike="noStrike">
                <a:solidFill>
                  <a:srgbClr val="ffffff"/>
                </a:solidFill>
                <a:latin typeface="Constantia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marL="45720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579600" y="-103320"/>
            <a:ext cx="8345160" cy="1663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13840" y="1071360"/>
            <a:ext cx="6643800" cy="5500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ru-RU" sz="2400" spc="-1" strike="noStrike">
                <a:solidFill>
                  <a:srgbClr val="ffffff"/>
                </a:solidFill>
                <a:latin typeface="Constantia"/>
              </a:rPr>
              <a:t>ТаНаХ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 — это сокращение, на иврите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ив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תנ"ך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которое расшифровывается как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Тора́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ив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תורה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Невии́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ив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נביאים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‎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Ктуви́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ивр.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כתובים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‎ — 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Закон, Учение; Пророки и Писания. Тора иначе называется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Пятикнижие Моисеево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, так как эти пять книг, согласно традиции, были получены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Моисеем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 от Всевышнего на </a:t>
            </a:r>
            <a:r>
              <a:rPr b="0" lang="ru-RU" sz="24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горе Синай</a:t>
            </a: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ТаНаХ иногда называют Еврейской Библией (у христиан —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Ветхий Завет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). Он описывает сотворение мира и человека, Божественный завет и заповеди, а также историю еврейского народа от его возникновения до начала периода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Второго Храма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.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ТаНаХ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, а также религиозно-философские представления иудаизма послужили основой для становления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христианства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uk-UA" sz="24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ислама</a:t>
            </a:r>
            <a:r>
              <a:rPr b="0" lang="uk-UA" sz="24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Рисунок 3" descr="jud2.gif"/>
          <p:cNvPicPr/>
          <p:nvPr/>
        </p:nvPicPr>
        <p:blipFill>
          <a:blip r:embed="rId17"/>
          <a:stretch/>
        </p:blipFill>
        <p:spPr>
          <a:xfrm>
            <a:off x="6929280" y="785880"/>
            <a:ext cx="19335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42560" y="356760"/>
            <a:ext cx="8715240" cy="62866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Ортодоксальный иудаиз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(от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др.-греч.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ὀρθοδοξία — букв. «правильное мнение») — общее название течений в </a:t>
            </a: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иудаизм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последователи которых являются продолжателями классической формы еврейской религии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ртодоксальный иудаизм считает обязательным соблюдение еврейского религиозного закона (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Галаха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) в том виде, в каком он зафиксирован в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Талмуд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) и кодифицирован в своде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Шулхан арух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В ортодоксальном иудаизме есть несколько направлений —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литовское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хасидиз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различного толка, модернистский ортодоксальный иудаизм (от англ. Modern Orthodox Judaism), </a:t>
            </a:r>
            <a:r>
              <a:rPr b="0" lang="ru-RU" sz="26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религиозный сионизм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. Общее количество последователей — более 4-х миллионов человек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5:07:40Z</dcterms:created>
  <dc:creator>Admin</dc:creator>
  <dc:description/>
  <dc:language>en-US</dc:language>
  <cp:lastModifiedBy>Немец Людмила</cp:lastModifiedBy>
  <dcterms:modified xsi:type="dcterms:W3CDTF">2011-05-31T08:11:07Z</dcterms:modified>
  <cp:revision>8</cp:revision>
  <dc:subject/>
  <dc:title>   Іудаїзм  </dc:title>
</cp:coreProperties>
</file>