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6D56-DB49-44C4-ADCE-32D69AB2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2DF-64D0-4B12-8DEB-9F1DD1FB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6C3-C683-4C00-8C71-8A4DB5A9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991-E3E6-4702-AF0B-C02606DD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8921-6BC7-4D3C-89F9-4B8D7480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3613-5E5F-42EC-AF89-250CE424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851C-8C9F-4F7F-9AB1-2FD08831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1D78-4D2E-48AD-AAC0-090198A6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B136-94F8-4BE7-91AA-95575425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EF94-1179-4A5B-92B4-0DAFE677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3673-1361-4BDB-86D9-6978749C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EEF-0C53-4140-91AD-0D36FBA0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5778-013A-438E-A241-4AE70650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B84D-4DF7-477B-8333-87B4D8F3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E9B3-479D-4B68-8953-4E0B4F8F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B09D-9CCC-4227-8A3B-F0619EFF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9E78-FD40-4242-A7B6-F1ADF364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0D920-9A13-47A8-86FA-25ECD7B8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0C975-09AB-4519-81FB-899C0A14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4C150-C5FA-4047-B02D-74151CCD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24F1B-2770-4E2E-B267-99574C37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093BB-7105-419A-B033-A47DD08B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1B36-9332-43FA-B6F4-B26E9233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F97A9-22A6-4960-B198-793AFB91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EED45-E50F-4836-A67E-613A2EED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56721-9099-4C77-B09A-CA32D6CA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D9123-A578-4D7F-AFE8-54DCB34F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EE162-80D2-45AD-9828-FCCAD788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957C5-D2F2-4FB5-AA71-68E13987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6EF09-2AF6-4393-9A95-06D653CC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7A65B-12B1-45F5-9AFF-B8BBF10B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287D1-55EC-48EA-A90D-D603FA0D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7D997-6336-49E9-B328-AB0F2DC0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0B8-C222-4DFA-8B82-C4D2DC16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3A216-029D-400B-83A3-2EA2961E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16E86-A228-4A33-8805-9C0BC8C0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90EE5-54BE-450E-BCEC-3D28A3A6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E2404-1291-4823-8814-84415488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ACD89-EDD6-4B84-A4E0-4DA08ED3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B12FD-7BBE-4BF9-A4B9-1133CCC6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BBAF2-DDC8-4D63-80D6-BE38000D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9157D-2B91-4150-A73E-B6A73665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8E5D7-2DE8-4691-98AA-5FB4CE6F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1E9D-6B4A-4526-B15B-50775D46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49B-8714-45A9-A803-F6FB6F45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F40-8F4A-43E4-9E1D-6ADB2618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695-EEB1-49B9-859C-16393C84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DAE-C84A-4FE1-A112-88D6C880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F37B-5E9D-4F51-AF8D-009D46A0651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733F-15CD-48D2-B8BD-FB3E070E3E0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2D87-6495-4877-9D32-A434DB84121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0C1A-7786-4152-9D19-B4EDD8FB6A5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7;&#1096;&#1080;&#1074;&#1072;" TargetMode="External"/><Relationship Id="rId2" Type="http://schemas.openxmlformats.org/officeDocument/2006/relationships/hyperlink" Target="http://ru.wikipedia.org/wiki/&#1042;&#1090;&#1086;&#1088;&#1072;&#1103;_&#1084;&#1080;&#1088;&#1086;&#1074;&#1072;&#1103;_&#1074;&#1086;&#1081;&#1085;&#1072;" TargetMode="External"/><Relationship Id="rId3" Type="http://schemas.openxmlformats.org/officeDocument/2006/relationships/hyperlink" Target="http://ru.wikipedia.org/wiki/&#1042;&#1077;&#1083;&#1080;&#1082;&#1086;&#1077;_&#1082;&#1085;&#1103;&#1078;&#1077;&#1089;&#1090;&#1074;&#1086;_&#1051;&#1080;&#1090;&#1086;&#1074;&#1089;&#1082;&#1086;&#1077;" TargetMode="External"/><Relationship Id="rId4" Type="http://schemas.openxmlformats.org/officeDocument/2006/relationships/hyperlink" Target="http://ru.wikipedia.org/wiki/&#1051;&#1080;&#1090;&#1074;&#1072;" TargetMode="External"/><Relationship Id="rId5" Type="http://schemas.openxmlformats.org/officeDocument/2006/relationships/hyperlink" Target="http://ru.wikipedia.org/wiki/&#1055;&#1086;&#1083;&#1100;&#1096;&#1072;" TargetMode="External"/><Relationship Id="rId6" Type="http://schemas.openxmlformats.org/officeDocument/2006/relationships/hyperlink" Target="http://ru.wikipedia.org/wiki/&#1041;&#1077;&#1083;&#1072;&#1088;&#1091;&#1089;&#1100;" TargetMode="External"/><Relationship Id="rId7" Type="http://schemas.openxmlformats.org/officeDocument/2006/relationships/hyperlink" Target="http://ru.wikipedia.org/wiki/&#1059;&#1082;&#1088;&#1072;&#1080;&#1085;&#1072;" TargetMode="External"/><Relationship Id="rId8" Type="http://schemas.openxmlformats.org/officeDocument/2006/relationships/hyperlink" Target="http://ru.wikipedia.org/wiki/&#1061;&#1072;&#1089;&#1080;&#1076;&#1080;&#1079;&#1084;" TargetMode="External"/><Relationship Id="rId9" Type="http://schemas.openxmlformats.org/officeDocument/2006/relationships/hyperlink" Target="http://ru.wikipedia.org/wiki/&#1056;&#1077;&#1083;&#1080;&#1075;&#1080;&#1086;&#1079;&#1085;&#1099;&#1081;_&#1089;&#1080;&#1086;&#1085;&#1080;&#1079;&#1084;" TargetMode="External"/><Relationship Id="rId10" Type="http://schemas.openxmlformats.org/officeDocument/2006/relationships/hyperlink" Target="http://ru.wikipedia.org/wiki/&#1042;&#1080;&#1083;&#1077;&#1085;&#1089;&#1082;&#1080;&#1081;_&#1043;&#1072;&#1086;&#1085;" TargetMode="External"/><Relationship Id="rId11" Type="http://schemas.openxmlformats.org/officeDocument/2006/relationships/hyperlink" Target="http://ru.wikipedia.org/w/index.php?title=&#1058;&#1072;&#1083;&#1084;&#1091;&#1076;&#1080;&#1089;&#1090;&amp;action=edit&amp;redlink=1" TargetMode="External"/><Relationship Id="rId12" Type="http://schemas.openxmlformats.org/officeDocument/2006/relationships/hyperlink" Target="http://ru.wikipedia.org/wiki/&#1048;&#1077;&#1096;&#1080;&#1074;&#1072;" TargetMode="External"/><Relationship Id="rId13" Type="http://schemas.openxmlformats.org/officeDocument/2006/relationships/hyperlink" Target="http://ru.wikipedia.org/wiki/&#1050;&#1086;&#1085;&#1075;&#1088;&#1077;&#1089;&#1089;_&#1077;&#1074;&#1088;&#1077;&#1081;&#1089;&#1082;&#1080;&#1093;_&#1088;&#1077;&#1083;&#1080;&#1075;&#1080;&#1086;&#1079;&#1085;&#1099;&#1093;_&#1086;&#1073;&#1097;&#1080;&#1085;_&#1080;_&#1086;&#1088;&#1075;&#1072;&#1085;&#1080;&#1079;&#1072;&#1094;&#1080;&#1081;_&#1056;&#1086;&#1089;&#1089;&#1080;&#1080;" TargetMode="External"/><Relationship Id="rId14" Type="http://schemas.openxmlformats.org/officeDocument/2006/relationships/hyperlink" Target="http://ru.wikipedia.org/wiki/&#1064;&#1072;&#1093;,_&#1069;&#1083;&#1080;&#1101;&#1079;&#1077;&#1088;_&#1052;&#1077;&#1085;&#1072;&#1093;&#1077;&#1084;" TargetMode="External"/><Relationship Id="rId15" Type="http://schemas.openxmlformats.org/officeDocument/2006/relationships/hyperlink" Target="http://ru.wikipedia.org/wiki/&#1061;&#1072;&#1092;&#1077;&#1094;_&#1061;&#1072;&#1080;&#1084;" TargetMode="External"/><Relationship Id="rId1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91;&#1076;&#1072;&#1080;&#1079;&#1084;" TargetMode="External"/><Relationship Id="rId2" Type="http://schemas.openxmlformats.org/officeDocument/2006/relationships/hyperlink" Target="http://ru.wikipedia.org/wiki/XIX_&#1074;&#1077;&#1082;" TargetMode="External"/><Relationship Id="rId3" Type="http://schemas.openxmlformats.org/officeDocument/2006/relationships/hyperlink" Target="http://ru.wikipedia.org/wiki/&#1043;&#1077;&#1088;&#1084;&#1072;&#1085;&#1080;&#1103;" TargetMode="External"/><Relationship Id="rId4" Type="http://schemas.openxmlformats.org/officeDocument/2006/relationships/hyperlink" Target="http://ru.wikipedia.org/wiki/XX_&#1074;&#1077;&#1082;" TargetMode="External"/><Relationship Id="rId5" Type="http://schemas.openxmlformats.org/officeDocument/2006/relationships/hyperlink" Target="http://ru.wikipedia.org/wiki/&#1057;&#1086;&#1077;&#1076;&#1080;&#1085;&#1105;&#1085;&#1085;&#1099;&#1077;_&#1064;&#1090;&#1072;&#1090;&#1099;_&#1040;&#1084;&#1077;&#1088;&#1080;&#1082;&#1080;" TargetMode="External"/><Relationship Id="rId6" Type="http://schemas.openxmlformats.org/officeDocument/2006/relationships/hyperlink" Target="http://ru.wikipedia.org/wiki/1850_&#1075;&#1086;&#1076;" TargetMode="External"/><Relationship Id="rId7" Type="http://schemas.openxmlformats.org/officeDocument/2006/relationships/hyperlink" Target="http://ru.wikipedia.org/wiki/&#1048;&#1091;&#1076;&#1072;&#1080;&#1079;&#1084;_&#1088;&#1077;&#1092;&#1086;&#1088;&#1084;&#1080;&#1089;&#1090;&#1089;&#1082;&#1080;&#1081;" TargetMode="External"/><Relationship Id="rId8" Type="http://schemas.openxmlformats.org/officeDocument/2006/relationships/hyperlink" Target="http://ru.wikipedia.org/wiki/&#1054;&#1088;&#1090;&#1086;&#1076;&#1086;&#1082;&#1089;&#1072;&#1083;&#1100;&#1085;&#1099;&#1081;_&#1080;&#1091;&#1076;&#1072;&#1080;&#1079;&#1084;" TargetMode="External"/><Relationship Id="rId9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2;&#1083;&#1072;&#1093;&#1072;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7;&#1088;&#1091;&#1089;&#1072;&#1083;&#1080;&#1084;" TargetMode="External"/><Relationship Id="rId2" Type="http://schemas.openxmlformats.org/officeDocument/2006/relationships/hyperlink" Target="http://ru.wikipedia.org/wiki/&#1048;&#1077;&#1088;&#1091;&#1089;&#1072;&#1083;&#1080;&#1084;&#1089;&#1082;&#1080;&#1081;_&#1093;&#1088;&#1072;&#1084;" TargetMode="External"/><Relationship Id="rId3" Type="http://schemas.openxmlformats.org/officeDocument/2006/relationships/hyperlink" Target="http://ru.wikipedia.org/wiki/&#1061;&#1088;&#1072;&#1084;&#1086;&#1074;&#1072;&#1103;_&#1075;&#1086;&#1088;&#1072;" TargetMode="External"/><Relationship Id="rId4" Type="http://schemas.openxmlformats.org/officeDocument/2006/relationships/hyperlink" Target="http://ru.wikipedia.org/wiki/&#1057;&#1074;&#1103;&#1090;&#1099;&#1077;_&#1084;&#1077;&#1089;&#1090;&#1072;" TargetMode="External"/><Relationship Id="rId5" Type="http://schemas.openxmlformats.org/officeDocument/2006/relationships/hyperlink" Target="http://ru.wikipedia.org/wiki/&#1055;&#1077;&#1097;&#1077;&#1088;&#1072;_&#1052;&#1072;&#1093;&#1087;&#1077;&#1083;&#1072;" TargetMode="External"/><Relationship Id="rId6" Type="http://schemas.openxmlformats.org/officeDocument/2006/relationships/hyperlink" Target="http://ru.wikipedia.org/wiki/&#1061;&#1077;&#1074;&#1088;&#1086;&#1085;" TargetMode="External"/><Relationship Id="rId7" Type="http://schemas.openxmlformats.org/officeDocument/2006/relationships/hyperlink" Target="http://ru.wikipedia.org/wiki/&#1042;&#1080;&#1092;&#1083;&#1077;&#1077;&#1084;" TargetMode="External"/><Relationship Id="rId8" Type="http://schemas.openxmlformats.org/officeDocument/2006/relationships/hyperlink" Target="http://ru.wikipedia.org/wiki/&#1056;&#1072;&#1093;&#1080;&#1083;&#1100;" TargetMode="External"/><Relationship Id="rId9" Type="http://schemas.openxmlformats.org/officeDocument/2006/relationships/hyperlink" Target="http://ru.wikipedia.org/wiki/&#1053;&#1072;&#1073;&#1083;&#1091;&#1089;" TargetMode="External"/><Relationship Id="rId10" Type="http://schemas.openxmlformats.org/officeDocument/2006/relationships/hyperlink" Target="http://ru.wikipedia.org/wiki/&#1048;&#1086;&#1089;&#1080;&#1092;_&#1055;&#1088;&#1077;&#1082;&#1088;&#1072;&#1089;&#1085;&#1099;&#1081;" TargetMode="External"/><Relationship Id="rId11" Type="http://schemas.openxmlformats.org/officeDocument/2006/relationships/hyperlink" Target="http://ru.wikipedia.org/wiki/&#1062;&#1092;&#1072;&#1090;" TargetMode="External"/><Relationship Id="rId12" Type="http://schemas.openxmlformats.org/officeDocument/2006/relationships/hyperlink" Target="http://ru.wikipedia.org/wiki/&#1050;&#1072;&#1073;&#1073;&#1072;&#1083;&#1072;" TargetMode="External"/><Relationship Id="rId13" Type="http://schemas.openxmlformats.org/officeDocument/2006/relationships/hyperlink" Target="http://ru.wikipedia.org/wiki/&#1058;&#1074;&#1077;&#1088;&#1080;&#1103;" TargetMode="External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I_&#1074;&#1077;&#1082;_&#1076;&#1086;_&#1085;._&#1101;." TargetMode="External"/><Relationship Id="rId2" Type="http://schemas.openxmlformats.org/officeDocument/2006/relationships/hyperlink" Target="http://ru.wikipedia.org/w/index.php?title=&#1042;&#1090;&#1086;&#1088;&#1072;&#1103;_&#1082;&#1085;&#1080;&#1075;&#1072;_&#1052;&#1072;&#1082;&#1082;&#1072;&#1074;&#1077;&#1081;&#1089;&#1082;&#1072;&#1103;&amp;action=edit&amp;redlink=1" TargetMode="External"/><Relationship Id="rId3" Type="http://schemas.openxmlformats.org/officeDocument/2006/relationships/hyperlink" Target="http://ru.wikisource.org/wiki/&#1042;&#1090;&#1086;&#1088;&#1072;&#1103;_&#1082;&#1085;&#1080;&#1075;&#1072;_&#1052;&#1072;&#1082;&#1082;&#1072;&#1074;&#1077;&#1081;&#1089;&#1082;&#1072;&#1103;#2:21" TargetMode="External"/><Relationship Id="rId4" Type="http://schemas.openxmlformats.org/officeDocument/2006/relationships/hyperlink" Target="http://ru.wikisource.org/wiki/&#1042;&#1090;&#1086;&#1088;&#1072;&#1103;_&#1082;&#1085;&#1080;&#1075;&#1072;_&#1052;&#1072;&#1082;&#1082;&#1072;&#1074;&#1077;&#1081;&#1089;&#1082;&#1072;&#1103;#4:38" TargetMode="External"/><Relationship Id="rId5" Type="http://schemas.openxmlformats.org/officeDocument/2006/relationships/hyperlink" Target="http://ru.wikipedia.org/wiki/&#1048;&#1074;&#1088;&#1080;&#1090;" TargetMode="External"/><Relationship Id="rId6" Type="http://schemas.openxmlformats.org/officeDocument/2006/relationships/hyperlink" Target="http://ru.wikipedia.org/wiki/&#1042;&#1072;&#1074;&#1080;&#1083;&#1086;&#1085;&#1089;&#1082;&#1086;&#1077;_&#1087;&#1083;&#1077;&#1085;&#1077;&#1085;&#1080;&#1077;" TargetMode="External"/><Relationship Id="rId7" Type="http://schemas.openxmlformats.org/officeDocument/2006/relationships/hyperlink" Target="http://ru.wikipedia.org/wiki/&#1048;&#1076;&#1080;&#1096;" TargetMode="External"/><Relationship Id="rId8" Type="http://schemas.openxmlformats.org/officeDocument/2006/relationships/hyperlink" Target="http://ru.wikipedia.org/wiki/&#1048;&#1076;&#1080;&#1096;" TargetMode="External"/><Relationship Id="rId9" Type="http://schemas.openxmlformats.org/officeDocument/2006/relationships/hyperlink" Target="http://ru.wikipedia.org/wiki/&#1048;&#1076;&#1080;&#1096;" TargetMode="External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7;&#1083;&#1080;&#1075;&#1080;&#1086;&#1079;&#1085;&#1099;&#1077;_&#1089;&#1080;&#1084;&#1074;&#1086;&#1083;&#1099;" TargetMode="External"/><Relationship Id="rId2" Type="http://schemas.openxmlformats.org/officeDocument/2006/relationships/hyperlink" Target="http://ru.wikipedia.org/wiki/&#1057;&#1080;&#1084;&#1074;&#1086;&#1083;_&#1074;&#1077;&#1088;&#1099;" TargetMode="External"/><Relationship Id="rId3" Type="http://schemas.openxmlformats.org/officeDocument/2006/relationships/hyperlink" Target="http://ru.wikipedia.org/wiki/&#1064;&#1084;&#1072;" TargetMode="External"/><Relationship Id="rId4" Type="http://schemas.openxmlformats.org/officeDocument/2006/relationships/hyperlink" Target="http://ru.wikipedia.org/wiki/&#1064;&#1072;&#1073;&#1073;&#1072;&#1090;" TargetMode="External"/><Relationship Id="rId5" Type="http://schemas.openxmlformats.org/officeDocument/2006/relationships/hyperlink" Target="http://ru.wikipedia.org/wiki/&#1048;&#1074;&#1088;&#1080;&#1090;" TargetMode="External"/><Relationship Id="rId6" Type="http://schemas.openxmlformats.org/officeDocument/2006/relationships/hyperlink" Target="http://ru.wikipedia.org/wiki/&#1058;&#1086;&#1088;&#1072;" TargetMode="External"/><Relationship Id="rId7" Type="http://schemas.openxmlformats.org/officeDocument/2006/relationships/hyperlink" Target="http://ru.wikipedia.org/wiki/&#1048;&#1074;&#1088;&#1080;&#1090;" TargetMode="External"/><Relationship Id="rId8" Type="http://schemas.openxmlformats.org/officeDocument/2006/relationships/hyperlink" Target="http://ru.wikipedia.org/wiki/&#1052;&#1086;&#1083;&#1080;&#1090;&#1074;&#1072;" TargetMode="External"/><Relationship Id="rId9" Type="http://schemas.openxmlformats.org/officeDocument/2006/relationships/hyperlink" Target="http://ru.wikipedia.org/wiki/&#1048;&#1091;&#1076;&#1072;&#1080;&#1079;&#1084;" TargetMode="External"/><Relationship Id="rId10" Type="http://schemas.openxmlformats.org/officeDocument/2006/relationships/hyperlink" Target="http://ru.wikipedia.org/wiki/XIX_&#1074;&#1077;&#1082;" TargetMode="External"/><Relationship Id="rId11" Type="http://schemas.openxmlformats.org/officeDocument/2006/relationships/hyperlink" Target="http://ru.wikipedia.org/wiki/&#1047;&#1074;&#1077;&#1079;&#1076;&#1072;_&#1044;&#1072;&#1074;&#1080;&#1076;&#1072;" TargetMode="External"/><Relationship Id="rId12" Type="http://schemas.openxmlformats.org/officeDocument/2006/relationships/hyperlink" Target="file:///F:/&#208;&#156;&#208;&#190;&#209;&#143;%20&#209;&#131;&#209;&#135;&#208;&#181;&#208;&#177;&#208;&#176;/5%20&#208;&#186;&#209;&#131;&#209;&#128;&#209;&#129;%20(2%20&#209;&#129;&#208;&#181;&#208;&#188;&#208;&#181;&#209;&#129;&#209;&#130;&#209;&#128;)/&#208;&#161;&#208;&#176;&#208;&#186;&#209;&#128;&#208;&#176;&#208;&#187;&#209;&#140;&#208;&#189;&#208;&#176;%20&#208;&#179;&#208;&#181;&#208;&#190;&#208;&#179;&#209;&#128;&#208;&#176;&#209;&#132;.%20&#208;&#154;&#208;&#187;&#209;&#142;&#209;&#135;&#208;&#186;&#208;&#190;/&#208;&#152;&#209;&#131;&#208;&#180;&#208;&#176;&#208;&#184;&#208;&#183;&#208;&#188;/&#208;&#152;&#209;&#131;&#208;&#180;&#208;&#176;&#208;&#184;&#208;&#183;&#208;&#188;%20&#208;&#178;&#208;&#184;&#208;&#186;&#208;&#184;&#208;&#191;&#208;&#181;&#208;&#180;&#208;&#184;&#209;&#143;.htm" TargetMode="External"/><Relationship Id="rId13" Type="http://schemas.openxmlformats.org/officeDocument/2006/relationships/hyperlink" Target="http://ru.wikipedia.org/wiki/&#1052;&#1077;&#1085;&#1086;&#1088;&#1072;" TargetMode="External"/><Relationship Id="rId14" Type="http://schemas.openxmlformats.org/officeDocument/2006/relationships/hyperlink" Target="http://ru.wikipedia.org/wiki/&#1041;&#1080;&#1073;&#1083;&#1080;&#1103;" TargetMode="External"/><Relationship Id="rId15" Type="http://schemas.openxmlformats.org/officeDocument/2006/relationships/hyperlink" Target="http://ru.wikipedia.org/wiki/&#1057;&#1082;&#1080;&#1085;&#1080;&#1103;" TargetMode="External"/><Relationship Id="rId16" Type="http://schemas.openxmlformats.org/officeDocument/2006/relationships/hyperlink" Target="http://ru.wikipedia.org/wiki/&#1048;&#1077;&#1088;&#1091;&#1089;&#1072;&#1083;&#1080;&#1084;&#1089;&#1082;&#1080;&#1081;_&#1093;&#1088;&#1072;&#1084;" TargetMode="External"/><Relationship Id="rId1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&#1052;&#1086;&#1085;&#1086;&#1090;&#1077;&#1080;&#1079;&#1084;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6;&#1088;&#1072;" TargetMode="External"/><Relationship Id="rId2" Type="http://schemas.openxmlformats.org/officeDocument/2006/relationships/hyperlink" Target="http://ru.wikipedia.org/wiki/613_&#1079;&#1072;&#1087;&#1086;&#1074;&#1077;&#1076;&#1077;&#1081;" TargetMode="External"/><Relationship Id="rId3" Type="http://schemas.openxmlformats.org/officeDocument/2006/relationships/hyperlink" Target="http://ru.wikipedia.org/wiki/&#1052;&#1080;&#1094;&#1074;&#1086;&#1090;" TargetMode="External"/><Relationship Id="rId4" Type="http://schemas.openxmlformats.org/officeDocument/2006/relationships/hyperlink" Target="http://ru.wikipedia.org/wiki/&#1053;&#1086;&#1081;" TargetMode="External"/><Relationship Id="rId5" Type="http://schemas.openxmlformats.org/officeDocument/2006/relationships/hyperlink" Target="http://ru.wikipedia.org/wiki/&#1057;&#1077;&#1084;&#1100;_&#1079;&#1072;&#1082;&#1086;&#1085;&#1086;&#1074;_&#1087;&#1086;&#1090;&#1086;&#1084;&#1082;&#1086;&#1074;_&#1053;&#1086;&#1103;" TargetMode="External"/><Relationship Id="rId6" Type="http://schemas.openxmlformats.org/officeDocument/2006/relationships/hyperlink" Target="http://ru.wikipedia.org/wiki/&#1052;&#1080;&#1089;&#1089;&#1080;&#1086;&#1085;&#1077;&#1088;&#1089;&#1090;&#1074;&#1086;" TargetMode="External"/><Relationship Id="rId7" Type="http://schemas.openxmlformats.org/officeDocument/2006/relationships/hyperlink" Target="http://ru.wikipedia.org/wiki/&#1055;&#1088;&#1086;&#1079;&#1077;&#1083;&#1080;&#1090;&#1080;&#1079;&#1084;" TargetMode="External"/><Relationship Id="rId8" Type="http://schemas.openxmlformats.org/officeDocument/2006/relationships/hyperlink" Target="http://ru.wikipedia.org/wiki/&#1043;&#1080;&#1102;&#1088;" TargetMode="External"/><Relationship Id="rId9" Type="http://schemas.openxmlformats.org/officeDocument/2006/relationships/hyperlink" Target="http://ru.wikipedia.org/wiki/&#1053;&#1072;&#1094;&#1080;&#1086;&#1085;&#1072;&#1083;&#1100;&#1085;&#1086;&#1089;&#1090;&#1100;" TargetMode="External"/><Relationship Id="rId10" Type="http://schemas.openxmlformats.org/officeDocument/2006/relationships/hyperlink" Target="http://ru.wikipedia.org/wiki/&#1056;&#1077;&#1083;&#1080;&#1075;&#1080;&#1103;" TargetMode="External"/><Relationship Id="rId11" Type="http://schemas.openxmlformats.org/officeDocument/2006/relationships/hyperlink" Target="http://ru.wikipedia.org/wiki/&#1045;&#1074;&#1088;&#1077;&#1080;" TargetMode="External"/><Relationship Id="rId1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96;&#1080;&#1072;&#1093;" TargetMode="External"/><Relationship Id="rId2" Type="http://schemas.openxmlformats.org/officeDocument/2006/relationships/hyperlink" Target="http://ru.wikipedia.org/wiki/&#1052;&#1077;&#1089;&#1089;&#1080;&#1103;" TargetMode="External"/><Relationship Id="rId3" Type="http://schemas.openxmlformats.org/officeDocument/2006/relationships/hyperlink" Target="http://ru.wikipedia.org/wiki/&#1048;&#1074;&#1088;&#1080;&#1090;" TargetMode="External"/><Relationship Id="rId4" Type="http://schemas.openxmlformats.org/officeDocument/2006/relationships/hyperlink" Target="http://ru.wikipedia.org/wiki/&#1050;&#1085;&#1080;&#1075;&#1072;_&#1087;&#1088;&#1086;&#1088;&#1086;&#1082;&#1072;_&#1048;&#1089;&#1072;&#1080;&#1080;" TargetMode="External"/><Relationship Id="rId5" Type="http://schemas.openxmlformats.org/officeDocument/2006/relationships/hyperlink" Target="http://ru.wikisource.org/wiki/&#1050;&#1085;&#1080;&#1075;&#1072;_&#1087;&#1088;&#1086;&#1088;&#1086;&#1082;&#1072;_&#1048;&#1089;&#1072;&#1080;&#1080;#2:4" TargetMode="External"/><Relationship Id="rId6" Type="http://schemas.openxmlformats.org/officeDocument/2006/relationships/hyperlink" Target="http://ru.wikipedia.org/wiki/&#1052;&#1072;&#1096;&#1080;&#1072;&#1093;" TargetMode="External"/><Relationship Id="rId7" Type="http://schemas.openxmlformats.org/officeDocument/2006/relationships/hyperlink" Target="http://ru.wikipedia.org/wiki/&#1044;&#1072;&#1074;&#1080;&#1076;" TargetMode="External"/><Relationship Id="rId8" Type="http://schemas.openxmlformats.org/officeDocument/2006/relationships/hyperlink" Target="http://ru.wikipedia.org/wiki/&#1048;&#1083;&#1080;&#1103;_%28&#1087;&#1088;&#1086;&#1088;&#1086;&#1082;%29" TargetMode="External"/><Relationship Id="rId9" Type="http://schemas.openxmlformats.org/officeDocument/2006/relationships/hyperlink" Target="http://ru.wikipedia.org/wiki/&#1057;&#1090;&#1088;&#1072;&#1096;&#1085;&#1099;&#1081;_&#1089;&#1091;&#1076;" TargetMode="External"/><Relationship Id="rId10" Type="http://schemas.openxmlformats.org/officeDocument/2006/relationships/hyperlink" Target="http://ru.wikipedia.org/wiki/&#1069;&#1089;&#1093;&#1072;&#1090;&#1086;&#1083;&#1086;&#1075;&#1080;&#1103;" TargetMode="External"/><Relationship Id="rId11" Type="http://schemas.openxmlformats.org/officeDocument/2006/relationships/hyperlink" Target="http://ru.wikipedia.org/wiki/&#1048;&#1077;&#1079;&#1077;&#1082;&#1080;&#1080;&#1083;&#1100;_%28&#1087;&#1088;&#1086;&#1088;&#1086;&#1082;%29" TargetMode="External"/><Relationship Id="rId12" Type="http://schemas.openxmlformats.org/officeDocument/2006/relationships/hyperlink" Target="http://ru.wikipedia.org/wiki/&#1044;&#1072;&#1085;&#1080;&#1080;&#1083;" TargetMode="External"/><Relationship Id="rId13" Type="http://schemas.openxmlformats.org/officeDocument/2006/relationships/hyperlink" Target="http://ru.wikipedia.org/wiki/&#1044;&#1072;&#1085;&#1080;&#1080;&#1083;" TargetMode="External"/><Relationship Id="rId14" Type="http://schemas.openxmlformats.org/officeDocument/2006/relationships/hyperlink" Target="http://ru.wikipedia.org/wiki/&#1050;&#1085;&#1080;&#1075;&#1072;_&#1087;&#1088;&#1086;&#1088;&#1086;&#1082;&#1072;_&#1044;&#1072;&#1085;&#1080;&#1080;&#1083;&#1072;" TargetMode="External"/><Relationship Id="rId15" Type="http://schemas.openxmlformats.org/officeDocument/2006/relationships/hyperlink" Target="http://ru.wikisource.org/wiki/&#1050;&#1085;&#1080;&#1075;&#1072;_&#1087;&#1088;&#1086;&#1088;&#1086;&#1082;&#1072;_&#1044;&#1072;&#1085;&#1080;&#1080;&#1083;&#1072;#12:2" TargetMode="External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&#1048;&#1074;&#1088;&#1080;&#1090;" TargetMode="External"/><Relationship Id="rId3" Type="http://schemas.openxmlformats.org/officeDocument/2006/relationships/hyperlink" Target="http://ru.wikipedia.org/wiki/&#1058;&#1086;&#1088;&#1072;" TargetMode="External"/><Relationship Id="rId4" Type="http://schemas.openxmlformats.org/officeDocument/2006/relationships/hyperlink" Target="http://ru.wikipedia.org/wiki/&#1048;&#1074;&#1088;&#1080;&#1090;" TargetMode="External"/><Relationship Id="rId5" Type="http://schemas.openxmlformats.org/officeDocument/2006/relationships/hyperlink" Target="http://ru.wikipedia.org/wiki/&#1053;&#1077;&#1074;&#1080;&#1080;&#1084;" TargetMode="External"/><Relationship Id="rId6" Type="http://schemas.openxmlformats.org/officeDocument/2006/relationships/hyperlink" Target="http://ru.wikipedia.org/wiki/&#1048;&#1074;&#1088;&#1080;&#1090;" TargetMode="External"/><Relationship Id="rId7" Type="http://schemas.openxmlformats.org/officeDocument/2006/relationships/hyperlink" Target="http://ru.wikipedia.org/wiki/&#1050;&#1090;&#1091;&#1074;&#1080;&#1084;" TargetMode="External"/><Relationship Id="rId8" Type="http://schemas.openxmlformats.org/officeDocument/2006/relationships/hyperlink" Target="http://ru.wikipedia.org/wiki/&#1048;&#1074;&#1088;&#1080;&#1090;" TargetMode="External"/><Relationship Id="rId9" Type="http://schemas.openxmlformats.org/officeDocument/2006/relationships/hyperlink" Target="http://ru.wikipedia.org/wiki/&#1055;&#1103;&#1090;&#1080;&#1082;&#1085;&#1080;&#1078;&#1080;&#1077;_&#1052;&#1086;&#1080;&#1089;&#1077;&#1077;&#1074;&#1086;" TargetMode="External"/><Relationship Id="rId10" Type="http://schemas.openxmlformats.org/officeDocument/2006/relationships/hyperlink" Target="http://ru.wikipedia.org/wiki/&#1052;&#1086;&#1080;&#1089;&#1077;&#1081;" TargetMode="External"/><Relationship Id="rId11" Type="http://schemas.openxmlformats.org/officeDocument/2006/relationships/hyperlink" Target="http://ru.wikipedia.org/wiki/&#1057;&#1080;&#1085;&#1072;&#1081;_%28&#1075;&#1086;&#1088;&#1072;%29" TargetMode="External"/><Relationship Id="rId12" Type="http://schemas.openxmlformats.org/officeDocument/2006/relationships/hyperlink" Target="http://ru.wikipedia.org/wiki/&#1042;&#1077;&#1090;&#1093;&#1080;&#1081;_&#1047;&#1072;&#1074;&#1077;&#1090;" TargetMode="External"/><Relationship Id="rId13" Type="http://schemas.openxmlformats.org/officeDocument/2006/relationships/hyperlink" Target="http://ru.wikipedia.org/wiki/&#1042;&#1090;&#1086;&#1088;&#1086;&#1081;_&#1061;&#1088;&#1072;&#1084;" TargetMode="External"/><Relationship Id="rId14" Type="http://schemas.openxmlformats.org/officeDocument/2006/relationships/hyperlink" Target="http://ru.wikipedia.org/wiki/&#1058;&#1072;&#1053;&#1072;&#1061;" TargetMode="External"/><Relationship Id="rId15" Type="http://schemas.openxmlformats.org/officeDocument/2006/relationships/hyperlink" Target="http://ru.wikipedia.org/wiki/&#1061;&#1088;&#1080;&#1089;&#1090;&#1080;&#1072;&#1085;&#1089;&#1090;&#1074;&#1086;" TargetMode="External"/><Relationship Id="rId16" Type="http://schemas.openxmlformats.org/officeDocument/2006/relationships/hyperlink" Target="http://ru.wikipedia.org/wiki/&#1048;&#1089;&#1083;&#1072;&#1084;" TargetMode="External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2" Type="http://schemas.openxmlformats.org/officeDocument/2006/relationships/hyperlink" Target="http://ru.wikipedia.org/wiki/&#1043;&#1072;&#1083;&#1072;&#1093;&#1072;" TargetMode="External"/><Relationship Id="rId3" Type="http://schemas.openxmlformats.org/officeDocument/2006/relationships/hyperlink" Target="http://ru.wikipedia.org/wiki/&#1058;&#1072;&#1083;&#1084;&#1091;&#1076;" TargetMode="External"/><Relationship Id="rId4" Type="http://schemas.openxmlformats.org/officeDocument/2006/relationships/hyperlink" Target="http://ru.wikipedia.org/wiki/&#1064;&#1091;&#1083;&#1093;&#1072;&#1085;_&#1072;&#1088;&#1091;&#1093;" TargetMode="External"/><Relationship Id="rId5" Type="http://schemas.openxmlformats.org/officeDocument/2006/relationships/hyperlink" Target="http://ru.wikipedia.org/wiki/&#1051;&#1080;&#1090;&#1074;&#1072;&#1082;&#1080;" TargetMode="External"/><Relationship Id="rId6" Type="http://schemas.openxmlformats.org/officeDocument/2006/relationships/hyperlink" Target="http://ru.wikipedia.org/wiki/&#1061;&#1072;&#1089;&#1080;&#1076;&#1080;&#1079;&#1084;" TargetMode="External"/><Relationship Id="rId7" Type="http://schemas.openxmlformats.org/officeDocument/2006/relationships/hyperlink" Target="http://ru.wikipedia.org/wiki/&#1056;&#1077;&#1083;&#1080;&#1075;&#1080;&#1086;&#1079;&#1085;&#1099;&#1081;_&#1089;&#1080;&#1086;&#1085;&#1080;&#1079;&#1084;" TargetMode="External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811080"/>
            <a:ext cx="7864560" cy="30546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5" descr="jud1.jpg"/>
          <p:cNvPicPr/>
          <p:nvPr/>
        </p:nvPicPr>
        <p:blipFill>
          <a:blip r:embed="rId3"/>
          <a:stretch/>
        </p:blipFill>
        <p:spPr>
          <a:xfrm>
            <a:off x="1357200" y="3071880"/>
            <a:ext cx="1905120" cy="215244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6" descr="jud2.gif"/>
          <p:cNvPicPr/>
          <p:nvPr/>
        </p:nvPicPr>
        <p:blipFill>
          <a:blip r:embed="rId4"/>
          <a:stretch/>
        </p:blipFill>
        <p:spPr>
          <a:xfrm>
            <a:off x="6786720" y="281160"/>
            <a:ext cx="19335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Литва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едставители наиболее классического направления в ашкеназской ветви современного иудаизма. Называются литваками, так как основные их духовные центры —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иешивы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находились, вплоть до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Второй мировой войны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преимущественно в Литве (в Литву, точнее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Великое княжество Литовское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входили земли современной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Литвы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части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Польши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Беларуси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и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Украины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Литовская Школа» появилась хронологически раньше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хасидизм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и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религиозного сионизм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Литваки являются последователями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Виленского Гаон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(рабби Элиягу бен Шлоймэ Залмана), великого еврейского ученого-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талмудист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 С его благословления была создана первая литвакская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иешив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современного образца в Воложин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России литваки входят в состав КЕРООРа (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Конгресс еврейских религиозных общин и организаций России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ыдающиеся раввины, ученые и общественные деятели, принадлежащие к течению литваков: рабби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Шах, Элиэзер Менахем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рабби Исроэль Мейр а-Коэн (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Хафец Хаим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сервативный иудаиз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— современное течение в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иудаизм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 Возникло в середине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XIX век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в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Германи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первые организованные формы образовались в начале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XX век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в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СШ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Консервативный иудаизм берет начало в так называемом Позитивно-Историческом иудаизме, философском и религиозном течении возникшем в Германии в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1850 году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как ответ на гораздо более либеральные позиции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Реформистского иудаизма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и попытка найти компромисс между традиционным вероучением и современностью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Тем не менее, несмотря на своё название, Консервативный иудаизм в целом стоит на более либеральных позициях, чем любые течения внутри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Ортодоксального иудаизма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85840" y="357120"/>
            <a:ext cx="8572320" cy="385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nstantia"/>
              </a:rPr>
              <a:t>Основные принципы Консервативного иудаизма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Признание </a:t>
            </a:r>
            <a:r>
              <a:rPr b="0" lang="uk-UA" sz="3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Галахи</a:t>
            </a: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 в качестве руководства к жизни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Не-фундаменталистское преподавание основ еврейской религ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Позитивное отношение к современной культуре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Рисунок 5" descr="jud3.jpg"/>
          <p:cNvPicPr/>
          <p:nvPr/>
        </p:nvPicPr>
        <p:blipFill>
          <a:blip r:embed="rId2"/>
          <a:stretch/>
        </p:blipFill>
        <p:spPr>
          <a:xfrm>
            <a:off x="781200" y="4425840"/>
            <a:ext cx="2869920" cy="19144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6" descr="jud4.jpg"/>
          <p:cNvPicPr/>
          <p:nvPr/>
        </p:nvPicPr>
        <p:blipFill>
          <a:blip r:embed="rId3"/>
          <a:stretch/>
        </p:blipFill>
        <p:spPr>
          <a:xfrm>
            <a:off x="5353200" y="3706920"/>
            <a:ext cx="270504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Святые мес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вятой город 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—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Иерусали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в котором находился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Хра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Храмовая гор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на которой возвышался Храм, — в иудаизме считается наиболее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святым место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 Другие святые места иудаизма —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Пещера Махпел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в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Хеврон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где похоронены библейские праотцы,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Вифлее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(Бейт-Лехем) — город, на пути к которому похоронена праматерь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Рахиль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Наблус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(Шхем), где похоронен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Иосиф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Цфа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в котором развилось мистическое учение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Каббал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и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Твер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где долгое время заседал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Constantia"/>
              </a:rPr>
              <a:t>Синедрио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Рисунок 3" descr="jud6.jpg"/>
          <p:cNvPicPr/>
          <p:nvPr/>
        </p:nvPicPr>
        <p:blipFill>
          <a:blip r:embed="rId14"/>
          <a:stretch/>
        </p:blipFill>
        <p:spPr>
          <a:xfrm>
            <a:off x="785880" y="4572000"/>
            <a:ext cx="2857320" cy="186696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jud7.jpg"/>
          <p:cNvPicPr/>
          <p:nvPr/>
        </p:nvPicPr>
        <p:blipFill>
          <a:blip r:embed="rId15"/>
          <a:stretch/>
        </p:blipFill>
        <p:spPr>
          <a:xfrm>
            <a:off x="5429160" y="4643280"/>
            <a:ext cx="285768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85480" y="285840"/>
            <a:ext cx="86439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Среди еврейского населения Израиля (5,3 млн) около 25 % являются полностью соблюдающими сторонниками ортодоксального иудаизма (из них около половины — сторонники литовского направления и хасидизма, другая половина — сторонники религиозного сионизма), еще около 35 % соблюдают частично, но также считают себя сторонниками ортодоксального иудаизма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Рисунок 3" descr="Молящиеся_в_синагоге.jpg"/>
          <p:cNvPicPr/>
          <p:nvPr/>
        </p:nvPicPr>
        <p:blipFill>
          <a:blip r:embed="rId1"/>
          <a:stretch/>
        </p:blipFill>
        <p:spPr>
          <a:xfrm>
            <a:off x="566640" y="3780000"/>
            <a:ext cx="3822840" cy="24555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4" descr="jud12.jpg"/>
          <p:cNvPicPr/>
          <p:nvPr/>
        </p:nvPicPr>
        <p:blipFill>
          <a:blip r:embed="rId2"/>
          <a:stretch/>
        </p:blipFill>
        <p:spPr>
          <a:xfrm>
            <a:off x="5065560" y="3492360"/>
            <a:ext cx="3627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14200" y="142920"/>
            <a:ext cx="871560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Сторонников консервативного и реформистского направлений — менее 1 %. В Государстве </a:t>
            </a:r>
            <a:r>
              <a:rPr b="0" lang="uk-UA" sz="2600" spc="-1" strike="noStrike" u="sng">
                <a:solidFill>
                  <a:srgbClr val="ffffff"/>
                </a:solidFill>
                <a:uFillTx/>
                <a:latin typeface="Constantia"/>
              </a:rPr>
              <a:t>Израиль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религия не является государственной (то есть обязательной для граждан), но она и не отделена от государства. Есть вопросы (женитьба, развод, смерть, </a:t>
            </a:r>
            <a:r>
              <a:rPr b="0" lang="uk-UA" sz="2600" spc="-1" strike="noStrike" u="sng">
                <a:solidFill>
                  <a:srgbClr val="ffffff"/>
                </a:solidFill>
                <a:uFillTx/>
                <a:latin typeface="Constantia"/>
              </a:rPr>
              <a:t>гиюр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 — переход в иудаизм), которые находятся в исключительном ведении религиозных учреждений. Есть также и другие вопросы, которые могут рассматриваться в «</a:t>
            </a:r>
            <a:r>
              <a:rPr b="0" i="1" lang="uk-UA" sz="2600" spc="-1" strike="noStrike" u="sng">
                <a:solidFill>
                  <a:srgbClr val="ffffff"/>
                </a:solidFill>
                <a:uFillTx/>
                <a:latin typeface="Constantia"/>
              </a:rPr>
              <a:t>Бейт дин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» (религиозным судом) по обоюдному согласию сторон. В любом случае возможна апелляция в Верховный суд. Некоторые законы Израиля приняты на основании </a:t>
            </a:r>
            <a:r>
              <a:rPr b="0" lang="uk-UA" sz="2600" spc="-1" strike="noStrike" u="sng">
                <a:solidFill>
                  <a:srgbClr val="ffffff"/>
                </a:solidFill>
                <a:uFillTx/>
                <a:latin typeface="Constantia"/>
              </a:rPr>
              <a:t>Галах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Рисунок 3" descr="180px-Shabbat_table_setting.jpg"/>
          <p:cNvPicPr/>
          <p:nvPr/>
        </p:nvPicPr>
        <p:blipFill>
          <a:blip r:embed="rId1"/>
          <a:stretch/>
        </p:blipFill>
        <p:spPr>
          <a:xfrm>
            <a:off x="5778360" y="4565520"/>
            <a:ext cx="28720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85840" y="214200"/>
            <a:ext cx="8572320" cy="6500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Термин </a:t>
            </a:r>
            <a:r>
              <a:rPr b="1" lang="ru-RU" sz="2400" spc="-1" strike="noStrike" u="sng">
                <a:solidFill>
                  <a:srgbClr val="ffc000"/>
                </a:solidFill>
                <a:uFillTx/>
                <a:latin typeface="Constantia"/>
              </a:rPr>
              <a:t>«иудаизм»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оисходит от греческого 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Ἰουδαϊσμός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(в русском произношении «йудаисмо́с»), появляющегося в еврейско-эллинистической литературе на рубеже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I в. до н. э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(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2Макк.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2:21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;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4:38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) и обозначающего еврейскую религию как антитезу эллинистическому язычеству. В некоторых языках наряду с термином «иудаизм», обозначающим еврейскую религию в узком смысле, существует более общий термин, охватывающий всю еврейскую цивилизацию, включая религию, в целом — русское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еврейство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немецкое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Judentum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английское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Jewry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а иврите термины «иудаизм» и «еврейство» — синонимы. Термин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ивр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יַהֲדוּת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‎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яхадут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), возник в иврите после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Вавилонского пленения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 На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идише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иудаизм традиционно обозначается термином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идиш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ייִדישקײט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и́дишкейт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или 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и́дишкайт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), дословно означающим «еврейскость» (от прилагательного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идиш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ייִדיש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еврейский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), то есть еврейский образ жизн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13840" y="142920"/>
            <a:ext cx="857268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Религиозные символ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существенном смысле,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символическое значени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в иудаизме имеют молитва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Шм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и соблюдение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Шабба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Шабба́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(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ивр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שַׁבָּת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‎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от корня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шв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— «покоиться, прекращать деятельность»), в иудаизме — седьмой день недели, в который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Тор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предписывает воздерживаться от работ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ШМ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(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ивр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שְׁמַע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‎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`слушай`) —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молитв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провозглашающая главную идею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иудаизм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единство Всевышнего и нерасторжимость союза еврейского народа с Творцо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Один из внешних символов иудаизма с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XIX века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 — шестиконечная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Звезда Давида</a:t>
            </a:r>
            <a:r>
              <a:rPr b="0" lang="uk-UA" sz="2600" spc="-1" strike="noStrike" u="sng" baseline="30000">
                <a:solidFill>
                  <a:srgbClr val="e2d700"/>
                </a:solidFill>
                <a:uFillTx/>
                <a:latin typeface="Constantia"/>
                <a:hlinkClick r:id="rId12"/>
              </a:rPr>
              <a:t>[5]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. Более древним символом иудаизма является семисвечник (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Менора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), который, согласно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Библии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и традиции, стоял в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Скинии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и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16"/>
              </a:rPr>
              <a:t>Иерусалимском храм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633240" y="-324000"/>
            <a:ext cx="7864560" cy="17449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5840" y="785880"/>
            <a:ext cx="85723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marL="514440" indent="-51444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Иудаизм первым в истории человечества провозгласил </a:t>
            </a:r>
            <a:r>
              <a:rPr b="0" lang="uk-UA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монотеизм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, углублённый учением о сотворении человека Богом по Своему образу и подобию (еврейская концепция «Богочеловека») — следствием чего является любовь Бога к человеку, стремление Бога помочь человеку и уверенность в конечной победе Добра. Это учение дало и даёт повод к глубочайшим философским и религиозным прозрениям, обнаруживая глубину своего содержания в течение веков всё с новых и новых сторон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Понятие о Боге как абсолютно Совершенном, не только абсолютном Разуме и Всемогуществе, но и источнике Благости, Любви и Справедливости, который выступает по отношению к человеку не только как Творец, но и как Отец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42920" y="214200"/>
            <a:ext cx="8858160" cy="6500880"/>
          </a:xfrm>
          <a:prstGeom prst="rect">
            <a:avLst/>
          </a:prstGeom>
          <a:noFill/>
          <a:ln w="9360">
            <a:solidFill>
              <a:srgbClr val="dbf5f9"/>
            </a:solidFill>
            <a:miter/>
          </a:ln>
        </p:spPr>
        <p:txBody>
          <a:bodyPr lIns="0" rIns="18360" tIns="46800" bIns="46800" anchor="t">
            <a:noAutofit/>
          </a:bodyPr>
          <a:p>
            <a:pPr lvl="1" marL="45720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Понятие о жизни как о Диалоге Бога и Человека, —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ведущемся как на уровне индивидуума, так и на уровне народа (проявление Провидения в национальной истории) и на уровне «всего человечества как единого целого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Учение об абсолютной ценности Человека (как индивидуума, так и народов и также всего человечества в целом) — как бессмертного духовного существа, созданного Богом по Своему образу и подобию, учение об идеальном назначении человека, заключающемся в бесконечном, всестороннем, духовном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усовершенствовании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Учение о равенстве всех людей в их отношениях к Богу: каждый человек является Сыном Божьим, каждому открыта дорога к совершенствованию в направлении соединения с Богом, всем людям даются средства к достижению этого предназначения — свободная воля и божественная помощь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13840" y="214200"/>
            <a:ext cx="8643960" cy="6500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При этом у еврейского народа есть особая Миссия (то есть Избранность), заключающаяся в том, чтобы донести эти Божественные истины до человечества и через это помочь человечеству приблизиться к Богу. Для реализации этой задачи Бог заключил с еврейским народом Завет и дал ему заповеди. Божественный Завет неотменим; и он налагает на еврейский народ более высокий уровень ответственност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Иудаизм предлагает всем людям и народам (неевреям) принять необходимый минимум моральных обязательств, налагаемых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Торой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 на всё человечество: в то время как евреи обязаны соблюдать все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613 извлеченных из Пятикнижия предписаний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 (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мицвот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), нееврей, который считается участником завета, заключенного Богом с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Ноем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,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 обязан выполнять лишь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семь законов Ноевых сынов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. В то же время, иудаизм принципиально не занимается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миссионерством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, то есть не стремится к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прозелитизму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 (на иврите —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гиюр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) и является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национальной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религией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еврейского народа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-360" y="285840"/>
            <a:ext cx="892980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lvl="1" marL="45720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Учение о полном господстве духовного начала над материей, но при этом духовной ценности также и мира материального: Бог — безусловный Владыка материи, как её Творец: и Он вручил Человеку господство над материальным миром, чтобы через материальное тело и в материальном мире осуществить своё идеальное назначение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Учение о приходе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Машиаха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(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Мессии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, слово происходит от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ивр.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מָשִׁיחַ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‎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, «помазанник», то есть царь), когда «</a:t>
            </a:r>
            <a:r>
              <a:rPr b="0" i="1" lang="uk-UA" sz="2000" spc="-1" strike="noStrike">
                <a:solidFill>
                  <a:srgbClr val="ffffff"/>
                </a:solidFill>
                <a:latin typeface="Constantia"/>
              </a:rPr>
              <a:t>И перекуют мечи свои на орала и копья свои — на серпы; не поднимет народ меча на народ, и не будут больше учиться воевать … и наполнится вся земля познанием Господа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»  (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Ис.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2:4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).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Машиах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является царём, прямым потомком царя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Давида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, и, согласно иудейской традиции, должен быть помазан на царство пророком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Илией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(Элиягу), который был взят на небо живым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Учение о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воскресении из мертвых в конце дней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(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эсхатология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), то есть вера в то, что в определенное время мертвые будут оживлены во плоти и будут снова жить на земл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О воскресении из мертвых говорили многие еврейские пророки, такие как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Иезекииль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(Йехезкель),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Даниил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(Даниель) и др. Так, пророк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Даниил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об этом говорит следующее: «</a:t>
            </a:r>
            <a:r>
              <a:rPr b="0" i="1" lang="uk-UA" sz="2000" spc="-1" strike="noStrike">
                <a:solidFill>
                  <a:srgbClr val="ffffff"/>
                </a:solidFill>
                <a:latin typeface="Constantia"/>
              </a:rPr>
              <a:t>И многие из спящих в прахе земли пробудятся, одни для жизни вечной, другие на вечное поругание и посрамление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»  (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Дан.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12:2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579600" y="-103320"/>
            <a:ext cx="8345160" cy="1663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213840" y="1071360"/>
            <a:ext cx="6643800" cy="5500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ТаНаХ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— это сокращение, на иврите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ивр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תנ"ך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‎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которое расшифровывается как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Тора́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ивр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תורה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‎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Невии́м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ивр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נביאים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‎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Ктуви́м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ивр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כתובים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‎ —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Закон, Учение; Пророки и Писания. Тора иначе называется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Пятикнижие Моисеево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так как эти пять книг, согласно традиции, были получены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Моисеем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от Всевышнего на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горе Синай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ТаНаХ иногда называют Еврейской Библией (у христиан — </a:t>
            </a:r>
            <a:r>
              <a:rPr b="0" lang="uk-UA" sz="24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Ветхий Завет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). Он описывает сотворение мира и человека, Божественный завет и заповеди, а также историю еврейского народа от его возникновения до начала периода </a:t>
            </a:r>
            <a:r>
              <a:rPr b="0" lang="uk-UA" sz="24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Второго Храма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. </a:t>
            </a:r>
            <a:r>
              <a:rPr b="0" lang="uk-UA" sz="24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ТаНаХ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, а также религиозно-философские представления иудаизма послужили основой для становления </a:t>
            </a:r>
            <a:r>
              <a:rPr b="0" lang="uk-UA" sz="24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христианства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и </a:t>
            </a:r>
            <a:r>
              <a:rPr b="0" lang="uk-UA" sz="2400" spc="-1" strike="noStrike" u="sng">
                <a:solidFill>
                  <a:srgbClr val="e2d700"/>
                </a:solidFill>
                <a:uFillTx/>
                <a:latin typeface="Constantia"/>
                <a:hlinkClick r:id="rId16"/>
              </a:rPr>
              <a:t>ислама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Рисунок 3" descr="jud2.gif"/>
          <p:cNvPicPr/>
          <p:nvPr/>
        </p:nvPicPr>
        <p:blipFill>
          <a:blip r:embed="rId17"/>
          <a:stretch/>
        </p:blipFill>
        <p:spPr>
          <a:xfrm>
            <a:off x="6929280" y="785880"/>
            <a:ext cx="19335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2560" y="356760"/>
            <a:ext cx="87152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Ортодоксальный иудаиз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(от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др.-греч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ὀρθοδοξία — букв. «правильное мнение») — общее название течений в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иудаизм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последователи которых являются продолжателями классической формы еврейской религ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ртодоксальный иудаизм считает обязательным соблюдение еврейского религиозного закона (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Галах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) в том виде, в каком он зафиксирован в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Талмуд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) и кодифицирован в своде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Шулхан арух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ортодоксальном иудаизме есть несколько направлений —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литовско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хасидиз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различного толка, модернистский ортодоксальный иудаизм (от англ. Modern Orthodox Judaism),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религиозный сиониз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 Общее количество последователей — более 4-х миллионов человек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5:07:40Z</dcterms:created>
  <dc:creator>Admin</dc:creator>
  <dc:description/>
  <dc:language>en-US</dc:language>
  <cp:lastModifiedBy>Немец Людмила</cp:lastModifiedBy>
  <dcterms:modified xsi:type="dcterms:W3CDTF">2011-05-31T08:11:07Z</dcterms:modified>
  <cp:revision>8</cp:revision>
  <dc:subject/>
  <dc:title>   Іудаїзм  </dc:title>
</cp:coreProperties>
</file>