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55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4.png" ContentType="image/png"/>
  <Override PartName="/ppt/media/image10.jpeg" ContentType="image/jpeg"/>
  <Override PartName="/ppt/media/image1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57.png" ContentType="image/png"/>
  <Override PartName="/ppt/media/image15.png" ContentType="image/png"/>
  <Override PartName="/ppt/media/image3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38.wmf" ContentType="image/x-wmf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18.png" ContentType="image/png"/>
  <Override PartName="/ppt/media/image41.jpeg" ContentType="image/jpeg"/>
  <Override PartName="/ppt/media/image43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11.png" ContentType="image/png"/>
  <Override PartName="/ppt/media/image47.jpeg" ContentType="image/jpeg"/>
  <Override PartName="/ppt/media/image40.wmf" ContentType="image/x-wmf"/>
  <Override PartName="/ppt/media/image34.jpeg" ContentType="image/jpeg"/>
  <Override PartName="/ppt/media/image31.wmf" ContentType="image/x-wmf"/>
  <Override PartName="/ppt/media/image7.jpeg" ContentType="image/jpeg"/>
  <Override PartName="/ppt/media/image48.jpeg" ContentType="image/jpeg"/>
  <Override PartName="/ppt/media/image53.jpeg" ContentType="image/jpeg"/>
  <Override PartName="/ppt/media/image35.wmf" ContentType="image/x-wmf"/>
  <Override PartName="/ppt/media/image37.wmf" ContentType="image/x-wmf"/>
  <Override PartName="/ppt/media/image30.jpeg" ContentType="image/jpeg"/>
  <Override PartName="/ppt/media/image56.jpeg" ContentType="image/jpeg"/>
  <Override PartName="/ppt/media/image12.png" ContentType="image/png"/>
  <Override PartName="/ppt/media/image9.png" ContentType="image/png"/>
  <Override PartName="/ppt/media/image42.wmf" ContentType="image/x-wmf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media/image33.wmf" ContentType="image/x-wmf"/>
  <Override PartName="/ppt/media/image28.jpeg" ContentType="image/jpeg"/>
  <Override PartName="/ppt/media/image51.jpeg" ContentType="image/jpeg"/>
  <Override PartName="/ppt/media/image13.png" ContentType="image/png"/>
  <Override PartName="/ppt/media/image5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AF47-304E-4FEE-98EF-DED717FD8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6664-0734-4404-90DD-14858E56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E976-D6D2-430E-9ADA-39B65E6CA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6E63-6F88-4709-9E12-706F5A567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9F67-42E0-4B73-88A9-1630C8D7C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33A1-108A-41F9-96FD-6ECCA82E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EB21-B23B-4D18-B445-3C2800BE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A32B-9348-424E-AD46-5BCCC0D6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B9C1-A164-4930-BA74-1B4DA75C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0864-DB92-4F38-B242-B38BAF84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A847-0238-4598-905E-6CCAF57C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2915-E61B-407C-9A89-E6C4F51E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BA0C-1627-4A3C-8951-F14641EA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F6FB-C393-4273-9D01-29DD59D4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FA5D-2EA8-49AF-8BAA-3880B5F9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4109-91C8-4E32-8FA9-8F79782DE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D744-81B8-42B1-A6F2-EB0F4DC1F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2E40-86F0-4780-8423-473B3DAF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673F-0AD7-486D-B089-0ECCE13E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6348-A8BD-47D5-9176-FE5ECCCD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EA81-426B-4C3F-8E11-97E42D57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0F22-8124-47E8-9779-C75EAA03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2D3C-7014-412A-A0BD-C28959B4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C3DC-8264-4B2B-A31A-F828278F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5FBC-6B0C-4929-8645-A48DD91EF1D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6B5D-9F6A-47A6-9038-B26EBE58AFE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4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4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wmf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0" y="1143000"/>
            <a:ext cx="2971800" cy="1946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334120" y="4572000"/>
            <a:ext cx="3047760" cy="2048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666880" y="4508640"/>
            <a:ext cx="2667240" cy="2303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259680" y="189000"/>
            <a:ext cx="2590560" cy="2590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82440" y="4724280"/>
            <a:ext cx="2667240" cy="2021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732720" y="2590920"/>
            <a:ext cx="2361960" cy="1638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125280" y="3159000"/>
            <a:ext cx="2894040" cy="1946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1370160" y="2209680"/>
            <a:ext cx="1355400" cy="1600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9"/>
          <a:stretch/>
        </p:blipFill>
        <p:spPr>
          <a:xfrm>
            <a:off x="534960" y="304920"/>
            <a:ext cx="2208240" cy="1657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0"/>
          <a:stretch/>
        </p:blipFill>
        <p:spPr>
          <a:xfrm>
            <a:off x="4952880" y="5589720"/>
            <a:ext cx="1751040" cy="1218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1"/>
          <a:stretch/>
        </p:blipFill>
        <p:spPr>
          <a:xfrm>
            <a:off x="2817720" y="26028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2"/>
          <a:stretch/>
        </p:blipFill>
        <p:spPr>
          <a:xfrm>
            <a:off x="2743200" y="1066680"/>
            <a:ext cx="1905120" cy="1390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3"/>
          <a:stretch/>
        </p:blipFill>
        <p:spPr>
          <a:xfrm>
            <a:off x="5180040" y="3124080"/>
            <a:ext cx="1677960" cy="1371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4"/>
          <a:stretch/>
        </p:blipFill>
        <p:spPr>
          <a:xfrm>
            <a:off x="108000" y="16765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5"/>
          <a:stretch/>
        </p:blipFill>
        <p:spPr>
          <a:xfrm>
            <a:off x="4233960" y="189000"/>
            <a:ext cx="2133360" cy="1654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6"/>
          <a:stretch/>
        </p:blipFill>
        <p:spPr>
          <a:xfrm>
            <a:off x="4572000" y="3809880"/>
            <a:ext cx="2362320" cy="1771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7"/>
          <a:stretch/>
        </p:blipFill>
        <p:spPr>
          <a:xfrm>
            <a:off x="4191120" y="25146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8"/>
          <a:stretch/>
        </p:blipFill>
        <p:spPr>
          <a:xfrm>
            <a:off x="5854680" y="3048120"/>
            <a:ext cx="3201840" cy="2438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9"/>
          <a:stretch/>
        </p:blipFill>
        <p:spPr>
          <a:xfrm>
            <a:off x="6124680" y="4653000"/>
            <a:ext cx="2971800" cy="2133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0"/>
          <a:stretch/>
        </p:blipFill>
        <p:spPr>
          <a:xfrm>
            <a:off x="1600200" y="4365720"/>
            <a:ext cx="3506760" cy="2361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1"/>
          <a:stretch/>
        </p:blipFill>
        <p:spPr>
          <a:xfrm>
            <a:off x="5450040" y="1890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2"/>
          <a:stretch/>
        </p:blipFill>
        <p:spPr>
          <a:xfrm>
            <a:off x="2894040" y="2971800"/>
            <a:ext cx="2363760" cy="1771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3"/>
          <a:stretch/>
        </p:blipFill>
        <p:spPr>
          <a:xfrm>
            <a:off x="2286000" y="2057400"/>
            <a:ext cx="2440080" cy="1662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Times New Roman"/>
              </a:rPr>
              <a:t>КОНФЕСІЙНИЙ СКЛАД РЕГІОНІВ СВІТ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447920" y="4495320"/>
            <a:ext cx="72388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ff00"/>
                </a:solidFill>
                <a:latin typeface="Verdana"/>
              </a:rPr>
              <a:t>Семінарське заняття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0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6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7000"/>
                            </p:stCondLst>
                            <p:childTnLst>
                              <p:par>
                                <p:cTn id="6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9000"/>
                            </p:stCondLst>
                            <p:childTnLst>
                              <p:par>
                                <p:cTn id="7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1000"/>
                            </p:stCondLst>
                            <p:childTnLst>
                              <p:par>
                                <p:cTn id="8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3000"/>
                            </p:stCondLst>
                            <p:childTnLst>
                              <p:par>
                                <p:cTn id="8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0"/>
                            </p:stCondLst>
                            <p:childTnLst>
                              <p:par>
                                <p:cTn id="9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8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30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4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6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7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9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1149840" y="1371600"/>
            <a:ext cx="1643760" cy="2410560"/>
            <a:chOff x="1149840" y="1371600"/>
            <a:chExt cx="1643760" cy="2410560"/>
          </a:xfrm>
        </p:grpSpPr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1325520" y="1371600"/>
              <a:ext cx="1285920" cy="13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1149840" y="2590920"/>
              <a:ext cx="1643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</a:rPr>
                <a:t>Розмаїтт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</a:rPr>
                <a:t>релігійни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</a:rPr>
                <a:t>вчен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124080" y="1143000"/>
            <a:ext cx="3441960" cy="581040"/>
            <a:chOff x="3124080" y="1143000"/>
            <a:chExt cx="3441960" cy="581040"/>
          </a:xfrm>
        </p:grpSpPr>
        <p:sp>
          <p:nvSpPr>
            <p:cNvPr id="186" name=""/>
            <p:cNvSpPr txBox="1"/>
            <p:nvPr/>
          </p:nvSpPr>
          <p:spPr>
            <a:xfrm>
              <a:off x="4343400" y="1143000"/>
              <a:ext cx="2222640" cy="58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політеізм</a:t>
              </a:r>
              <a:endPara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24080" y="1447920"/>
              <a:ext cx="1143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124080" y="1905120"/>
            <a:ext cx="3441960" cy="581040"/>
            <a:chOff x="3124080" y="1905120"/>
            <a:chExt cx="3441960" cy="581040"/>
          </a:xfrm>
        </p:grpSpPr>
        <p:sp>
          <p:nvSpPr>
            <p:cNvPr id="189" name=""/>
            <p:cNvSpPr txBox="1"/>
            <p:nvPr/>
          </p:nvSpPr>
          <p:spPr>
            <a:xfrm>
              <a:off x="4343400" y="1905120"/>
              <a:ext cx="2222640" cy="58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монотеізм</a:t>
              </a:r>
              <a:endPara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124080" y="2184480"/>
              <a:ext cx="1143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124080" y="2666880"/>
            <a:ext cx="5410440" cy="581040"/>
            <a:chOff x="3124080" y="2666880"/>
            <a:chExt cx="5410440" cy="581040"/>
          </a:xfrm>
        </p:grpSpPr>
        <p:sp>
          <p:nvSpPr>
            <p:cNvPr id="192" name=""/>
            <p:cNvSpPr txBox="1"/>
            <p:nvPr/>
          </p:nvSpPr>
          <p:spPr>
            <a:xfrm>
              <a:off x="4343400" y="2666880"/>
              <a:ext cx="4191120" cy="58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національні религії</a:t>
              </a:r>
              <a:endPara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24080" y="2921040"/>
              <a:ext cx="1143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124080" y="3429000"/>
            <a:ext cx="5410440" cy="581040"/>
            <a:chOff x="3124080" y="3429000"/>
            <a:chExt cx="5410440" cy="581040"/>
          </a:xfrm>
        </p:grpSpPr>
        <p:sp>
          <p:nvSpPr>
            <p:cNvPr id="195" name=""/>
            <p:cNvSpPr txBox="1"/>
            <p:nvPr/>
          </p:nvSpPr>
          <p:spPr>
            <a:xfrm>
              <a:off x="4343400" y="3429000"/>
              <a:ext cx="4191120" cy="58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світові религії</a:t>
              </a:r>
              <a:endPara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24080" y="3657600"/>
              <a:ext cx="1143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221840" y="4572000"/>
            <a:ext cx="1423080" cy="1755000"/>
            <a:chOff x="1221840" y="4572000"/>
            <a:chExt cx="1423080" cy="1755000"/>
          </a:xfrm>
        </p:grpSpPr>
        <p:pic>
          <p:nvPicPr>
            <p:cNvPr id="198" name="" descr=""/>
            <p:cNvPicPr/>
            <p:nvPr/>
          </p:nvPicPr>
          <p:blipFill>
            <a:blip r:embed="rId2"/>
            <a:stretch/>
          </p:blipFill>
          <p:spPr>
            <a:xfrm>
              <a:off x="1371240" y="4572000"/>
              <a:ext cx="1036440" cy="14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1221840" y="5867280"/>
              <a:ext cx="142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</a:rPr>
                <a:t>Буддизм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1066680" y="4114800"/>
            <a:ext cx="7772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46240" y="4267080"/>
            <a:ext cx="5659560" cy="119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любов та милосердя до усього живо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- неможна платити за зло зл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- відмова від усякої власнос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124080" y="5562720"/>
            <a:ext cx="5486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66"/>
                </a:solidFill>
                <a:latin typeface="Arial"/>
              </a:rPr>
              <a:t>Бірма,Камбоджа,Таіланд+ Японі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66"/>
              </a:solidFill>
              <a:latin typeface="Arial"/>
              <a:ea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7760" y="6095880"/>
            <a:ext cx="545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Times New Roman"/>
              </a:rPr>
              <a:t>Перетворюється із релігії в філософі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Функціональна структура релігійної сфери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063440" y="1600200"/>
            <a:ext cx="2079720" cy="1907640"/>
            <a:chOff x="1063440" y="1600200"/>
            <a:chExt cx="2079720" cy="1907640"/>
          </a:xfrm>
        </p:grpSpPr>
        <p:pic>
          <p:nvPicPr>
            <p:cNvPr id="206" name="" descr=""/>
            <p:cNvPicPr/>
            <p:nvPr/>
          </p:nvPicPr>
          <p:blipFill>
            <a:blip r:embed="rId1"/>
            <a:stretch/>
          </p:blipFill>
          <p:spPr>
            <a:xfrm>
              <a:off x="1463760" y="1600200"/>
              <a:ext cx="1268280" cy="16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1063440" y="3048120"/>
              <a:ext cx="207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христия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3850560" y="1219320"/>
            <a:ext cx="4069800" cy="2654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аповіді Мойс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не вб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не вкрад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не прелюбоді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шануй мати і батька твої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не створи собі куми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не кажи імені Бога в сує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316240" y="4038480"/>
            <a:ext cx="50752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причина негараздів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греховність людин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143000" y="5578560"/>
            <a:ext cx="3238560" cy="51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50000">
                      <a:srgbClr val="000000"/>
                    </a:gs>
                    <a:gs pos="100000">
                      <a:srgbClr val="ffbf00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1054 р - розпад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bf00"/>
                  </a:gs>
                  <a:gs pos="50000">
                    <a:srgbClr val="000000"/>
                  </a:gs>
                  <a:gs pos="100000">
                    <a:srgbClr val="ffbf00"/>
                  </a:gs>
                </a:gsLst>
                <a:lin ang="108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722920" y="5257800"/>
            <a:ext cx="2583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66"/>
                </a:solidFill>
                <a:latin typeface="Arial"/>
              </a:rPr>
              <a:t>Появ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66"/>
                </a:solidFill>
                <a:latin typeface="Arial"/>
              </a:rPr>
              <a:t>сек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66"/>
              </a:solidFill>
              <a:latin typeface="Arial"/>
              <a:ea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95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Функціональна структура релігійної сфер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1515960" y="1828800"/>
            <a:ext cx="1532160" cy="1297800"/>
            <a:chOff x="1515960" y="1828800"/>
            <a:chExt cx="1532160" cy="1297800"/>
          </a:xfrm>
        </p:grpSpPr>
        <p:pic>
          <p:nvPicPr>
            <p:cNvPr id="214" name="" descr=""/>
            <p:cNvPicPr/>
            <p:nvPr/>
          </p:nvPicPr>
          <p:blipFill>
            <a:blip r:embed="rId1"/>
            <a:stretch/>
          </p:blipFill>
          <p:spPr>
            <a:xfrm>
              <a:off x="1515960" y="1828800"/>
              <a:ext cx="153216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1725480" y="2666880"/>
              <a:ext cx="108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сла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3776040" y="1184400"/>
            <a:ext cx="4033440" cy="228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«іслам» - покірність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- людина – слабка істо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- уповання на милість Б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- покірність Аллаху і владі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- активне втручання в ус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сфери життєдіяльнос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676520" y="3733920"/>
            <a:ext cx="6553080" cy="5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ісламізаці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010160" y="4530600"/>
            <a:ext cx="3385440" cy="2025000"/>
            <a:chOff x="1010160" y="4530600"/>
            <a:chExt cx="3385440" cy="2025000"/>
          </a:xfrm>
        </p:grpSpPr>
        <p:sp>
          <p:nvSpPr>
            <p:cNvPr id="219" name=""/>
            <p:cNvSpPr txBox="1"/>
            <p:nvPr/>
          </p:nvSpPr>
          <p:spPr>
            <a:xfrm>
              <a:off x="1111320" y="4530600"/>
              <a:ext cx="3284280" cy="1600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b2b2b2"/>
                  </a:solidFill>
                  <a:latin typeface="Arial"/>
                </a:rPr>
                <a:t>політичні 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b2b2b2"/>
                  </a:solidFill>
                  <a:latin typeface="Arial"/>
                </a:rPr>
                <a:t>программи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b2b2b2"/>
                  </a:solidFill>
                  <a:latin typeface="Arial"/>
                </a:rPr>
                <a:t>в низці країн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"/>
                <a:ea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10160" y="6095880"/>
              <a:ext cx="318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Пакистан, Іран, Ліві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500000" y="4495680"/>
            <a:ext cx="4186800" cy="2059920"/>
            <a:chOff x="4500000" y="4495680"/>
            <a:chExt cx="4186800" cy="2059920"/>
          </a:xfrm>
        </p:grpSpPr>
        <p:sp>
          <p:nvSpPr>
            <p:cNvPr id="222" name=""/>
            <p:cNvSpPr txBox="1"/>
            <p:nvPr/>
          </p:nvSpPr>
          <p:spPr>
            <a:xfrm>
              <a:off x="4800600" y="4495680"/>
              <a:ext cx="3886200" cy="1524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b2b2b2"/>
                  </a:solidFill>
                  <a:latin typeface="Arial"/>
                </a:rPr>
                <a:t>Поширення  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b2b2b2"/>
                  </a:solidFill>
                  <a:latin typeface="Arial"/>
                </a:rPr>
                <a:t>іслама в нові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b2b2b2"/>
                  </a:solidFill>
                  <a:latin typeface="Arial"/>
                </a:rPr>
                <a:t>райони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"/>
                <a:ea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500000" y="6095880"/>
              <a:ext cx="39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зія, Африка, Індія, Д.Схі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539640" y="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Times New Roman"/>
                <a:ea typeface="Arial"/>
              </a:rPr>
              <a:t>Функціональна структура релігійної сф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900000" y="1295280"/>
            <a:ext cx="1668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кінець 20 с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666880" y="1066680"/>
            <a:ext cx="5791320" cy="1143000"/>
            <a:chOff x="2666880" y="1066680"/>
            <a:chExt cx="5791320" cy="1143000"/>
          </a:xfrm>
        </p:grpSpPr>
        <p:sp>
          <p:nvSpPr>
            <p:cNvPr id="227" name=""/>
            <p:cNvSpPr txBox="1"/>
            <p:nvPr/>
          </p:nvSpPr>
          <p:spPr>
            <a:xfrm>
              <a:off x="3932280" y="1066680"/>
              <a:ext cx="452592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Зростання впливу 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религії в світі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66880" y="1599840"/>
              <a:ext cx="10670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1219320" y="2286000"/>
            <a:ext cx="7619760" cy="1752480"/>
            <a:chOff x="1219320" y="2286000"/>
            <a:chExt cx="7619760" cy="1752480"/>
          </a:xfrm>
        </p:grpSpPr>
        <p:sp>
          <p:nvSpPr>
            <p:cNvPr id="230" name=""/>
            <p:cNvSpPr/>
            <p:nvPr/>
          </p:nvSpPr>
          <p:spPr>
            <a:xfrm>
              <a:off x="1219320" y="2286000"/>
              <a:ext cx="7619760" cy="457200"/>
            </a:xfrm>
            <a:prstGeom prst="downArrowCallout">
              <a:avLst>
                <a:gd name="adj1" fmla="val 22841"/>
                <a:gd name="adj2" fmla="val 53085"/>
                <a:gd name="adj3" fmla="val 43750"/>
                <a:gd name="adj4" fmla="val 17708"/>
              </a:avLst>
            </a:prstGeom>
            <a:solidFill>
              <a:srgbClr val="ffcc00"/>
            </a:solidFill>
            <a:ln w="3816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2217600" y="2895480"/>
              <a:ext cx="555480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cc3399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актуальність пропаганди </a:t>
              </a:r>
              <a:endParaRPr b="1" lang="en-US" sz="1800" spc="1" strike="noStrike">
                <a:ln w="9360">
                  <a:solidFill>
                    <a:srgbClr val="cc3399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cc3399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моральних цінностей</a:t>
              </a:r>
              <a:endParaRPr b="1" lang="en-US" sz="1800" spc="1" strike="noStrike">
                <a:ln w="9360">
                  <a:solidFill>
                    <a:srgbClr val="cc3399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143000" y="4191120"/>
            <a:ext cx="2674800" cy="1314360"/>
            <a:chOff x="1143000" y="4191120"/>
            <a:chExt cx="2674800" cy="1314360"/>
          </a:xfrm>
        </p:grpSpPr>
        <p:grpSp>
          <p:nvGrpSpPr>
            <p:cNvPr id="233" name=""/>
            <p:cNvGrpSpPr/>
            <p:nvPr/>
          </p:nvGrpSpPr>
          <p:grpSpPr>
            <a:xfrm>
              <a:off x="1143000" y="4495680"/>
              <a:ext cx="685800" cy="685800"/>
              <a:chOff x="1143000" y="4495680"/>
              <a:chExt cx="685800" cy="685800"/>
            </a:xfrm>
          </p:grpSpPr>
          <p:sp>
            <p:nvSpPr>
              <p:cNvPr id="234" name=""/>
              <p:cNvSpPr/>
              <p:nvPr/>
            </p:nvSpPr>
            <p:spPr>
              <a:xfrm>
                <a:off x="1143000" y="4762440"/>
                <a:ext cx="685800" cy="15228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5400000">
                <a:off x="1142640" y="4762440"/>
                <a:ext cx="685800" cy="15228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"/>
            <p:cNvSpPr txBox="1"/>
            <p:nvPr/>
          </p:nvSpPr>
          <p:spPr>
            <a:xfrm>
              <a:off x="2057400" y="4191120"/>
              <a:ext cx="1760400" cy="131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вміння</a:t>
              </a:r>
              <a:endPara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заспокоїти</a:t>
              </a:r>
              <a:endPara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191120" y="4114800"/>
            <a:ext cx="4449600" cy="1314360"/>
            <a:chOff x="4191120" y="4114800"/>
            <a:chExt cx="4449600" cy="1314360"/>
          </a:xfrm>
        </p:grpSpPr>
        <p:grpSp>
          <p:nvGrpSpPr>
            <p:cNvPr id="238" name=""/>
            <p:cNvGrpSpPr/>
            <p:nvPr/>
          </p:nvGrpSpPr>
          <p:grpSpPr>
            <a:xfrm>
              <a:off x="4191120" y="4495680"/>
              <a:ext cx="685800" cy="685800"/>
              <a:chOff x="4191120" y="4495680"/>
              <a:chExt cx="685800" cy="685800"/>
            </a:xfrm>
          </p:grpSpPr>
          <p:sp>
            <p:nvSpPr>
              <p:cNvPr id="239" name=""/>
              <p:cNvSpPr/>
              <p:nvPr/>
            </p:nvSpPr>
            <p:spPr>
              <a:xfrm>
                <a:off x="4191120" y="4762440"/>
                <a:ext cx="685800" cy="15228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5400000">
                <a:off x="4190760" y="4762440"/>
                <a:ext cx="685800" cy="15228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"/>
            <p:cNvSpPr txBox="1"/>
            <p:nvPr/>
          </p:nvSpPr>
          <p:spPr>
            <a:xfrm>
              <a:off x="5257800" y="4114800"/>
              <a:ext cx="3382920" cy="131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соціальна </a:t>
              </a:r>
              <a:endPara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нестабільність</a:t>
              </a:r>
              <a:endPara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981080" y="5562720"/>
            <a:ext cx="5646960" cy="1314360"/>
            <a:chOff x="1981080" y="5562720"/>
            <a:chExt cx="5646960" cy="1314360"/>
          </a:xfrm>
        </p:grpSpPr>
        <p:grpSp>
          <p:nvGrpSpPr>
            <p:cNvPr id="243" name=""/>
            <p:cNvGrpSpPr/>
            <p:nvPr/>
          </p:nvGrpSpPr>
          <p:grpSpPr>
            <a:xfrm>
              <a:off x="1981080" y="5867280"/>
              <a:ext cx="685800" cy="685800"/>
              <a:chOff x="1981080" y="5867280"/>
              <a:chExt cx="685800" cy="685800"/>
            </a:xfrm>
          </p:grpSpPr>
          <p:sp>
            <p:nvSpPr>
              <p:cNvPr id="244" name=""/>
              <p:cNvSpPr/>
              <p:nvPr/>
            </p:nvSpPr>
            <p:spPr>
              <a:xfrm>
                <a:off x="1981080" y="6134040"/>
                <a:ext cx="685800" cy="15228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5400000">
                <a:off x="1980720" y="6134040"/>
                <a:ext cx="685800" cy="15228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"/>
            <p:cNvSpPr txBox="1"/>
            <p:nvPr/>
          </p:nvSpPr>
          <p:spPr>
            <a:xfrm>
              <a:off x="2819520" y="5562720"/>
              <a:ext cx="4808520" cy="131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збереження культурних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цінностей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71760" y="328680"/>
            <a:ext cx="710856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Необхідність дослідженн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495680" y="1219320"/>
            <a:ext cx="46483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6019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243080" y="0"/>
            <a:ext cx="665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1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6666"/>
                </a:solidFill>
                <a:latin typeface="Arial"/>
              </a:rPr>
              <a:t>Питання для обговорення</a:t>
            </a: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Класифікація релігій світу. Історико-географічні аспекти розвитку та поширення релігій світу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ервісні та місцеві традиційні вірування та культ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Національні релігії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Світові релігії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Релігійна геоситуація в сучасному світі (макрорегіони Європа, Америка, Азія, Африка, Австралія і Океанія)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1476360" y="3357720"/>
            <a:ext cx="676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ff"/>
                </a:solidFill>
                <a:latin typeface="Arial"/>
              </a:rPr>
              <a:t>Концепція пратеїзму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Сутність: найдавніші люди були настільки тісно пов’язані з природою та з власною простою практичною діяльністю, що їх свідомість була тісно перепліталась із практичними діями і не була придатною навіть до мінімальних абстрактних або відірваних від наочного міркувань, в тому числі й релігійних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Але, оскільки дана концепція грунтується не стільки на фактах, скільки на їх тлумаченні, багато дослідників теж вважають її сумнівною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Теорія страху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700" spc="-1" strike="noStrike">
                <a:solidFill>
                  <a:srgbClr val="000000"/>
                </a:solidFill>
                <a:latin typeface="Times New Roman"/>
              </a:rPr>
              <a:t>Відповідно до цієї концепції первісні люди боялися певних природних явищ (пожежі, шторму на морі), і пов’язували ці явища з діями надзвичайно могутніх істот – демонів, богів (бо явища були масштабними). За аналогією з власними вчинками (“захочу – зламаю гілку, не захочу – не зламаю,  якщо мене просять не ламати – не буду”) вони вважали, що за їхнім проханням могутні істоти можуть  і не чинити своїх жахливих дій. Тому первісні люди споруджували богам храми, молилися їм та приносили їм пожертви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Теорія обману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8390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900" spc="-1" strike="noStrike">
                <a:solidFill>
                  <a:srgbClr val="000000"/>
                </a:solidFill>
                <a:latin typeface="Times New Roman"/>
              </a:rPr>
              <a:t>Сутність</a:t>
            </a:r>
            <a:r>
              <a:rPr b="0" lang="uk-UA" sz="2900" spc="-1" strike="noStrike">
                <a:solidFill>
                  <a:srgbClr val="000000"/>
                </a:solidFill>
                <a:latin typeface="Times New Roman"/>
              </a:rPr>
              <a:t>: виникнення релігії як результат вигадок вождів, жреців та законодавців, які посилалися на авторитет богів та демонів, щоб змусити людей дослухатися до рішень та вимог керівників суспільства. Одним з перших цю теорію висуває Крітій (біля 460-430 рр. до н.е.), в подальшому її підтримували енциклопедисти ХVII-XVIII ст.у Франції – Франсуа Вольтер (1694-1778), Жан Жак Руссо (1712-1778).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ff"/>
                </a:solidFill>
                <a:latin typeface="Arial"/>
              </a:rPr>
              <a:t>Теорія</a:t>
            </a:r>
            <a:r>
              <a:rPr b="0" lang="uk-UA" sz="3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0066ff"/>
                </a:solidFill>
                <a:latin typeface="Arial"/>
              </a:rPr>
              <a:t>обмеженості знань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900" spc="-1" strike="noStrike">
                <a:solidFill>
                  <a:srgbClr val="000000"/>
                </a:solidFill>
                <a:latin typeface="Times New Roman"/>
              </a:rPr>
              <a:t>Сутність: релігія виникає як спосіб донаукового пояснення незрозумілих явищ природи, а в подальшому – і суспільного житт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900" spc="-1" strike="noStrike">
                <a:solidFill>
                  <a:srgbClr val="000000"/>
                </a:solidFill>
                <a:latin typeface="Times New Roman"/>
              </a:rPr>
              <a:t>За логікою цієї теорії з розвитком науки релігія повинна занепадати і поступово взагалі зникнути. Така точка зору була поширена серед науковців у XIX ст. та початку ХХ ст., була вона й компонентом офіційної атеїстичної ідеології у Радянському Союзі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Фрейдизм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1600200"/>
            <a:ext cx="8458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Релігія виникає як вихід назовні індивідуального безсвідомого, причому цей вихід безсвідомого є суспільно дозволеним та безпечним для оточуючих. Отже, основою для виникнення релігії є індивідуальне безсвідоме, тобто вроджені неусвідомлювані та часто заборонені суспільством потяги людини. Саме вони зумовлюють необхідність у молитві, сповіді, участі у релігійних церемоніях, тощ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ff"/>
                </a:solidFill>
                <a:latin typeface="Arial"/>
              </a:rPr>
              <a:t>Давні релігійні віруванн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2900" spc="-1" strike="noStrike">
                <a:solidFill>
                  <a:srgbClr val="000000"/>
                </a:solidFill>
                <a:latin typeface="Arial"/>
              </a:rPr>
              <a:t>Фетишизм</a:t>
            </a:r>
            <a:r>
              <a:rPr b="0" lang="uk-UA" sz="2900" spc="-1" strike="noStrike">
                <a:solidFill>
                  <a:srgbClr val="000000"/>
                </a:solidFill>
                <a:latin typeface="Arial"/>
              </a:rPr>
              <a:t>  - це віра у надприродні, надчуттєві властивості певних предметів, віра в те, що вони можуть допомагати, оберігати, захищати людину. Термін походить від португальського слова fetico – зачарована річ, через французьке fetiche – поклоніння неодухотвореним предметам (фетишам), яким приписують надприродні властивості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900" spc="-1" strike="noStrike">
                <a:solidFill>
                  <a:srgbClr val="000000"/>
                </a:solidFill>
                <a:latin typeface="Arial"/>
              </a:rPr>
              <a:t>Фетишами здебільшого стають предмети, які вражають уяву людини тим, що чимось суттєво відрізняються від інших предметів даного типу (галька з однією або двома дірочками; джерело, яке не замерзає взимку; яблуня, яка родить щороку, тощо).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ff"/>
                </a:solidFill>
                <a:latin typeface="Arial"/>
              </a:rPr>
              <a:t>Анімізм</a:t>
            </a: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Анімізм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 – віра в те, що існують духовні двійники всіх живих істот. У науковий обіг даний термін введений англійським етнографом Едуардом Тейлором (1832-1917)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Термін анімізм походить від лат animus, anima – дух, душа. Не слід плутати ці уявлення із тими розвинутими релігійними уявленнями про душу,  яку Бог при творенні світу надав лише людині (тварини та рослини душі не мають), і ця душа є осереддям духовної діяльності людини та умовою її спілкування з Богом, наближення до Бога. Анімістичні уявлення передбачають існування душі як внутрішнього джерела діяльності всіх живих істот, своєрідного внутрішнього двигун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Тотемізм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2900" spc="-1" strike="noStrike">
                <a:solidFill>
                  <a:srgbClr val="000000"/>
                </a:solidFill>
                <a:latin typeface="Arial"/>
              </a:rPr>
              <a:t>Тотемізм </a:t>
            </a:r>
            <a:r>
              <a:rPr b="0" lang="uk-UA" sz="2900" spc="-1" strike="noStrike">
                <a:solidFill>
                  <a:srgbClr val="000000"/>
                </a:solidFill>
                <a:latin typeface="Arial"/>
              </a:rPr>
              <a:t>– віра в існування надприродного родинного зв’язку  між  групою людей (рід, плем’я) та певним видом тварин, птахів, або, рідше, рослин або явищ природи. Термін “тотемізм” походить від слова “ототеман”, що мовою одного з північноамериканських індіанських племен означає “його рід”. У науковій літературі даний термін починають вживати у XVIII ст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Зоолатрія</a:t>
            </a: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8839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оолатрія, або анімалізм, або культ тварин.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 Це сукупність обрядів та вірувань, що пов'язані з релігійним вшануванням певних тварин. Терміни походять або від грецьких слів (zoon – тварина,    latreia – служіння), або – від латинського  animal – тварина. Деякі дослідники вважають анімалізм найдавнішою формою релігійних уявлень, аргументуючи свою точку зору тим, що зображення тварин у печерах (Альтаміра та ін) мало ритуальній характер та свідчило про обожнення зображуваних тварин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17040"/>
            <a:ext cx="833436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 u="sng">
                <a:solidFill>
                  <a:srgbClr val="006666"/>
                </a:solidFill>
                <a:uFillTx/>
                <a:latin typeface="Arial"/>
              </a:rPr>
              <a:t>ПОЛІТИЧНА ДОКТРИНА ІСЛАМУ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0" y="2057400"/>
            <a:ext cx="2036520" cy="685800"/>
            <a:chOff x="0" y="2057400"/>
            <a:chExt cx="2036520" cy="685800"/>
          </a:xfrm>
        </p:grpSpPr>
        <p:sp>
          <p:nvSpPr>
            <p:cNvPr id="275" name=""/>
            <p:cNvSpPr/>
            <p:nvPr/>
          </p:nvSpPr>
          <p:spPr>
            <a:xfrm>
              <a:off x="1710720" y="2438640"/>
              <a:ext cx="32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0" y="2057400"/>
              <a:ext cx="179244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оловн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прям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0" y="3962520"/>
            <a:ext cx="2036520" cy="685800"/>
            <a:chOff x="0" y="3962520"/>
            <a:chExt cx="2036520" cy="685800"/>
          </a:xfrm>
        </p:grpSpPr>
        <p:sp>
          <p:nvSpPr>
            <p:cNvPr id="278" name=""/>
            <p:cNvSpPr/>
            <p:nvPr/>
          </p:nvSpPr>
          <p:spPr>
            <a:xfrm>
              <a:off x="1710720" y="4343760"/>
              <a:ext cx="32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0" y="3962520"/>
              <a:ext cx="1792440" cy="685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ложенн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0" y="5638680"/>
            <a:ext cx="2036520" cy="838080"/>
            <a:chOff x="0" y="5638680"/>
            <a:chExt cx="2036520" cy="838080"/>
          </a:xfrm>
        </p:grpSpPr>
        <p:sp>
          <p:nvSpPr>
            <p:cNvPr id="281" name=""/>
            <p:cNvSpPr/>
            <p:nvPr/>
          </p:nvSpPr>
          <p:spPr>
            <a:xfrm>
              <a:off x="1710720" y="6104160"/>
              <a:ext cx="32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0" y="5638680"/>
              <a:ext cx="1792440" cy="838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оловн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ха</a:t>
              </a: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</a:rPr>
                <a:t>ні</a:t>
              </a: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м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</a:rPr>
                <a:t>втіленн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2157480" y="2157480"/>
            <a:ext cx="6681600" cy="7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іоналістсь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орматорськ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157480" y="3218040"/>
            <a:ext cx="6681600" cy="24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жава має абсолютне право власності, якщо сама знаходиться в руках охоронців та знавців Божих наказ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бмежується приватна власність, як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 вона  трудова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рати за приклад західне "суспільство споживання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ові, суспільні суперечності мають долатися шляхом духовної гармон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іфікація економічних і політичних систем усіх мусульманських держ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157480" y="5715000"/>
            <a:ext cx="668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ихад — священна боротьба за торжество ісламських принципів справедливості в усьому сві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500"/>
                            </p:stCondLst>
                            <p:childTnLst>
                              <p:par>
                                <p:cTn id="41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ff"/>
                </a:solidFill>
                <a:latin typeface="Arial"/>
              </a:rPr>
              <a:t>Питання класифікації релігій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У вітчизняній навчальній літературі найбільш розповсюдженою постає така класифікація релігійних вірувань у відповідності із їх історичним розвитком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Релігійні уявлення первісного суспільства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 (фетишизм, анімізм, тотемізм, магія, містеріальні культи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Регіонально-етнічні релігії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 (полідемонізм, політеїзм). Перехідною формою до наступного етапу вважають іудаїзм – це релігій певного народу (євреїв), але вона вже є монотеїзмом (шанування єдиного Бога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Світові релігії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 – релігії достатньо послідовного та принципового монотеїзму (буддизм, християнство, іслам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 u="sng">
                <a:solidFill>
                  <a:srgbClr val="006666"/>
                </a:solidFill>
                <a:uFillTx/>
                <a:latin typeface="Arial"/>
              </a:rPr>
              <a:t>ПОЛІТИЧНА ТЕОРІЯ КАТОЛИЦИЗМУ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457200" y="1820880"/>
            <a:ext cx="1905120" cy="998280"/>
            <a:chOff x="457200" y="1820880"/>
            <a:chExt cx="1905120" cy="998280"/>
          </a:xfrm>
        </p:grpSpPr>
        <p:sp>
          <p:nvSpPr>
            <p:cNvPr id="288" name=""/>
            <p:cNvSpPr/>
            <p:nvPr/>
          </p:nvSpPr>
          <p:spPr>
            <a:xfrm>
              <a:off x="2057400" y="237564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" y="1820880"/>
              <a:ext cx="1676520" cy="998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оловн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статі 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кументи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57200" y="3726000"/>
            <a:ext cx="1905120" cy="685800"/>
            <a:chOff x="457200" y="3726000"/>
            <a:chExt cx="1905120" cy="685800"/>
          </a:xfrm>
        </p:grpSpPr>
        <p:sp>
          <p:nvSpPr>
            <p:cNvPr id="291" name=""/>
            <p:cNvSpPr/>
            <p:nvPr/>
          </p:nvSpPr>
          <p:spPr>
            <a:xfrm>
              <a:off x="2057400" y="410724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57200" y="3726000"/>
              <a:ext cx="1676520" cy="685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ложенн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57200" y="5402160"/>
            <a:ext cx="1905120" cy="921960"/>
            <a:chOff x="457200" y="5402160"/>
            <a:chExt cx="1905120" cy="921960"/>
          </a:xfrm>
        </p:grpSpPr>
        <p:sp>
          <p:nvSpPr>
            <p:cNvPr id="294" name=""/>
            <p:cNvSpPr/>
            <p:nvPr/>
          </p:nvSpPr>
          <p:spPr>
            <a:xfrm>
              <a:off x="2057400" y="59140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57200" y="5402160"/>
              <a:ext cx="1676520" cy="9219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оловн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ха</a:t>
              </a: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</a:rPr>
                <a:t>ні</a:t>
              </a: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</a:rPr>
                <a:t>втіленн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2590920" y="1744560"/>
            <a:ext cx="62481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густин Блажений ("Сповідь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ма Аквінський  ("Суми теології"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II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а Лев ("Нові речі", 1892 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а Іоган Павл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нцикліка "Століття", 1991 р.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90920" y="2963880"/>
            <a:ext cx="6172200" cy="28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комунізм залишив великий шрам на обличчях багатьох народі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потрібно підтримати посткомуністичні положення  краї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посткомуністичні народи мають здебільшого самі споратись зі своїм тоталітарним минули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вади капіталізму далеко не щез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і сьогодні можливе поширення радикаль­ної ідеології капіталістичного типу, яка призвела б до неконтрольованого рин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громадянське суспільство — предмет особливої ува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5478480"/>
            <a:ext cx="6553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рення світських навколоцерковних механізми організаці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іонування християнських політич­них парті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ристання ЗМІ тощ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Паломництво в Ісламі (Мекка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4572000" cy="38098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4114800" cy="26672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4724280" y="4000680"/>
            <a:ext cx="41436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4560"/>
            <a:ext cx="73134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Класифікація релігій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68360" y="907920"/>
            <a:ext cx="8208360" cy="5688720"/>
            <a:chOff x="468360" y="907920"/>
            <a:chExt cx="8208360" cy="5688720"/>
          </a:xfrm>
        </p:grpSpPr>
        <p:cxnSp>
          <p:nvCxnSpPr>
            <p:cNvPr id="122" name="_s6149"/>
            <p:cNvCxnSpPr>
              <a:stCxn id="123" idx="0"/>
              <a:endCxn id="124" idx="2"/>
            </p:cNvCxnSpPr>
            <p:nvPr/>
          </p:nvCxnSpPr>
          <p:spPr>
            <a:xfrm flipV="1">
              <a:off x="4572720" y="4462560"/>
              <a:ext cx="3600" cy="711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6150"/>
            <p:cNvCxnSpPr>
              <a:stCxn id="126" idx="0"/>
              <a:endCxn id="127" idx="2"/>
            </p:cNvCxnSpPr>
            <p:nvPr/>
          </p:nvCxnSpPr>
          <p:spPr>
            <a:xfrm flipV="1">
              <a:off x="1699560" y="4462560"/>
              <a:ext cx="3600" cy="711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6151"/>
            <p:cNvCxnSpPr>
              <a:stCxn id="129" idx="0"/>
              <a:endCxn id="130" idx="2"/>
            </p:cNvCxnSpPr>
            <p:nvPr/>
          </p:nvCxnSpPr>
          <p:spPr>
            <a:xfrm flipV="1" rot="16200000">
              <a:off x="5653080" y="1248120"/>
              <a:ext cx="711720" cy="2873520"/>
            </a:xfrm>
            <a:prstGeom prst="bentConnector3">
              <a:avLst>
                <a:gd name="adj1" fmla="val 199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6152"/>
            <p:cNvCxnSpPr>
              <a:stCxn id="124" idx="0"/>
              <a:endCxn id="130" idx="2"/>
            </p:cNvCxnSpPr>
            <p:nvPr/>
          </p:nvCxnSpPr>
          <p:spPr>
            <a:xfrm flipV="1">
              <a:off x="4572720" y="2329200"/>
              <a:ext cx="3600" cy="711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6153"/>
            <p:cNvCxnSpPr>
              <a:stCxn id="127" idx="0"/>
              <a:endCxn id="130" idx="2"/>
            </p:cNvCxnSpPr>
            <p:nvPr/>
          </p:nvCxnSpPr>
          <p:spPr>
            <a:xfrm flipH="1" flipV="1" rot="5400000">
              <a:off x="2780280" y="1248480"/>
              <a:ext cx="711720" cy="2873520"/>
            </a:xfrm>
            <a:prstGeom prst="bentConnector3">
              <a:avLst>
                <a:gd name="adj1" fmla="val 199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0" name="_s6154"/>
            <p:cNvSpPr/>
            <p:nvPr/>
          </p:nvSpPr>
          <p:spPr>
            <a:xfrm>
              <a:off x="3341160" y="907920"/>
              <a:ext cx="2462400" cy="1422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Релігі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6155"/>
            <p:cNvSpPr/>
            <p:nvPr/>
          </p:nvSpPr>
          <p:spPr>
            <a:xfrm>
              <a:off x="468360" y="3041280"/>
              <a:ext cx="2462400" cy="1422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Світов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6156"/>
            <p:cNvSpPr/>
            <p:nvPr/>
          </p:nvSpPr>
          <p:spPr>
            <a:xfrm>
              <a:off x="3341160" y="3041280"/>
              <a:ext cx="2462400" cy="1422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аціональн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6157"/>
            <p:cNvSpPr/>
            <p:nvPr/>
          </p:nvSpPr>
          <p:spPr>
            <a:xfrm>
              <a:off x="6214320" y="3041280"/>
              <a:ext cx="2462400" cy="1422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Місцев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віруванн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6158"/>
            <p:cNvSpPr/>
            <p:nvPr/>
          </p:nvSpPr>
          <p:spPr>
            <a:xfrm>
              <a:off x="468360" y="5174640"/>
              <a:ext cx="2462400" cy="1422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Ісла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Христия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Буддиз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6159"/>
            <p:cNvSpPr/>
            <p:nvPr/>
          </p:nvSpPr>
          <p:spPr>
            <a:xfrm>
              <a:off x="3341160" y="5174640"/>
              <a:ext cx="2462400" cy="1422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Індуїз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Сінтоїз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Іудаїз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Конфуці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5796000" y="1341360"/>
            <a:ext cx="30258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1413000"/>
            <a:ext cx="216252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50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20,-47,-122)"/>
                                      </p:to>
                                    </p:set>
                                    <p:set>
                                      <p:cBhvr>
                                        <p:cTn id="149" dur="50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20,-47,-122)"/>
                                      </p:to>
                                    </p:set>
                                    <p:set>
                                      <p:cBhvr>
                                        <p:cTn id="150" dur="50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4920"/>
            <a:ext cx="7313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Arial"/>
              </a:rPr>
              <a:t>Християнство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4941720"/>
            <a:ext cx="43210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Католициз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отестанств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Православ'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3816360" cy="3384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732720" y="620640"/>
            <a:ext cx="1974600" cy="2448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500720" y="2492280"/>
            <a:ext cx="23763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5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Буддизм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038480" cy="4608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788000" y="1916280"/>
            <a:ext cx="40384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77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" dur="770" fill="hold"/>
                                        <p:tgtEl>
                                          <p:spTgt spid="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9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1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77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770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0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2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920" y="-2433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Іслам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3466800" cy="4032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390920" y="1268280"/>
            <a:ext cx="4753080" cy="41767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68360" y="5589720"/>
            <a:ext cx="30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5516640"/>
            <a:ext cx="244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- Суні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- Шиї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ffff00"/>
                </a:solidFill>
                <a:uFillTx/>
                <a:latin typeface="Arial"/>
              </a:rPr>
              <a:t>Що таке релігія?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1025640" cy="110340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3124080" y="1447920"/>
            <a:ext cx="4792680" cy="571320"/>
            <a:chOff x="3124080" y="1447920"/>
            <a:chExt cx="4792680" cy="571320"/>
          </a:xfrm>
        </p:grpSpPr>
        <p:sp>
          <p:nvSpPr>
            <p:cNvPr id="151" name=""/>
            <p:cNvSpPr txBox="1"/>
            <p:nvPr/>
          </p:nvSpPr>
          <p:spPr>
            <a:xfrm>
              <a:off x="4419720" y="1447920"/>
              <a:ext cx="349704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a50021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форма культури</a:t>
              </a:r>
              <a:endParaRPr b="1" lang="en-US" sz="1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24080" y="152388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ffffcc"/>
            </a:solidFill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 txBox="1"/>
          <p:nvPr/>
        </p:nvSpPr>
        <p:spPr>
          <a:xfrm>
            <a:off x="3048120" y="2666880"/>
            <a:ext cx="37494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вітові релігії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295280" y="3276720"/>
            <a:ext cx="3581640" cy="2398680"/>
            <a:chOff x="1295280" y="3276720"/>
            <a:chExt cx="3581640" cy="2398680"/>
          </a:xfrm>
        </p:grpSpPr>
        <p:sp>
          <p:nvSpPr>
            <p:cNvPr id="155" name=""/>
            <p:cNvSpPr txBox="1"/>
            <p:nvPr/>
          </p:nvSpPr>
          <p:spPr>
            <a:xfrm>
              <a:off x="1295280" y="4800600"/>
              <a:ext cx="1866960" cy="874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будизм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057400" y="3276720"/>
              <a:ext cx="2819520" cy="160020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3660840" y="3276720"/>
            <a:ext cx="2849400" cy="1823760"/>
            <a:chOff x="3660840" y="3276720"/>
            <a:chExt cx="2849400" cy="1823760"/>
          </a:xfrm>
        </p:grpSpPr>
        <p:sp>
          <p:nvSpPr>
            <p:cNvPr id="158" name=""/>
            <p:cNvSpPr txBox="1"/>
            <p:nvPr/>
          </p:nvSpPr>
          <p:spPr>
            <a:xfrm>
              <a:off x="3660840" y="3814920"/>
              <a:ext cx="2849400" cy="128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християнство</a:t>
              </a:r>
              <a:endPara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76920" y="3276720"/>
              <a:ext cx="0" cy="68580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876920" y="3276720"/>
            <a:ext cx="3657600" cy="838080"/>
            <a:chOff x="4876920" y="3276720"/>
            <a:chExt cx="3657600" cy="838080"/>
          </a:xfrm>
        </p:grpSpPr>
        <p:sp>
          <p:nvSpPr>
            <p:cNvPr id="161" name=""/>
            <p:cNvSpPr txBox="1"/>
            <p:nvPr/>
          </p:nvSpPr>
          <p:spPr>
            <a:xfrm>
              <a:off x="7010280" y="3581280"/>
              <a:ext cx="15242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520402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875b0d"/>
                    </a:outerShdw>
                  </a:effectLst>
                  <a:latin typeface="Arial"/>
                </a:rPr>
                <a:t>іслам</a:t>
              </a:r>
              <a:endPara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76920" y="3276720"/>
              <a:ext cx="2057400" cy="45720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286000" y="4419720"/>
            <a:ext cx="6527160" cy="2304360"/>
            <a:chOff x="2286000" y="4419720"/>
            <a:chExt cx="6527160" cy="2304360"/>
          </a:xfrm>
        </p:grpSpPr>
        <p:sp>
          <p:nvSpPr>
            <p:cNvPr id="164" name=""/>
            <p:cNvSpPr/>
            <p:nvPr/>
          </p:nvSpPr>
          <p:spPr>
            <a:xfrm flipV="1">
              <a:off x="2286000" y="4419720"/>
              <a:ext cx="6172200" cy="167616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5105520" y="5105520"/>
              <a:ext cx="3707640" cy="1618560"/>
              <a:chOff x="5105520" y="5105520"/>
              <a:chExt cx="3707640" cy="1618560"/>
            </a:xfrm>
          </p:grpSpPr>
          <p:graphicFrame>
            <p:nvGraphicFramePr>
              <p:cNvPr id="166" name=""/>
              <p:cNvGraphicFramePr/>
              <p:nvPr/>
            </p:nvGraphicFramePr>
            <p:xfrm>
              <a:off x="5105520" y="5410080"/>
              <a:ext cx="707760" cy="122400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67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5105520" y="5410080"/>
                        <a:ext cx="707760" cy="1224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68" name=""/>
              <p:cNvSpPr/>
              <p:nvPr/>
            </p:nvSpPr>
            <p:spPr>
              <a:xfrm>
                <a:off x="6252120" y="5105520"/>
                <a:ext cx="2561040" cy="1618560"/>
              </a:xfrm>
              <a:prstGeom prst="rect">
                <a:avLst/>
              </a:prstGeom>
              <a:solidFill>
                <a:srgbClr val="ccffff"/>
              </a:solidFill>
              <a:ln w="7632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2000" spc="-1" strike="noStrike">
                    <a:solidFill>
                      <a:srgbClr val="000000"/>
                    </a:solidFill>
                    <a:latin typeface="Times New Roman"/>
                  </a:rPr>
                  <a:t>Церква – це етап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2000" spc="-1" strike="noStrike">
                    <a:solidFill>
                      <a:srgbClr val="000000"/>
                    </a:solidFill>
                    <a:latin typeface="Times New Roman"/>
                  </a:rPr>
                  <a:t>розвитку релігії :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2000" spc="-1" strike="noStrike">
                    <a:solidFill>
                      <a:srgbClr val="000000"/>
                    </a:solidFill>
                    <a:latin typeface="Times New Roman"/>
                  </a:rPr>
                  <a:t>- ієрархі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2000" spc="-1" strike="noStrike">
                    <a:solidFill>
                      <a:srgbClr val="000000"/>
                    </a:solidFill>
                    <a:latin typeface="Times New Roman"/>
                  </a:rPr>
                  <a:t>- священослужбовці,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2000" spc="-1" strike="noStrike">
                    <a:solidFill>
                      <a:srgbClr val="000000"/>
                    </a:solidFill>
                    <a:latin typeface="Times New Roman"/>
                  </a:rPr>
                  <a:t>- норми поведінки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ffff00"/>
                </a:solidFill>
                <a:uFillTx/>
                <a:latin typeface="Arial"/>
              </a:rPr>
              <a:t>Поняття і сутність релігії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235160"/>
            <a:ext cx="914400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Times New Roman"/>
              </a:rPr>
              <a:t>РЕЛІІЯ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1" lang="uk-UA" sz="2400" spc="-1" strike="noStrike">
                <a:solidFill>
                  <a:srgbClr val="ffffcc"/>
                </a:solidFill>
                <a:latin typeface="Times New Roman"/>
              </a:rPr>
              <a:t>це особливі погляди та уявлення люд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cc"/>
                </a:solidFill>
                <a:latin typeface="Times New Roman"/>
              </a:rPr>
              <a:t>пов'язані з відповідними їм обрядами і культурою.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219320" y="2286000"/>
            <a:ext cx="1404720" cy="1600200"/>
            <a:chOff x="1219320" y="2286000"/>
            <a:chExt cx="1404720" cy="1600200"/>
          </a:xfrm>
        </p:grpSpPr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1219320" y="2286000"/>
              <a:ext cx="1404720" cy="12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 txBox="1"/>
            <p:nvPr/>
          </p:nvSpPr>
          <p:spPr>
            <a:xfrm>
              <a:off x="1219320" y="3543120"/>
              <a:ext cx="1311120" cy="34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3399"/>
                  </a:solidFill>
                  <a:latin typeface="Arial"/>
                </a:rPr>
                <a:t>ВІРА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99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290760" y="2943360"/>
            <a:ext cx="5015160" cy="561960"/>
            <a:chOff x="3290760" y="2943360"/>
            <a:chExt cx="5015160" cy="561960"/>
          </a:xfrm>
        </p:grpSpPr>
        <p:sp>
          <p:nvSpPr>
            <p:cNvPr id="175" name=""/>
            <p:cNvSpPr txBox="1"/>
            <p:nvPr/>
          </p:nvSpPr>
          <p:spPr>
            <a:xfrm>
              <a:off x="4694400" y="2971800"/>
              <a:ext cx="361152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cc"/>
                    </a:solidFill>
                    <a:miter/>
                  </a:ln>
                  <a:solidFill>
                    <a:srgbClr val="ccffff"/>
                  </a:solidFill>
                  <a:latin typeface="Arial"/>
                </a:rPr>
                <a:t>основа религії</a:t>
              </a:r>
              <a:endParaRPr b="1" lang="en-US" sz="1800" spc="1" strike="noStrike">
                <a:ln w="28440">
                  <a:solidFill>
                    <a:srgbClr val="0000cc"/>
                  </a:solidFill>
                  <a:miter/>
                </a:ln>
                <a:solidFill>
                  <a:srgbClr val="ccffff"/>
                </a:solidFill>
                <a:latin typeface="Arial"/>
                <a:ea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90760" y="294336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cc3399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514600" y="3581280"/>
            <a:ext cx="2841840" cy="536040"/>
            <a:chOff x="2514600" y="3581280"/>
            <a:chExt cx="2841840" cy="536040"/>
          </a:xfrm>
        </p:grpSpPr>
        <p:sp>
          <p:nvSpPr>
            <p:cNvPr id="178" name=""/>
            <p:cNvSpPr/>
            <p:nvPr/>
          </p:nvSpPr>
          <p:spPr>
            <a:xfrm>
              <a:off x="2514600" y="3581280"/>
              <a:ext cx="762120" cy="3049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27120" y="3657600"/>
              <a:ext cx="2029320" cy="45972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a50021"/>
                  </a:solidFill>
                  <a:latin typeface="Times New Roman"/>
                </a:rPr>
                <a:t>Поза логіко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 txBox="1"/>
          <p:nvPr/>
        </p:nvSpPr>
        <p:spPr>
          <a:xfrm>
            <a:off x="2819520" y="4267080"/>
            <a:ext cx="4259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</a:rPr>
              <a:t>Особливості віри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4924440"/>
            <a:ext cx="821844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іра в існування Бог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людина наділена Богом свободою волі та вибо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- відповідальність людини перед Богом за свої дії та за майбутнє своєї душ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ver</cp:lastModifiedBy>
  <dcterms:modified xsi:type="dcterms:W3CDTF">2009-02-22T21:27:5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