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5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5.png" ContentType="image/png"/>
  <Override PartName="/ppt/media/image3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38.wmf" ContentType="image/x-wmf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41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11.png" ContentType="image/png"/>
  <Override PartName="/ppt/media/image47.jpeg" ContentType="image/jpeg"/>
  <Override PartName="/ppt/media/image40.wmf" ContentType="image/x-wmf"/>
  <Override PartName="/ppt/media/image34.jpeg" ContentType="image/jpeg"/>
  <Override PartName="/ppt/media/image31.wmf" ContentType="image/x-wmf"/>
  <Override PartName="/ppt/media/image7.jpeg" ContentType="image/jpeg"/>
  <Override PartName="/ppt/media/image48.jpeg" ContentType="image/jpeg"/>
  <Override PartName="/ppt/media/image53.jpeg" ContentType="image/jpeg"/>
  <Override PartName="/ppt/media/image35.wmf" ContentType="image/x-wmf"/>
  <Override PartName="/ppt/media/image37.wmf" ContentType="image/x-wmf"/>
  <Override PartName="/ppt/media/image30.jpeg" ContentType="image/jpeg"/>
  <Override PartName="/ppt/media/image56.jpeg" ContentType="image/jpeg"/>
  <Override PartName="/ppt/media/image12.png" ContentType="image/png"/>
  <Override PartName="/ppt/media/image9.png" ContentType="image/png"/>
  <Override PartName="/ppt/media/image42.wmf" ContentType="image/x-wmf"/>
  <Override PartName="/ppt/media/image39.jpeg" ContentType="image/jpeg"/>
  <Override PartName="/ppt/media/image8.jpeg" ContentType="image/jpeg"/>
  <Override PartName="/ppt/media/image29.jpeg" ContentType="image/jpeg"/>
  <Override PartName="/ppt/media/image52.jpeg" ContentType="image/jpeg"/>
  <Override PartName="/ppt/media/image33.wmf" ContentType="image/x-wmf"/>
  <Override PartName="/ppt/media/image28.jpeg" ContentType="image/jpeg"/>
  <Override PartName="/ppt/media/image51.jpeg" ContentType="image/jpeg"/>
  <Override PartName="/ppt/media/image13.png" ContentType="image/png"/>
  <Override PartName="/ppt/media/image5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5F2E-91C4-4856-BA2E-87A648A3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B1A-64A1-48E0-A094-8508CBC0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7A0E-2581-48BC-9BD2-9AF3D00B6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C2E2-F1BE-4E77-96AC-DDE3901C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FC6D-51D1-4CAE-B0AC-FA658E3B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A2E7-9637-4CE0-9051-512B3630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7FB2-3C72-4EE3-9C44-20B5A5CD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4003-2C9D-4CA5-8CFD-F3CB6FAD8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1D90-DD72-45DE-B8E9-0D8D2F8E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0C398-F97B-4C21-9C46-8DDCA5EE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5234-2207-40A8-997A-7AF5A4F9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B775-6CB5-471E-B77A-85BA0FBF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CB9F-21EE-47ED-8F78-B3B543FB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CDEC-3F63-4775-B8FF-6467313D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E53E-FF08-4374-8245-E36EFB4B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9D29-B81E-4C66-8D43-32433D42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EC87-75C4-4343-95A7-027411AE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6C0-7CFB-40F7-B22E-71C6D7A8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2FC-FB69-4B4B-BE0E-D36E7159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D54B-01CF-4558-805C-C4B44B2B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6FEE-71E8-4E32-8202-6D774ED6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9D9-FD80-4A73-9675-8F36D792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BB26-21C6-4617-AA10-8220730F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D311-977B-492B-ACA4-E307C2C0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17B3-232B-41E2-9CF0-9E1448C4D6C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6A054-101C-49DD-AF0E-837CFB42FC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0" y="1143000"/>
            <a:ext cx="2971800" cy="1946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3047760" cy="20480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666880" y="4508640"/>
            <a:ext cx="2667240" cy="230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6259680" y="18900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82440" y="4724280"/>
            <a:ext cx="2667240" cy="2021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732720" y="2590920"/>
            <a:ext cx="2361960" cy="1638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125280" y="3159000"/>
            <a:ext cx="2894040" cy="19465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1370160" y="2209680"/>
            <a:ext cx="1355400" cy="16002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534960" y="304920"/>
            <a:ext cx="2208240" cy="165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0"/>
          <a:stretch/>
        </p:blipFill>
        <p:spPr>
          <a:xfrm>
            <a:off x="4952880" y="5589720"/>
            <a:ext cx="1751040" cy="121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1"/>
          <a:stretch/>
        </p:blipFill>
        <p:spPr>
          <a:xfrm>
            <a:off x="2817720" y="26028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2"/>
          <a:stretch/>
        </p:blipFill>
        <p:spPr>
          <a:xfrm>
            <a:off x="2743200" y="1066680"/>
            <a:ext cx="1905120" cy="1390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3"/>
          <a:stretch/>
        </p:blipFill>
        <p:spPr>
          <a:xfrm>
            <a:off x="5180040" y="3124080"/>
            <a:ext cx="1677960" cy="1371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08000" y="167652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5"/>
          <a:stretch/>
        </p:blipFill>
        <p:spPr>
          <a:xfrm>
            <a:off x="4233960" y="189000"/>
            <a:ext cx="2133360" cy="16542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6"/>
          <a:stretch/>
        </p:blipFill>
        <p:spPr>
          <a:xfrm>
            <a:off x="4572000" y="3809880"/>
            <a:ext cx="2362320" cy="1771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7"/>
          <a:stretch/>
        </p:blipFill>
        <p:spPr>
          <a:xfrm>
            <a:off x="41911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8"/>
          <a:stretch/>
        </p:blipFill>
        <p:spPr>
          <a:xfrm>
            <a:off x="5854680" y="3048120"/>
            <a:ext cx="3201840" cy="243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9"/>
          <a:stretch/>
        </p:blipFill>
        <p:spPr>
          <a:xfrm>
            <a:off x="6124680" y="46530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0"/>
          <a:stretch/>
        </p:blipFill>
        <p:spPr>
          <a:xfrm>
            <a:off x="1600200" y="4365720"/>
            <a:ext cx="3506760" cy="236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1"/>
          <a:stretch/>
        </p:blipFill>
        <p:spPr>
          <a:xfrm>
            <a:off x="5450040" y="1890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2"/>
          <a:stretch/>
        </p:blipFill>
        <p:spPr>
          <a:xfrm>
            <a:off x="2894040" y="2971800"/>
            <a:ext cx="2363760" cy="1771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3"/>
          <a:stretch/>
        </p:blipFill>
        <p:spPr>
          <a:xfrm>
            <a:off x="2286000" y="2057400"/>
            <a:ext cx="2440080" cy="1662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0"/>
            <a:ext cx="914400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0000"/>
                </a:solidFill>
                <a:latin typeface="Times New Roman"/>
              </a:rPr>
              <a:t>КОНФЕСІЙНИЙ СКЛАД РЕГІОНІВ СВІТ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47920" y="4495320"/>
            <a:ext cx="7238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00"/>
                </a:solidFill>
                <a:latin typeface="Verdana"/>
              </a:rPr>
              <a:t>Семінарське заняття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700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90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3000"/>
                            </p:stCondLst>
                            <p:childTnLst>
                              <p:par>
                                <p:cTn id="8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0"/>
                            </p:stCondLst>
                            <p:childTnLst>
                              <p:par>
                                <p:cTn id="9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70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7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90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1149840" y="1371600"/>
            <a:ext cx="1643760" cy="2410560"/>
            <a:chOff x="1149840" y="1371600"/>
            <a:chExt cx="1643760" cy="241056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325520" y="1371600"/>
              <a:ext cx="1285920" cy="13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149840" y="2590920"/>
              <a:ext cx="16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Розмаїтт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релігійни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вчен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124080" y="1143000"/>
            <a:ext cx="3441960" cy="581040"/>
            <a:chOff x="3124080" y="1143000"/>
            <a:chExt cx="3441960" cy="581040"/>
          </a:xfrm>
        </p:grpSpPr>
        <p:sp>
          <p:nvSpPr>
            <p:cNvPr id="186" name=""/>
            <p:cNvSpPr txBox="1"/>
            <p:nvPr/>
          </p:nvSpPr>
          <p:spPr>
            <a:xfrm>
              <a:off x="4343400" y="1143000"/>
              <a:ext cx="222264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політеізм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24080" y="144792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124080" y="1905120"/>
            <a:ext cx="3441960" cy="581040"/>
            <a:chOff x="3124080" y="1905120"/>
            <a:chExt cx="3441960" cy="581040"/>
          </a:xfrm>
        </p:grpSpPr>
        <p:sp>
          <p:nvSpPr>
            <p:cNvPr id="189" name=""/>
            <p:cNvSpPr txBox="1"/>
            <p:nvPr/>
          </p:nvSpPr>
          <p:spPr>
            <a:xfrm>
              <a:off x="4343400" y="1905120"/>
              <a:ext cx="222264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монотеізм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24080" y="218448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124080" y="2666880"/>
            <a:ext cx="5410440" cy="581040"/>
            <a:chOff x="3124080" y="2666880"/>
            <a:chExt cx="5410440" cy="581040"/>
          </a:xfrm>
        </p:grpSpPr>
        <p:sp>
          <p:nvSpPr>
            <p:cNvPr id="192" name=""/>
            <p:cNvSpPr txBox="1"/>
            <p:nvPr/>
          </p:nvSpPr>
          <p:spPr>
            <a:xfrm>
              <a:off x="4343400" y="2666880"/>
              <a:ext cx="41911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аціональні религії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24080" y="292104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124080" y="3429000"/>
            <a:ext cx="5410440" cy="581040"/>
            <a:chOff x="3124080" y="3429000"/>
            <a:chExt cx="5410440" cy="581040"/>
          </a:xfrm>
        </p:grpSpPr>
        <p:sp>
          <p:nvSpPr>
            <p:cNvPr id="195" name=""/>
            <p:cNvSpPr txBox="1"/>
            <p:nvPr/>
          </p:nvSpPr>
          <p:spPr>
            <a:xfrm>
              <a:off x="4343400" y="3429000"/>
              <a:ext cx="4191120" cy="581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світові религії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24080" y="3657600"/>
              <a:ext cx="1143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1221840" y="4572000"/>
            <a:ext cx="1423080" cy="1755000"/>
            <a:chOff x="1221840" y="4572000"/>
            <a:chExt cx="1423080" cy="1755000"/>
          </a:xfrm>
        </p:grpSpPr>
        <p:pic>
          <p:nvPicPr>
            <p:cNvPr id="198" name="" descr=""/>
            <p:cNvPicPr/>
            <p:nvPr/>
          </p:nvPicPr>
          <p:blipFill>
            <a:blip r:embed="rId2"/>
            <a:stretch/>
          </p:blipFill>
          <p:spPr>
            <a:xfrm>
              <a:off x="1371240" y="4572000"/>
              <a:ext cx="1036440" cy="141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1221840" y="5867280"/>
              <a:ext cx="142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Буддизм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066680" y="411480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46240" y="4267080"/>
            <a:ext cx="5659560" cy="11912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любов та милосердя до усього живо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неможна платити за зло зл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відмова від усякої влас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124080" y="5562720"/>
            <a:ext cx="5486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Бірма,Камбоджа,Таіланд+ Японі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7760" y="6095880"/>
            <a:ext cx="545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cc"/>
                </a:solidFill>
                <a:uFillTx/>
                <a:latin typeface="Times New Roman"/>
              </a:rPr>
              <a:t>Перетворюється із релігії в філософі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Функціональна структура релігійної сфери 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063440" y="1600200"/>
            <a:ext cx="2079720" cy="1907640"/>
            <a:chOff x="1063440" y="1600200"/>
            <a:chExt cx="2079720" cy="1907640"/>
          </a:xfrm>
        </p:grpSpPr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1463760" y="1600200"/>
              <a:ext cx="1268280" cy="160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1063440" y="3048120"/>
              <a:ext cx="207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христия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50560" y="1219320"/>
            <a:ext cx="4069800" cy="2654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Заповіді Мойс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вб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вкрад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прелюбоді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шануй мати і батька твої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створи собі кумир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 не кажи імені Бога в сує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316240" y="4038480"/>
            <a:ext cx="50752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ичина негараздів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греховність люд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143000" y="5578560"/>
            <a:ext cx="3238560" cy="51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bf00"/>
                    </a:gs>
                    <a:gs pos="50000">
                      <a:srgbClr val="000000"/>
                    </a:gs>
                    <a:gs pos="100000">
                      <a:srgbClr val="ffbf00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1054 р - розпад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bf00"/>
                  </a:gs>
                  <a:gs pos="50000">
                    <a:srgbClr val="000000"/>
                  </a:gs>
                  <a:gs pos="100000">
                    <a:srgbClr val="ffbf00"/>
                  </a:gs>
                </a:gsLst>
                <a:lin ang="108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722920" y="5257800"/>
            <a:ext cx="2583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Появ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Arial"/>
              </a:rPr>
              <a:t>сек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latin typeface="Arial"/>
              <a:ea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595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Функціональна структура релігійної сфер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515960" y="1828800"/>
            <a:ext cx="1532160" cy="1297800"/>
            <a:chOff x="1515960" y="1828800"/>
            <a:chExt cx="1532160" cy="1297800"/>
          </a:xfrm>
        </p:grpSpPr>
        <p:pic>
          <p:nvPicPr>
            <p:cNvPr id="214" name="" descr=""/>
            <p:cNvPicPr/>
            <p:nvPr/>
          </p:nvPicPr>
          <p:blipFill>
            <a:blip r:embed="rId1"/>
            <a:stretch/>
          </p:blipFill>
          <p:spPr>
            <a:xfrm>
              <a:off x="1515960" y="1828800"/>
              <a:ext cx="1532160" cy="9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1725480" y="2666880"/>
              <a:ext cx="108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776040" y="1184400"/>
            <a:ext cx="403344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0000"/>
                </a:solidFill>
                <a:uFillTx/>
                <a:latin typeface="Times New Roman"/>
              </a:rPr>
              <a:t>«іслам» - покірність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людина – слабка іст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уповання на милість Б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покірність Аллаху і владі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активне втручання в ус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фери життєдіяльно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676520" y="3733920"/>
            <a:ext cx="655308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ісламізаці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010160" y="4530600"/>
            <a:ext cx="3385440" cy="2025000"/>
            <a:chOff x="1010160" y="4530600"/>
            <a:chExt cx="3385440" cy="2025000"/>
          </a:xfrm>
        </p:grpSpPr>
        <p:sp>
          <p:nvSpPr>
            <p:cNvPr id="219" name=""/>
            <p:cNvSpPr txBox="1"/>
            <p:nvPr/>
          </p:nvSpPr>
          <p:spPr>
            <a:xfrm>
              <a:off x="1111320" y="4530600"/>
              <a:ext cx="3284280" cy="160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політичні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программ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в низці країн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10160" y="6095880"/>
              <a:ext cx="31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Пакистан, Іран, Ліві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4500000" y="4495680"/>
            <a:ext cx="4186800" cy="2059920"/>
            <a:chOff x="4500000" y="4495680"/>
            <a:chExt cx="4186800" cy="2059920"/>
          </a:xfrm>
        </p:grpSpPr>
        <p:sp>
          <p:nvSpPr>
            <p:cNvPr id="222" name=""/>
            <p:cNvSpPr txBox="1"/>
            <p:nvPr/>
          </p:nvSpPr>
          <p:spPr>
            <a:xfrm>
              <a:off x="4800600" y="4495680"/>
              <a:ext cx="3886200" cy="1524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Поширення  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іслама в нові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b2b2b2"/>
                  </a:solidFill>
                  <a:latin typeface="Arial"/>
                </a:rPr>
                <a:t>райони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2b2b2"/>
                </a:solidFill>
                <a:latin typeface="Arial"/>
                <a:ea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500000" y="6095880"/>
              <a:ext cx="392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Азія, Африка, Індія, Д.Схі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539640" y="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Times New Roman"/>
                <a:ea typeface="Arial"/>
              </a:rPr>
              <a:t>Функціональна структура релігійної сф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900000" y="1295280"/>
            <a:ext cx="1668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інець 20 с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666880" y="1066680"/>
            <a:ext cx="5791320" cy="1143000"/>
            <a:chOff x="2666880" y="1066680"/>
            <a:chExt cx="5791320" cy="1143000"/>
          </a:xfrm>
        </p:grpSpPr>
        <p:sp>
          <p:nvSpPr>
            <p:cNvPr id="227" name=""/>
            <p:cNvSpPr txBox="1"/>
            <p:nvPr/>
          </p:nvSpPr>
          <p:spPr>
            <a:xfrm>
              <a:off x="3932280" y="1066680"/>
              <a:ext cx="4525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ростання впливу 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религії в світі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6880" y="1599840"/>
              <a:ext cx="10670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1219320" y="2286000"/>
            <a:ext cx="7619760" cy="1752480"/>
            <a:chOff x="1219320" y="2286000"/>
            <a:chExt cx="7619760" cy="1752480"/>
          </a:xfrm>
        </p:grpSpPr>
        <p:sp>
          <p:nvSpPr>
            <p:cNvPr id="230" name=""/>
            <p:cNvSpPr/>
            <p:nvPr/>
          </p:nvSpPr>
          <p:spPr>
            <a:xfrm>
              <a:off x="1219320" y="2286000"/>
              <a:ext cx="7619760" cy="457200"/>
            </a:xfrm>
            <a:prstGeom prst="downArrowCallout">
              <a:avLst>
                <a:gd name="adj1" fmla="val 22841"/>
                <a:gd name="adj2" fmla="val 53085"/>
                <a:gd name="adj3" fmla="val 43750"/>
                <a:gd name="adj4" fmla="val 17708"/>
              </a:avLst>
            </a:prstGeom>
            <a:solidFill>
              <a:srgbClr val="ffcc00"/>
            </a:solidFill>
            <a:ln w="38160">
              <a:solidFill>
                <a:srgbClr val="cc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2217600" y="2895480"/>
              <a:ext cx="5554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3399"/>
                    </a:solidFill>
                    <a:miter/>
                  </a:ln>
                  <a:blipFill rotWithShape="0">
                    <a:blip r:embed="rId3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актуальність пропаганди </a:t>
              </a:r>
              <a:endParaRPr b="1" lang="en-US" sz="1800" spc="1" strike="noStrike">
                <a:ln w="9360">
                  <a:solidFill>
                    <a:srgbClr val="cc3399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3399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моральних цінностей</a:t>
              </a:r>
              <a:endParaRPr b="1" lang="en-US" sz="1800" spc="1" strike="noStrike">
                <a:ln w="9360">
                  <a:solidFill>
                    <a:srgbClr val="cc3399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143000" y="4191120"/>
            <a:ext cx="2674800" cy="1314360"/>
            <a:chOff x="1143000" y="4191120"/>
            <a:chExt cx="2674800" cy="1314360"/>
          </a:xfrm>
        </p:grpSpPr>
        <p:grpSp>
          <p:nvGrpSpPr>
            <p:cNvPr id="233" name=""/>
            <p:cNvGrpSpPr/>
            <p:nvPr/>
          </p:nvGrpSpPr>
          <p:grpSpPr>
            <a:xfrm>
              <a:off x="1143000" y="4495680"/>
              <a:ext cx="685800" cy="685800"/>
              <a:chOff x="1143000" y="4495680"/>
              <a:chExt cx="685800" cy="685800"/>
            </a:xfrm>
          </p:grpSpPr>
          <p:sp>
            <p:nvSpPr>
              <p:cNvPr id="234" name=""/>
              <p:cNvSpPr/>
              <p:nvPr/>
            </p:nvSpPr>
            <p:spPr>
              <a:xfrm>
                <a:off x="114300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114264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" name=""/>
            <p:cNvSpPr txBox="1"/>
            <p:nvPr/>
          </p:nvSpPr>
          <p:spPr>
            <a:xfrm>
              <a:off x="2057400" y="4191120"/>
              <a:ext cx="176040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вміння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заспокоїти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4191120" y="4114800"/>
            <a:ext cx="4449600" cy="1314360"/>
            <a:chOff x="4191120" y="4114800"/>
            <a:chExt cx="4449600" cy="1314360"/>
          </a:xfrm>
        </p:grpSpPr>
        <p:grpSp>
          <p:nvGrpSpPr>
            <p:cNvPr id="238" name=""/>
            <p:cNvGrpSpPr/>
            <p:nvPr/>
          </p:nvGrpSpPr>
          <p:grpSpPr>
            <a:xfrm>
              <a:off x="4191120" y="4495680"/>
              <a:ext cx="685800" cy="685800"/>
              <a:chOff x="4191120" y="4495680"/>
              <a:chExt cx="685800" cy="685800"/>
            </a:xfrm>
          </p:grpSpPr>
          <p:sp>
            <p:nvSpPr>
              <p:cNvPr id="239" name=""/>
              <p:cNvSpPr/>
              <p:nvPr/>
            </p:nvSpPr>
            <p:spPr>
              <a:xfrm>
                <a:off x="419112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5400000">
                <a:off x="4190760" y="47624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 txBox="1"/>
            <p:nvPr/>
          </p:nvSpPr>
          <p:spPr>
            <a:xfrm>
              <a:off x="5257800" y="4114800"/>
              <a:ext cx="338292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соціальна 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нестабільність</a:t>
              </a:r>
              <a:endPara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1981080" y="5562720"/>
            <a:ext cx="5646960" cy="1314360"/>
            <a:chOff x="1981080" y="5562720"/>
            <a:chExt cx="5646960" cy="1314360"/>
          </a:xfrm>
        </p:grpSpPr>
        <p:grpSp>
          <p:nvGrpSpPr>
            <p:cNvPr id="243" name=""/>
            <p:cNvGrpSpPr/>
            <p:nvPr/>
          </p:nvGrpSpPr>
          <p:grpSpPr>
            <a:xfrm>
              <a:off x="1981080" y="5867280"/>
              <a:ext cx="685800" cy="685800"/>
              <a:chOff x="1981080" y="5867280"/>
              <a:chExt cx="685800" cy="685800"/>
            </a:xfrm>
          </p:grpSpPr>
          <p:sp>
            <p:nvSpPr>
              <p:cNvPr id="244" name=""/>
              <p:cNvSpPr/>
              <p:nvPr/>
            </p:nvSpPr>
            <p:spPr>
              <a:xfrm>
                <a:off x="1981080" y="61340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400000">
                <a:off x="1980720" y="6134040"/>
                <a:ext cx="685800" cy="152280"/>
              </a:xfrm>
              <a:prstGeom prst="rect">
                <a:avLst/>
              </a:prstGeom>
              <a:solidFill>
                <a:srgbClr val="ffcc00"/>
              </a:solidFill>
              <a:ln w="28440">
                <a:solidFill>
                  <a:srgbClr val="cc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 txBox="1"/>
            <p:nvPr/>
          </p:nvSpPr>
          <p:spPr>
            <a:xfrm>
              <a:off x="2819520" y="5562720"/>
              <a:ext cx="4808520" cy="131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0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збереження культурних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Impact"/>
                </a:rPr>
                <a:t>цінностей</a:t>
              </a:r>
              <a:endPara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71760" y="328680"/>
            <a:ext cx="7108560" cy="6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Необхідність дослідженн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6483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6019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243080" y="0"/>
            <a:ext cx="6657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1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006666"/>
                </a:solidFill>
                <a:latin typeface="Arial"/>
              </a:rPr>
              <a:t>Питання для обговорення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153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Класифікація релігій світу. Історико-географічні аспекти розвитку та поширення релігій світу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Первісні та місцеві традиційні вірування та культ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Національні релігії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Світові релігії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Verdana"/>
              </a:rPr>
              <a:t>Релігійна геоситуація в сучасному світі (макрорегіони Європа, Америка, Азія, Африка, Австралія і Океанія)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3357720"/>
            <a:ext cx="676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Концепція пратеїзму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Сутність: найдавніші люди були настільки тісно пов’язані з природою та з власною простою практичною діяльністю, що їх свідомість була тісно перепліталась із практичними діями і не була придатною навіть до мінімальних абстрактних або відірваних від наочного міркувань, в тому числі й релігійних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Але, оскільки дана концепція грунтується не стільки на фактах, скільки на їх тлумаченні, багато дослідників теж вважають її сумнівною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Теорія страху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700" spc="-1" strike="noStrike">
                <a:solidFill>
                  <a:srgbClr val="000000"/>
                </a:solidFill>
                <a:latin typeface="Times New Roman"/>
              </a:rPr>
              <a:t>Відповідно до цієї концепції первісні люди боялися певних природних явищ (пожежі, шторму на морі), і пов’язували ці явища з діями надзвичайно могутніх істот – демонів, богів (бо явища були масштабними). За аналогією з власними вчинками (“захочу – зламаю гілку, не захочу – не зламаю,  якщо мене просять не ламати – не буду”) вони вважали, що за їхнім проханням могутні істоти можуть  і не чинити своїх жахливих дій. Тому первісні люди споруджували богам храми, молилися їм та приносили їм пожертви.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Теорія обману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83908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Сутність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: виникнення релігії як результат вигадок вождів, жреців та законодавців, які посилалися на авторитет богів та демонів, щоб змусити людей дослухатися до рішень та вимог керівників суспільства. Одним з перших цю теорію висуває Крітій (біля 460-430 рр. до н.е.), в подальшому її підтримували енциклопедисти ХVII-XVIII ст.у Франції – Франсуа Вольтер (1694-1778), Жан Жак Руссо (1712-1778)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Arial"/>
              </a:rPr>
              <a:t>Теорія</a:t>
            </a: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66ff"/>
                </a:solidFill>
                <a:latin typeface="Arial"/>
              </a:rPr>
              <a:t>обмеженості знань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Сутність: релігія виникає як спосіб донаукового пояснення незрозумілих явищ природи, а в подальшому – і суспільного життя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Times New Roman"/>
              </a:rPr>
              <a:t>За логікою цієї теорії з розвитком науки релігія повинна занепадати і поступово взагалі зникнути. Така точка зору була поширена серед науковців у XIX ст. та початку ХХ ст., була вона й компонентом офіційної атеїстичної ідеології у Радянському Союз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Фрейдизм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600200"/>
            <a:ext cx="84582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Релігія виникає як вихід назовні індивідуального безсвідомого, причому цей вихід безсвідомого є суспільно дозволеним та безпечним для оточуючих. Отже, основою для виникнення релігії є індивідуальне безсвідоме, тобто вроджені неусвідомлювані та часто заборонені суспільством потяги людини. Саме вони зумовлюють необхідність у молитві, сповіді, участі у релігійних церемоніях, тощ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Давні релігійні віруванн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Фетишизм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  - це віра у надприродні, надчуттєві властивості певних предметів, віра в те, що вони можуть допомагати, оберігати, захищати людину. Термін походить від португальського слова fetico – зачарована річ, через французьке fetiche – поклоніння неодухотвореним предметам (фетишам), яким приписують надприродні властивості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Фетишами здебільшого стають предмети, які вражають уяву людини тим, що чимось суттєво відрізняються від інших предметів даного типу (галька з однією або двома дірочками; джерело, яке не замерзає взимку; яблуня, яка родить щороку, тощо)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ff"/>
                </a:solidFill>
                <a:latin typeface="Arial"/>
              </a:rPr>
              <a:t>Анімізм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Анімізм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– віра в те, що існують духовні двійники всіх живих істот. У науковий обіг даний термін введений англійським етнографом Едуардом Тейлором (1832-1917)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Термін анімізм походить від лат animus, anima – дух, душа. Не слід плутати ці уявлення із тими розвинутими релігійними уявленнями про душу,  яку Бог при творенні світу надав лише людині (тварини та рослини душі не мають), і ця душа є осереддям духовної діяльності людини та умовою її спілкування з Богом, наближення до Бога. Анімістичні уявлення передбачають існування душі як внутрішнього джерела діяльності всіх живих істот, своєрідного внутрішнього двигун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Тотемізм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900" spc="-1" strike="noStrike">
                <a:solidFill>
                  <a:srgbClr val="000000"/>
                </a:solidFill>
                <a:latin typeface="Arial"/>
              </a:rPr>
              <a:t>Тотемізм </a:t>
            </a:r>
            <a:r>
              <a:rPr b="0" lang="uk-UA" sz="2900" spc="-1" strike="noStrike">
                <a:solidFill>
                  <a:srgbClr val="000000"/>
                </a:solidFill>
                <a:latin typeface="Arial"/>
              </a:rPr>
              <a:t>– віра в існування надприродного родинного зв’язку  між  групою людей (рід, плем’я) та певним видом тварин, птахів, або, рідше, рослин або явищ природи. Термін “тотемізм” походить від слова “ототеман”, що мовою одного з північноамериканських індіанських племен означає “його рід”. У науковій літературі даний термін починають вживати у XVIII ст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Зоолатрія</a:t>
            </a:r>
            <a:r>
              <a:rPr b="0" lang="ru-RU" sz="3600" spc="-1" strike="noStrike">
                <a:solidFill>
                  <a:srgbClr val="0066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uk-UA" sz="2500" spc="-1" strike="noStrike">
                <a:solidFill>
                  <a:srgbClr val="000000"/>
                </a:solidFill>
                <a:latin typeface="Verdana"/>
              </a:rPr>
              <a:t>Зоолатрія, або анімалізм, або культ тварин.</a:t>
            </a: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 Це сукупність обрядів та вірувань, що пов'язані з релігійним вшануванням певних тварин. Терміни походять або від грецьких слів (zoon – тварина,    latreia – служіння), або – від латинського  animal – тварина. Деякі дослідники вважають анімалізм найдавнішою формою релігійних уявлень, аргументуючи свою точку зору тим, що зображення тварин у печерах (Альтаміра та ін) мало ритуальній характер та свідчило про обожнення зображуваних тварин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17040"/>
            <a:ext cx="8334360" cy="8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ПОЛІТИЧНА ДОКТРИНА ІСЛАМ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0" y="2057400"/>
            <a:ext cx="2036520" cy="685800"/>
            <a:chOff x="0" y="2057400"/>
            <a:chExt cx="2036520" cy="685800"/>
          </a:xfrm>
        </p:grpSpPr>
        <p:sp>
          <p:nvSpPr>
            <p:cNvPr id="275" name=""/>
            <p:cNvSpPr/>
            <p:nvPr/>
          </p:nvSpPr>
          <p:spPr>
            <a:xfrm>
              <a:off x="1710720" y="2438640"/>
              <a:ext cx="32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0" y="2057400"/>
              <a:ext cx="179244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прям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0" y="3962520"/>
            <a:ext cx="2036520" cy="685800"/>
            <a:chOff x="0" y="3962520"/>
            <a:chExt cx="2036520" cy="685800"/>
          </a:xfrm>
        </p:grpSpPr>
        <p:sp>
          <p:nvSpPr>
            <p:cNvPr id="278" name=""/>
            <p:cNvSpPr/>
            <p:nvPr/>
          </p:nvSpPr>
          <p:spPr>
            <a:xfrm>
              <a:off x="1710720" y="4343760"/>
              <a:ext cx="32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0" y="3962520"/>
              <a:ext cx="179244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ож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0" y="5638680"/>
            <a:ext cx="2036520" cy="838080"/>
            <a:chOff x="0" y="5638680"/>
            <a:chExt cx="2036520" cy="838080"/>
          </a:xfrm>
        </p:grpSpPr>
        <p:sp>
          <p:nvSpPr>
            <p:cNvPr id="281" name=""/>
            <p:cNvSpPr/>
            <p:nvPr/>
          </p:nvSpPr>
          <p:spPr>
            <a:xfrm>
              <a:off x="1710720" y="6104160"/>
              <a:ext cx="32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5638680"/>
              <a:ext cx="1792440" cy="8380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ха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ні</a:t>
              </a: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imes New Roman"/>
                </a:rPr>
                <a:t>втіленн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157480" y="2157480"/>
            <a:ext cx="6681600" cy="7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диціоналістс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орматорськ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57480" y="3218040"/>
            <a:ext cx="6681600" cy="24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а має абсолютне право власності, якщо сама знаходиться в руках охоронців та знавців Божих наказі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бмежується приватна власність, я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 вона  трудова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брати за приклад західне "суспільство споживання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ові, суспільні суперечності мають долатися шляхом духовної гармонії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іфікація економічних і політичних систем усіх мусульманських держ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57480" y="5715000"/>
            <a:ext cx="668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ихад — священна боротьба за торжество ісламських принципів справедливості в усьому сві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500"/>
                            </p:stCondLst>
                            <p:childTnLst>
                              <p:par>
                                <p:cTn id="4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ff"/>
                </a:solidFill>
                <a:latin typeface="Arial"/>
              </a:rPr>
              <a:t>Питання класифікації релігі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У вітчизняній навчальній літературі найбільш розповсюдженою постає така класифікація релігійних вірувань у відповідності із їх історичним розвитком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лігійні уявлення первісного суспільства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(фетишизм, анімізм, тотемізм, магія, містеріальні культи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Регіонально-етнічні релігії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(полідемонізм, політеїзм). Перехідною формою до наступного етапу вважають іудаїзм – це релігій певного народу (євреїв), але вона вже є монотеїзмом (шанування єдиного Бога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500" spc="-1" strike="noStrike">
                <a:solidFill>
                  <a:srgbClr val="000000"/>
                </a:solidFill>
                <a:latin typeface="Arial"/>
              </a:rPr>
              <a:t>Світові релігії</a:t>
            </a:r>
            <a:r>
              <a:rPr b="0" lang="uk-UA" sz="2500" spc="-1" strike="noStrike">
                <a:solidFill>
                  <a:srgbClr val="000000"/>
                </a:solidFill>
                <a:latin typeface="Arial"/>
              </a:rPr>
              <a:t> – релігії достатньо послідовного та принципового монотеїзму (буддизм, християнство, іслам)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 u="sng">
                <a:solidFill>
                  <a:srgbClr val="006666"/>
                </a:solidFill>
                <a:uFillTx/>
                <a:latin typeface="Arial"/>
              </a:rPr>
              <a:t>ПОЛІТИЧНА ТЕОРІЯ КАТОЛИЦИЗМУ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57200" y="1820880"/>
            <a:ext cx="1905120" cy="998280"/>
            <a:chOff x="457200" y="1820880"/>
            <a:chExt cx="1905120" cy="998280"/>
          </a:xfrm>
        </p:grpSpPr>
        <p:sp>
          <p:nvSpPr>
            <p:cNvPr id="288" name=""/>
            <p:cNvSpPr/>
            <p:nvPr/>
          </p:nvSpPr>
          <p:spPr>
            <a:xfrm>
              <a:off x="2057400" y="23756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1820880"/>
              <a:ext cx="1676520" cy="998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статі 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окументи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57200" y="3726000"/>
            <a:ext cx="1905120" cy="685800"/>
            <a:chOff x="457200" y="3726000"/>
            <a:chExt cx="1905120" cy="685800"/>
          </a:xfrm>
        </p:grpSpPr>
        <p:sp>
          <p:nvSpPr>
            <p:cNvPr id="291" name=""/>
            <p:cNvSpPr/>
            <p:nvPr/>
          </p:nvSpPr>
          <p:spPr>
            <a:xfrm>
              <a:off x="2057400" y="410724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" y="3726000"/>
              <a:ext cx="1676520" cy="6858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ож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57200" y="5402160"/>
            <a:ext cx="1905120" cy="921960"/>
            <a:chOff x="457200" y="5402160"/>
            <a:chExt cx="1905120" cy="921960"/>
          </a:xfrm>
        </p:grpSpPr>
        <p:sp>
          <p:nvSpPr>
            <p:cNvPr id="294" name=""/>
            <p:cNvSpPr/>
            <p:nvPr/>
          </p:nvSpPr>
          <p:spPr>
            <a:xfrm>
              <a:off x="2057400" y="5914080"/>
              <a:ext cx="304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57200" y="5402160"/>
              <a:ext cx="1676520" cy="921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оло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еха</a:t>
              </a: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ні</a:t>
              </a: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з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Times New Roman"/>
                </a:rPr>
                <a:t>втіле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2590920" y="1744560"/>
            <a:ext cx="6248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густин Блажений ("Сповідь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ма Аквінський  ("Суми теології"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III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Лев ("Нові речі", 1892 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па Іоган Павл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нцикліка "Століття", 1991 р.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90920" y="2963880"/>
            <a:ext cx="617220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комунізм залишив великий шрам на обличчях багатьох народі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отрібно підтримати посткомуністичні положення  країн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посткомуністичні народи мають здебільшого самі споратись зі своїм тоталітарним минул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вади капіталізму далеко не щез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і сьогодні можливе поширення радикаль­ної ідеології капіталістичного типу, яка призвела б до неконтрольованого рин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громадянське суспільство — предмет особливої ува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5478480"/>
            <a:ext cx="655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орення світських навколоцерковних механізми організаці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онування християнських політич­них парті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ання ЗМІ тощ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Паломництво в Ісламі (Мекка)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72000" cy="380988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4114800" cy="26672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724280" y="4000680"/>
            <a:ext cx="414360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4560"/>
            <a:ext cx="731340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Класифікація релігій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68360" y="907920"/>
            <a:ext cx="8208360" cy="5688720"/>
            <a:chOff x="468360" y="907920"/>
            <a:chExt cx="8208360" cy="5688720"/>
          </a:xfrm>
        </p:grpSpPr>
        <p:cxnSp>
          <p:nvCxnSpPr>
            <p:cNvPr id="122" name="_s6149"/>
            <p:cNvCxnSpPr>
              <a:stCxn id="123" idx="0"/>
              <a:endCxn id="124" idx="2"/>
            </p:cNvCxnSpPr>
            <p:nvPr/>
          </p:nvCxnSpPr>
          <p:spPr>
            <a:xfrm flipV="1">
              <a:off x="4572720" y="4462560"/>
              <a:ext cx="360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6150"/>
            <p:cNvCxnSpPr>
              <a:stCxn id="126" idx="0"/>
              <a:endCxn id="127" idx="2"/>
            </p:cNvCxnSpPr>
            <p:nvPr/>
          </p:nvCxnSpPr>
          <p:spPr>
            <a:xfrm flipV="1">
              <a:off x="1699560" y="4462560"/>
              <a:ext cx="360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6151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5653080" y="1248120"/>
              <a:ext cx="711720" cy="2873520"/>
            </a:xfrm>
            <a:prstGeom prst="bentConnector3">
              <a:avLst>
                <a:gd name="adj1" fmla="val 199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6152"/>
            <p:cNvCxnSpPr>
              <a:stCxn id="124" idx="0"/>
              <a:endCxn id="130" idx="2"/>
            </p:cNvCxnSpPr>
            <p:nvPr/>
          </p:nvCxnSpPr>
          <p:spPr>
            <a:xfrm flipV="1">
              <a:off x="4572720" y="2329200"/>
              <a:ext cx="3600" cy="711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6153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2780280" y="1248480"/>
              <a:ext cx="711720" cy="2873520"/>
            </a:xfrm>
            <a:prstGeom prst="bentConnector3">
              <a:avLst>
                <a:gd name="adj1" fmla="val 199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0" name="_s6154"/>
            <p:cNvSpPr/>
            <p:nvPr/>
          </p:nvSpPr>
          <p:spPr>
            <a:xfrm>
              <a:off x="3341160" y="90792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Релігі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6155"/>
            <p:cNvSpPr/>
            <p:nvPr/>
          </p:nvSpPr>
          <p:spPr>
            <a:xfrm>
              <a:off x="468360" y="304128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Світов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6156"/>
            <p:cNvSpPr/>
            <p:nvPr/>
          </p:nvSpPr>
          <p:spPr>
            <a:xfrm>
              <a:off x="3341160" y="304128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аціональ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6157"/>
            <p:cNvSpPr/>
            <p:nvPr/>
          </p:nvSpPr>
          <p:spPr>
            <a:xfrm>
              <a:off x="6214320" y="304128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Місцев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00"/>
                  </a:solidFill>
                  <a:latin typeface="Arial"/>
                </a:rPr>
                <a:t>віруванн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6158"/>
            <p:cNvSpPr/>
            <p:nvPr/>
          </p:nvSpPr>
          <p:spPr>
            <a:xfrm>
              <a:off x="468360" y="517464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І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ристия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Будди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6159"/>
            <p:cNvSpPr/>
            <p:nvPr/>
          </p:nvSpPr>
          <p:spPr>
            <a:xfrm>
              <a:off x="3341160" y="5174640"/>
              <a:ext cx="2462400" cy="1422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Індуї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Сінтої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Іудаї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000000"/>
                  </a:solidFill>
                  <a:latin typeface="Arial"/>
                </a:rPr>
                <a:t>Конфуціан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796000" y="1341360"/>
            <a:ext cx="3025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413000"/>
            <a:ext cx="216252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20,-47,-122)"/>
                                      </p:to>
                                    </p:set>
                                    <p:set>
                                      <p:cBhvr>
                                        <p:cTn id="149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20,-47,-122)"/>
                                      </p:to>
                                    </p:set>
                                    <p:set>
                                      <p:cBhvr>
                                        <p:cTn id="150" dur="500" autoRev="1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4920"/>
            <a:ext cx="73134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6666"/>
                </a:solidFill>
                <a:latin typeface="Arial"/>
              </a:rPr>
              <a:t>Християнство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4941720"/>
            <a:ext cx="43210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Католициз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тестанств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000000"/>
                </a:solidFill>
                <a:latin typeface="Verdana"/>
              </a:rPr>
              <a:t>Православ'я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3816360" cy="3384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732720" y="620640"/>
            <a:ext cx="1974600" cy="2448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4500720" y="2492280"/>
            <a:ext cx="23763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9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6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imes New Roman"/>
              </a:rPr>
              <a:t>Буддиз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4038480" cy="4608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40384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8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2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-243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Ісла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3466800" cy="4032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390920" y="1268280"/>
            <a:ext cx="475308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68360" y="558972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5516640"/>
            <a:ext cx="244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 Суні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 Шиї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ffff00"/>
                </a:solidFill>
                <a:uFillTx/>
                <a:latin typeface="Arial"/>
              </a:rPr>
              <a:t>Що таке релігія?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00200" y="1143000"/>
            <a:ext cx="1025640" cy="11034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3124080" y="1447920"/>
            <a:ext cx="4792680" cy="571320"/>
            <a:chOff x="3124080" y="1447920"/>
            <a:chExt cx="4792680" cy="571320"/>
          </a:xfrm>
        </p:grpSpPr>
        <p:sp>
          <p:nvSpPr>
            <p:cNvPr id="151" name=""/>
            <p:cNvSpPr txBox="1"/>
            <p:nvPr/>
          </p:nvSpPr>
          <p:spPr>
            <a:xfrm>
              <a:off x="4419720" y="1447920"/>
              <a:ext cx="3497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a50021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форма культури</a:t>
              </a:r>
              <a:endParaRPr b="1" lang="en-US" sz="1800" spc="1" strike="noStrike">
                <a:ln w="9360">
                  <a:solidFill>
                    <a:srgbClr val="a50021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152388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ffcc"/>
            </a:solidFill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 txBox="1"/>
          <p:nvPr/>
        </p:nvSpPr>
        <p:spPr>
          <a:xfrm>
            <a:off x="3048120" y="2666880"/>
            <a:ext cx="37494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ітові релігії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95280" y="3276720"/>
            <a:ext cx="3581640" cy="2398680"/>
            <a:chOff x="1295280" y="3276720"/>
            <a:chExt cx="3581640" cy="2398680"/>
          </a:xfrm>
        </p:grpSpPr>
        <p:sp>
          <p:nvSpPr>
            <p:cNvPr id="155" name=""/>
            <p:cNvSpPr txBox="1"/>
            <p:nvPr/>
          </p:nvSpPr>
          <p:spPr>
            <a:xfrm>
              <a:off x="1295280" y="4800600"/>
              <a:ext cx="1866960" cy="874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будизм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057400" y="3276720"/>
              <a:ext cx="2819520" cy="16002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660840" y="3276720"/>
            <a:ext cx="2849400" cy="1823760"/>
            <a:chOff x="3660840" y="3276720"/>
            <a:chExt cx="2849400" cy="1823760"/>
          </a:xfrm>
        </p:grpSpPr>
        <p:sp>
          <p:nvSpPr>
            <p:cNvPr id="158" name=""/>
            <p:cNvSpPr txBox="1"/>
            <p:nvPr/>
          </p:nvSpPr>
          <p:spPr>
            <a:xfrm>
              <a:off x="3660840" y="3814920"/>
              <a:ext cx="2849400" cy="12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християнство</a:t>
              </a:r>
              <a:endPara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76920" y="3276720"/>
              <a:ext cx="0" cy="6858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876920" y="3276720"/>
            <a:ext cx="3657600" cy="838080"/>
            <a:chOff x="4876920" y="3276720"/>
            <a:chExt cx="3657600" cy="838080"/>
          </a:xfrm>
        </p:grpSpPr>
        <p:sp>
          <p:nvSpPr>
            <p:cNvPr id="161" name=""/>
            <p:cNvSpPr txBox="1"/>
            <p:nvPr/>
          </p:nvSpPr>
          <p:spPr>
            <a:xfrm>
              <a:off x="7010280" y="3581280"/>
              <a:ext cx="15242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Fade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2600">
                    <a:solidFill>
                      <a:srgbClr val="b2b2b2"/>
                    </a:solidFill>
                    <a:miter/>
                  </a:ln>
                  <a:gradFill rotWithShape="0">
                    <a:gsLst>
                      <a:gs pos="0">
                        <a:srgbClr val="520402"/>
                      </a:gs>
                      <a:gs pos="100000">
                        <a:srgbClr val="ffcc00"/>
                      </a:gs>
                    </a:gsLst>
                    <a:lin ang="5400000"/>
                  </a:gradFill>
                  <a:effectLst>
                    <a:outerShdw dist="153753" dir="2700000" blurRad="0" rotWithShape="0">
                      <a:srgbClr val="875b0d"/>
                    </a:outerShdw>
                  </a:effectLst>
                  <a:latin typeface="Arial"/>
                </a:rPr>
                <a:t>іслам</a:t>
              </a:r>
              <a:endPara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76920" y="3276720"/>
              <a:ext cx="2057400" cy="45720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86000" y="4419720"/>
            <a:ext cx="6527160" cy="2304360"/>
            <a:chOff x="2286000" y="4419720"/>
            <a:chExt cx="6527160" cy="2304360"/>
          </a:xfrm>
        </p:grpSpPr>
        <p:sp>
          <p:nvSpPr>
            <p:cNvPr id="164" name=""/>
            <p:cNvSpPr/>
            <p:nvPr/>
          </p:nvSpPr>
          <p:spPr>
            <a:xfrm flipV="1">
              <a:off x="2286000" y="4419720"/>
              <a:ext cx="6172200" cy="167616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5105520" y="5105520"/>
              <a:ext cx="3707640" cy="1618560"/>
              <a:chOff x="5105520" y="5105520"/>
              <a:chExt cx="3707640" cy="1618560"/>
            </a:xfrm>
          </p:grpSpPr>
          <p:graphicFrame>
            <p:nvGraphicFramePr>
              <p:cNvPr id="166" name=""/>
              <p:cNvGraphicFramePr/>
              <p:nvPr/>
            </p:nvGraphicFramePr>
            <p:xfrm>
              <a:off x="5105520" y="5410080"/>
              <a:ext cx="707760" cy="12240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6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105520" y="5410080"/>
                        <a:ext cx="707760" cy="1224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8" name=""/>
              <p:cNvSpPr/>
              <p:nvPr/>
            </p:nvSpPr>
            <p:spPr>
              <a:xfrm>
                <a:off x="6252120" y="5105520"/>
                <a:ext cx="2561040" cy="1618560"/>
              </a:xfrm>
              <a:prstGeom prst="rect">
                <a:avLst/>
              </a:prstGeom>
              <a:solidFill>
                <a:srgbClr val="ccffff"/>
              </a:solidFill>
              <a:ln w="7632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Церква – це етап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розвитку релігії 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- ієрархія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- священослужбовці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000" spc="-1" strike="noStrike">
                    <a:solidFill>
                      <a:srgbClr val="000000"/>
                    </a:solidFill>
                    <a:latin typeface="Times New Roman"/>
                  </a:rPr>
                  <a:t>- норми поведінки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ffff00"/>
                </a:solidFill>
                <a:uFillTx/>
                <a:latin typeface="Arial"/>
              </a:rPr>
              <a:t>Поняття і сутність релігії</a:t>
            </a: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235160"/>
            <a:ext cx="9144000" cy="825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РЕЛІІЯ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це особливі погляди та уявлення люде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cc"/>
                </a:solidFill>
                <a:latin typeface="Times New Roman"/>
              </a:rPr>
              <a:t>пов'язані з відповідними їм обрядами і культурою.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19320" y="2286000"/>
            <a:ext cx="1404720" cy="1600200"/>
            <a:chOff x="1219320" y="2286000"/>
            <a:chExt cx="1404720" cy="1600200"/>
          </a:xfrm>
        </p:grpSpPr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1219320" y="2286000"/>
              <a:ext cx="1404720" cy="12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 txBox="1"/>
            <p:nvPr/>
          </p:nvSpPr>
          <p:spPr>
            <a:xfrm>
              <a:off x="1219320" y="3543120"/>
              <a:ext cx="1311120" cy="34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cc3399"/>
                  </a:solidFill>
                  <a:latin typeface="Arial"/>
                </a:rPr>
                <a:t>ВІРА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290760" y="2943360"/>
            <a:ext cx="5015160" cy="561960"/>
            <a:chOff x="3290760" y="2943360"/>
            <a:chExt cx="5015160" cy="561960"/>
          </a:xfrm>
        </p:grpSpPr>
        <p:sp>
          <p:nvSpPr>
            <p:cNvPr id="175" name=""/>
            <p:cNvSpPr txBox="1"/>
            <p:nvPr/>
          </p:nvSpPr>
          <p:spPr>
            <a:xfrm>
              <a:off x="4694400" y="2971800"/>
              <a:ext cx="361152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28440">
                    <a:solidFill>
                      <a:srgbClr val="0000cc"/>
                    </a:solidFill>
                    <a:miter/>
                  </a:ln>
                  <a:solidFill>
                    <a:srgbClr val="ccffff"/>
                  </a:solidFill>
                  <a:latin typeface="Arial"/>
                </a:rPr>
                <a:t>основа религії</a:t>
              </a:r>
              <a:endParaRPr b="1" lang="en-US" sz="1800" spc="1" strike="noStrike">
                <a:ln w="28440">
                  <a:solidFill>
                    <a:srgbClr val="0000cc"/>
                  </a:solidFill>
                  <a:miter/>
                </a:ln>
                <a:solidFill>
                  <a:srgbClr val="ccffff"/>
                </a:solidFill>
                <a:latin typeface="Arial"/>
                <a:ea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290760" y="29433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cc3399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2514600" y="3581280"/>
            <a:ext cx="2841840" cy="536040"/>
            <a:chOff x="2514600" y="3581280"/>
            <a:chExt cx="2841840" cy="536040"/>
          </a:xfrm>
        </p:grpSpPr>
        <p:sp>
          <p:nvSpPr>
            <p:cNvPr id="178" name=""/>
            <p:cNvSpPr/>
            <p:nvPr/>
          </p:nvSpPr>
          <p:spPr>
            <a:xfrm>
              <a:off x="2514600" y="3581280"/>
              <a:ext cx="762120" cy="3049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27120" y="3657600"/>
              <a:ext cx="2029320" cy="459720"/>
            </a:xfrm>
            <a:prstGeom prst="rect">
              <a:avLst/>
            </a:prstGeom>
            <a:solidFill>
              <a:srgbClr val="ffffcc"/>
            </a:solidFill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a50021"/>
                  </a:solidFill>
                  <a:latin typeface="Times New Roman"/>
                </a:rPr>
                <a:t>Поза логіко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 txBox="1"/>
          <p:nvPr/>
        </p:nvSpPr>
        <p:spPr>
          <a:xfrm>
            <a:off x="2819520" y="4267080"/>
            <a:ext cx="4259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"/>
              </a:rPr>
              <a:t>Особливості віри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924440"/>
            <a:ext cx="8218440" cy="1557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іра в існування Бог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людина наділена Богом свободою волі та вибо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- відповідальність людини перед Богом за свої дії та за майбутнє своєї душі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09-02-22T21:27:5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