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4E08F-F811-4D35-ADD6-5F806DF24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4B10C-6D3F-4BE8-BD1F-70708CBD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EF43E-98DC-4855-8839-208A8651C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7BE06-C227-4B12-A1A6-5FF8ECE9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99057-D75F-44EB-9057-8016AE0BC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1E671-A31D-47C2-BD45-2756BFF0C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AB9E4-644C-4950-98F8-5AFCDE8D3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4BC0-E447-44C2-83B7-2EA9E658D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47005-6069-4C30-B05C-703CC2AF5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95028-6348-4AFA-A851-70B0C20B9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52D2-B6E9-410A-A834-A623E90B0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E6C5-4FA6-4903-B797-00142580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E98A9-871E-4206-A504-FEBB4E9E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59FD-359F-4DCA-A598-79B88A58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0699-D237-441C-AB45-C61ACF819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6B841-DC79-48A6-BAD7-3BF3365E7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ED8D4-EFC1-4A02-824C-D10D711BE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CD35BF-C36A-4D67-BABD-AAC1E588A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B1A09-EA73-4ADE-ADE2-F75AE9B5C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E9FD1-C1A8-4B7B-ABFA-8411A241C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A4517-4598-4108-96D9-83D63F3B4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49D8D-ED19-422E-99F8-0DDA8B465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587DF-9B52-46C0-9DC4-3AE14D5AF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0AC02-0AB2-49DF-8B26-48221A7AC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AE578-CEB5-4D23-BA01-75EA3783F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15AFE-BB0A-4CA1-AFA1-6FA896D93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466BD-4FEB-4062-B890-422AD7004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5C1F1-C3D5-4483-A087-1C46E7E43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4AD20-1D91-4531-A63D-ACA25A1A47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A6F48C-126B-4FE1-B6B5-CC169D820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DD13-2BE4-4202-9BD0-1514606A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7BC9A-7755-4751-B614-18F69E5F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3CD5-823B-4ADD-9F51-5582B506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EBDE-0C1F-46D9-B4F8-B9ABCC63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4415-B292-4BEE-A56A-C518901D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D1D7-D027-4C9F-954D-AAB54199D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21D1-AD85-41F8-9870-768459B98629}"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2746-313C-491B-A4F0-61B5F9C5BCD1}"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B6C8-09EB-4610-8D1A-D557DBFDA3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00"/>
                </a:solidFill>
                <a:latin typeface="Arial"/>
              </a:rPr>
              <a:t>Структура релігійної сфери та функції релігії</a:t>
            </a:r>
            <a:endParaRPr b="0" lang="en-US" sz="4800" spc="-1" strike="noStrike">
              <a:solidFill>
                <a:srgbClr val="ccecff"/>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Лекція 3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Функціонально-соціальна структура</a:t>
            </a:r>
            <a:endParaRPr b="0" lang="en-US" sz="3600" spc="-1" strike="noStrike">
              <a:solidFill>
                <a:srgbClr val="ccecff"/>
              </a:solidFill>
              <a:latin typeface="Arial"/>
            </a:endParaRPr>
          </a:p>
        </p:txBody>
      </p:sp>
      <p:sp>
        <p:nvSpPr>
          <p:cNvPr id="216"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це сукупність показників, що характеризують існування різних соціальних і громадських груп населення певної території відповідно до їх релігійних вірувань і суспільних характеристик (рівня освіти, соціального статусу і походження, рівня матеріального достатку, національно-етнічного складу, релігійної (конфесійної), статево-вікової структур тощо) [Патійчук].</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Вона передбачає поділ усіх людей на будь-якій території за релігійними ознаками, враховуючи вікові, статеві, культурно-освітні особливості населення, рівень його матеріального достатку тощо, на такі категорії: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1) атеї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2) не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3) співчува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4)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5) глибоко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6) релігійні фанат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1447920" y="-45720"/>
            <a:ext cx="5487840" cy="6903720"/>
            <a:chOff x="1447920" y="-45720"/>
            <a:chExt cx="5487840" cy="6903720"/>
          </a:xfrm>
        </p:grpSpPr>
        <p:sp>
          <p:nvSpPr>
            <p:cNvPr id="218" name=""/>
            <p:cNvSpPr/>
            <p:nvPr/>
          </p:nvSpPr>
          <p:spPr>
            <a:xfrm>
              <a:off x="2186640" y="1334880"/>
              <a:ext cx="2005200" cy="53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успільно-географічне положення</a:t>
              </a:r>
              <a:endParaRPr b="0" lang="en-US" sz="1000" spc="-1" strike="noStrike">
                <a:solidFill>
                  <a:srgbClr val="ffffff"/>
                </a:solidFill>
                <a:latin typeface="Arial"/>
              </a:endParaRPr>
            </a:p>
          </p:txBody>
        </p:sp>
        <p:sp>
          <p:nvSpPr>
            <p:cNvPr id="219" name=""/>
            <p:cNvSpPr/>
            <p:nvPr/>
          </p:nvSpPr>
          <p:spPr>
            <a:xfrm>
              <a:off x="2186640" y="1972080"/>
              <a:ext cx="2005200" cy="21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успільно-політичне становище</a:t>
              </a:r>
              <a:r>
                <a:rPr b="0" lang="ru-RU" sz="1000" spc="-1" strike="noStrike">
                  <a:solidFill>
                    <a:srgbClr val="000000"/>
                  </a:solidFill>
                  <a:latin typeface="Verdana"/>
                </a:rPr>
                <a:t>:</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о-адміністратив-ний устрій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а держави у відношенні до реліг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ланува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рогнозування й управління розвитку територією, в тому числі й релігійним життям</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0" name=""/>
            <p:cNvSpPr/>
            <p:nvPr/>
          </p:nvSpPr>
          <p:spPr>
            <a:xfrm>
              <a:off x="2186640" y="4202640"/>
              <a:ext cx="2005200" cy="265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демографічна ситуаці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загальна чисельність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густота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вікова, статева структура,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тнічна та релігійна структури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національний склад;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структура зайнятості; сімейний стан; рівень освіти і культури; рухомість населення; чисельність;</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людність населених пунктів; рівень урбанізац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1" name=""/>
            <p:cNvSpPr/>
            <p:nvPr/>
          </p:nvSpPr>
          <p:spPr>
            <a:xfrm>
              <a:off x="4719960" y="197208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кономіч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кономічний рівень розвитку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сяги доходів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озвиток обслуговуючих галузей, що надають продукцію релігійним структурам</a:t>
              </a:r>
              <a:endParaRPr b="0" lang="en-US" sz="1000" spc="-1" strike="noStrike">
                <a:solidFill>
                  <a:srgbClr val="ffffff"/>
                </a:solidFill>
                <a:latin typeface="Arial"/>
              </a:endParaRPr>
            </a:p>
          </p:txBody>
        </p:sp>
        <p:sp>
          <p:nvSpPr>
            <p:cNvPr id="222" name=""/>
            <p:cNvSpPr/>
            <p:nvPr/>
          </p:nvSpPr>
          <p:spPr>
            <a:xfrm>
              <a:off x="4719960" y="335304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оціально-економічні</a:t>
              </a:r>
              <a:r>
                <a:rPr b="0" lang="ru-RU" sz="1000" spc="-1" strike="noStrike">
                  <a:solidFill>
                    <a:srgbClr val="000000"/>
                  </a:solidFill>
                  <a:latin typeface="Verdana"/>
                </a:rPr>
                <a:t>:</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оціальний статус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розвитку матеріального достатку;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безробіття; величина вільного поза робочого часу </a:t>
              </a:r>
              <a:endParaRPr b="0" lang="en-US" sz="1000" spc="-1" strike="noStrike">
                <a:solidFill>
                  <a:srgbClr val="ffffff"/>
                </a:solidFill>
                <a:latin typeface="Arial"/>
              </a:endParaRPr>
            </a:p>
          </p:txBody>
        </p:sp>
        <p:sp>
          <p:nvSpPr>
            <p:cNvPr id="223" name=""/>
            <p:cNvSpPr/>
            <p:nvPr/>
          </p:nvSpPr>
          <p:spPr>
            <a:xfrm>
              <a:off x="4719960" y="4733640"/>
              <a:ext cx="2110680" cy="7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тносоціаль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ісцеві звичаї,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традиції, побут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рядовість</a:t>
              </a:r>
              <a:endParaRPr b="0" lang="en-US" sz="1000" spc="-1" strike="noStrike">
                <a:solidFill>
                  <a:srgbClr val="ffffff"/>
                </a:solidFill>
                <a:latin typeface="Arial"/>
              </a:endParaRPr>
            </a:p>
          </p:txBody>
        </p:sp>
        <p:sp>
          <p:nvSpPr>
            <p:cNvPr id="224" name=""/>
            <p:cNvSpPr/>
            <p:nvPr/>
          </p:nvSpPr>
          <p:spPr>
            <a:xfrm>
              <a:off x="4719960" y="558324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етнопсихологічні</a:t>
              </a:r>
              <a:endParaRPr b="0" lang="en-US" sz="1200" spc="-1" strike="noStrike">
                <a:solidFill>
                  <a:srgbClr val="ffffff"/>
                </a:solidFill>
                <a:latin typeface="Arial"/>
              </a:endParaRPr>
            </a:p>
          </p:txBody>
        </p:sp>
        <p:sp>
          <p:nvSpPr>
            <p:cNvPr id="225" name=""/>
            <p:cNvSpPr/>
            <p:nvPr/>
          </p:nvSpPr>
          <p:spPr>
            <a:xfrm>
              <a:off x="4719960" y="6008040"/>
              <a:ext cx="2110680" cy="4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соціальні</a:t>
              </a:r>
              <a:endParaRPr b="0" lang="en-US" sz="1200" spc="-1" strike="noStrike">
                <a:solidFill>
                  <a:srgbClr val="ffffff"/>
                </a:solidFill>
                <a:latin typeface="Arial"/>
              </a:endParaRPr>
            </a:p>
          </p:txBody>
        </p:sp>
        <p:sp>
          <p:nvSpPr>
            <p:cNvPr id="226" name=""/>
            <p:cNvSpPr/>
            <p:nvPr/>
          </p:nvSpPr>
          <p:spPr>
            <a:xfrm flipV="1">
              <a:off x="23979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2397960" y="166320"/>
              <a:ext cx="1265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28" name=""/>
            <p:cNvSpPr/>
            <p:nvPr/>
          </p:nvSpPr>
          <p:spPr>
            <a:xfrm flipV="1">
              <a:off x="61977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764720" y="1228320"/>
              <a:ext cx="0" cy="414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764720" y="537084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764720" y="303408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764720" y="154692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191840" y="9097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403160" y="909720"/>
              <a:ext cx="0" cy="531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403160" y="622080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403160" y="56894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03160" y="50522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403160" y="39898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403160" y="26092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5775120" y="166320"/>
              <a:ext cx="4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664440" y="-4572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СФЕРА РЕЛІГІЇ</a:t>
              </a:r>
              <a:endParaRPr b="0" lang="en-US" sz="1200" spc="-1" strike="noStrike">
                <a:solidFill>
                  <a:srgbClr val="ffffff"/>
                </a:solidFill>
                <a:latin typeface="Arial"/>
              </a:endParaRPr>
            </a:p>
          </p:txBody>
        </p:sp>
        <p:sp>
          <p:nvSpPr>
            <p:cNvPr id="242" name=""/>
            <p:cNvSpPr/>
            <p:nvPr/>
          </p:nvSpPr>
          <p:spPr>
            <a:xfrm>
              <a:off x="1447920" y="591120"/>
              <a:ext cx="274536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успільно-географічні фактори</a:t>
              </a:r>
              <a:endParaRPr b="0" lang="en-US" sz="1400" spc="-1" strike="noStrike">
                <a:solidFill>
                  <a:srgbClr val="ffffff"/>
                </a:solidFill>
                <a:latin typeface="Arial"/>
              </a:endParaRPr>
            </a:p>
          </p:txBody>
        </p:sp>
        <p:sp>
          <p:nvSpPr>
            <p:cNvPr id="243" name=""/>
            <p:cNvSpPr/>
            <p:nvPr/>
          </p:nvSpPr>
          <p:spPr>
            <a:xfrm>
              <a:off x="4930560" y="591120"/>
              <a:ext cx="200520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иродно-географічні умови</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Соціальні функції релігії</a:t>
            </a:r>
            <a:endParaRPr b="0" lang="en-US" sz="4400" spc="-1" strike="noStrike">
              <a:solidFill>
                <a:srgbClr val="ccecff"/>
              </a:solidFill>
              <a:latin typeface="Arial"/>
            </a:endParaRPr>
          </a:p>
        </p:txBody>
      </p:sp>
      <p:sp>
        <p:nvSpPr>
          <p:cNvPr id="245" name="PlaceHolder 2"/>
          <p:cNvSpPr>
            <a:spLocks noGrp="1"/>
          </p:cNvSpPr>
          <p:nvPr>
            <p:ph/>
          </p:nvPr>
        </p:nvSpPr>
        <p:spPr>
          <a:xfrm>
            <a:off x="456840" y="1142640"/>
            <a:ext cx="8458200" cy="5715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Функції релігії можуть бути основними та специфічними, мати позитивний чи негативний характер.</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Деякі з дослідників вважають, що функції що виконує релігія зводяться до соціальних, деякі -  їх називають суспільним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Виділяють основні функції</a:t>
            </a:r>
            <a:r>
              <a:rPr b="0" lang="uk-UA" sz="4400" spc="-1" strike="noStrike">
                <a:solidFill>
                  <a:srgbClr val="ccecff"/>
                </a:solidFill>
                <a:latin typeface="Arial"/>
              </a:rPr>
              <a:t> </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пенсаторну (компенсаційну, компенсаторно-доповнюв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світогляд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унікативну (горизонтальну та вертик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гуля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флексивну (рефлекторну), інтегративно-дезінтегра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аксіологіч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ерапевтичну функції релігії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Серед специфічних або факультативних функцій можна назвати</a:t>
            </a:r>
            <a:endParaRPr b="0" lang="en-US" sz="36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формуюч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ідентифікацій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консолід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збі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збе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літико-ідеологіч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енталітет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дикативн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ощо.</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1571760" y="5400"/>
            <a:ext cx="6308640" cy="6846840"/>
            <a:chOff x="1571760" y="5400"/>
            <a:chExt cx="6308640" cy="6846840"/>
          </a:xfrm>
        </p:grpSpPr>
        <p:sp>
          <p:nvSpPr>
            <p:cNvPr id="251" name=""/>
            <p:cNvSpPr/>
            <p:nvPr/>
          </p:nvSpPr>
          <p:spPr>
            <a:xfrm>
              <a:off x="3451320" y="2422080"/>
              <a:ext cx="2549880" cy="1476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Менталіт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КЛАДНИКИ</a:t>
              </a:r>
              <a:endParaRPr b="0" lang="en-US" sz="1200" spc="-1" strike="noStrike">
                <a:solidFill>
                  <a:srgbClr val="ffffff"/>
                </a:solidFill>
                <a:latin typeface="Arial"/>
              </a:endParaRPr>
            </a:p>
          </p:txBody>
        </p:sp>
        <p:sp>
          <p:nvSpPr>
            <p:cNvPr id="252" name=""/>
            <p:cNvSpPr/>
            <p:nvPr/>
          </p:nvSpPr>
          <p:spPr>
            <a:xfrm>
              <a:off x="3585600" y="3360960"/>
              <a:ext cx="93924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ВІРА</a:t>
              </a:r>
              <a:endParaRPr b="0" lang="en-US" sz="1000" spc="-1" strike="noStrike">
                <a:solidFill>
                  <a:srgbClr val="ffffff"/>
                </a:solidFill>
                <a:latin typeface="Arial"/>
              </a:endParaRPr>
            </a:p>
          </p:txBody>
        </p:sp>
        <p:sp>
          <p:nvSpPr>
            <p:cNvPr id="253" name=""/>
            <p:cNvSpPr/>
            <p:nvPr/>
          </p:nvSpPr>
          <p:spPr>
            <a:xfrm>
              <a:off x="4926960" y="3360960"/>
              <a:ext cx="939240" cy="40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ЗНАННЯ, ДОСВІД</a:t>
              </a:r>
              <a:endParaRPr b="0" lang="en-US" sz="1000" spc="-1" strike="noStrike">
                <a:solidFill>
                  <a:srgbClr val="ffffff"/>
                </a:solidFill>
                <a:latin typeface="Arial"/>
              </a:endParaRPr>
            </a:p>
          </p:txBody>
        </p:sp>
        <p:sp>
          <p:nvSpPr>
            <p:cNvPr id="254" name=""/>
            <p:cNvSpPr/>
            <p:nvPr/>
          </p:nvSpPr>
          <p:spPr>
            <a:xfrm>
              <a:off x="3719880" y="4300920"/>
              <a:ext cx="2011680" cy="9378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Цінності,</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r>
                <a:rPr b="0" lang="ru-RU" sz="1200" spc="-1" strike="noStrike">
                  <a:solidFill>
                    <a:srgbClr val="ffffff"/>
                  </a:solidFill>
                  <a:latin typeface="Verdana"/>
                </a:rPr>
                <a:t>ідеали</a:t>
              </a:r>
              <a:endParaRPr b="0" lang="en-US" sz="1200" spc="-1" strike="noStrike">
                <a:solidFill>
                  <a:srgbClr val="ffffff"/>
                </a:solidFill>
                <a:latin typeface="Arial"/>
              </a:endParaRPr>
            </a:p>
          </p:txBody>
        </p:sp>
        <p:sp>
          <p:nvSpPr>
            <p:cNvPr id="255" name=""/>
            <p:cNvSpPr/>
            <p:nvPr/>
          </p:nvSpPr>
          <p:spPr>
            <a:xfrm>
              <a:off x="6001560" y="4166280"/>
              <a:ext cx="134136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конання </a:t>
              </a:r>
              <a:endParaRPr b="0" lang="en-US" sz="1200" spc="-1" strike="noStrike">
                <a:solidFill>
                  <a:srgbClr val="ffffff"/>
                </a:solidFill>
                <a:latin typeface="Arial"/>
              </a:endParaRPr>
            </a:p>
          </p:txBody>
        </p:sp>
        <p:sp>
          <p:nvSpPr>
            <p:cNvPr id="256" name=""/>
            <p:cNvSpPr/>
            <p:nvPr/>
          </p:nvSpPr>
          <p:spPr>
            <a:xfrm>
              <a:off x="58672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радиції, звичаї</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7" name=""/>
            <p:cNvSpPr/>
            <p:nvPr/>
          </p:nvSpPr>
          <p:spPr>
            <a:xfrm>
              <a:off x="2109240" y="4166280"/>
              <a:ext cx="133848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нтереси, потреби </a:t>
              </a:r>
              <a:endParaRPr b="0" lang="en-US" sz="1200" spc="-1" strike="noStrike">
                <a:solidFill>
                  <a:srgbClr val="ffffff"/>
                </a:solidFill>
                <a:latin typeface="Arial"/>
              </a:endParaRPr>
            </a:p>
          </p:txBody>
        </p:sp>
        <p:sp>
          <p:nvSpPr>
            <p:cNvPr id="258" name=""/>
            <p:cNvSpPr/>
            <p:nvPr/>
          </p:nvSpPr>
          <p:spPr>
            <a:xfrm>
              <a:off x="23770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ціальні настанови</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9" name=""/>
            <p:cNvSpPr/>
            <p:nvPr/>
          </p:nvSpPr>
          <p:spPr>
            <a:xfrm>
              <a:off x="4122000" y="5777640"/>
              <a:ext cx="134244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тереотипи поведінки тощо</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60" name=""/>
            <p:cNvSpPr/>
            <p:nvPr/>
          </p:nvSpPr>
          <p:spPr>
            <a:xfrm>
              <a:off x="3853440" y="676800"/>
              <a:ext cx="1743840" cy="671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сторико-культурологічні</a:t>
              </a:r>
              <a:endParaRPr b="0" lang="en-US" sz="1200" spc="-1" strike="noStrike">
                <a:solidFill>
                  <a:srgbClr val="ffffff"/>
                </a:solidFill>
                <a:latin typeface="Arial"/>
              </a:endParaRPr>
            </a:p>
          </p:txBody>
        </p:sp>
        <p:sp>
          <p:nvSpPr>
            <p:cNvPr id="261" name=""/>
            <p:cNvSpPr/>
            <p:nvPr/>
          </p:nvSpPr>
          <p:spPr>
            <a:xfrm>
              <a:off x="626976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Ідеологічні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а інші </a:t>
              </a:r>
              <a:endParaRPr b="0" lang="en-US" sz="1000" spc="-1" strike="noStrike">
                <a:solidFill>
                  <a:srgbClr val="ffffff"/>
                </a:solidFill>
                <a:latin typeface="Arial"/>
              </a:endParaRPr>
            </a:p>
          </p:txBody>
        </p:sp>
        <p:sp>
          <p:nvSpPr>
            <p:cNvPr id="262" name=""/>
            <p:cNvSpPr/>
            <p:nvPr/>
          </p:nvSpPr>
          <p:spPr>
            <a:xfrm>
              <a:off x="170604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иродно-географічні </a:t>
              </a:r>
              <a:endParaRPr b="0" lang="en-US" sz="1000" spc="-1" strike="noStrike">
                <a:solidFill>
                  <a:srgbClr val="ffffff"/>
                </a:solidFill>
                <a:latin typeface="Arial"/>
              </a:endParaRPr>
            </a:p>
          </p:txBody>
        </p:sp>
        <p:sp>
          <p:nvSpPr>
            <p:cNvPr id="263" name=""/>
            <p:cNvSpPr/>
            <p:nvPr/>
          </p:nvSpPr>
          <p:spPr>
            <a:xfrm>
              <a:off x="1974960" y="139320"/>
              <a:ext cx="1476360" cy="40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еополітичні </a:t>
              </a:r>
              <a:endParaRPr b="0" lang="en-US" sz="1200" spc="-1" strike="noStrike">
                <a:solidFill>
                  <a:srgbClr val="ffffff"/>
                </a:solidFill>
                <a:latin typeface="Arial"/>
              </a:endParaRPr>
            </a:p>
          </p:txBody>
        </p:sp>
        <p:sp>
          <p:nvSpPr>
            <p:cNvPr id="264" name=""/>
            <p:cNvSpPr/>
            <p:nvPr/>
          </p:nvSpPr>
          <p:spPr>
            <a:xfrm>
              <a:off x="5867280" y="139320"/>
              <a:ext cx="1473480" cy="406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лігійні </a:t>
              </a:r>
              <a:endParaRPr b="0" lang="en-US" sz="1200" spc="-1" strike="noStrike">
                <a:solidFill>
                  <a:srgbClr val="ffffff"/>
                </a:solidFill>
                <a:latin typeface="Arial"/>
              </a:endParaRPr>
            </a:p>
          </p:txBody>
        </p:sp>
        <p:sp>
          <p:nvSpPr>
            <p:cNvPr id="265" name=""/>
            <p:cNvSpPr/>
            <p:nvPr/>
          </p:nvSpPr>
          <p:spPr>
            <a:xfrm>
              <a:off x="3316680" y="1750680"/>
              <a:ext cx="2818800" cy="402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ЧИННИКИ</a:t>
              </a:r>
              <a:endParaRPr b="0" lang="en-US" sz="1300" spc="-1" strike="noStrike">
                <a:solidFill>
                  <a:srgbClr val="ffffff"/>
                </a:solidFill>
                <a:latin typeface="Arial"/>
              </a:endParaRPr>
            </a:p>
          </p:txBody>
        </p:sp>
        <p:cxnSp>
          <p:nvCxnSpPr>
            <p:cNvPr id="266" name=""/>
            <p:cNvCxnSpPr>
              <a:stCxn id="263" idx="2"/>
              <a:endCxn id="262" idx="0"/>
            </p:cNvCxnSpPr>
            <p:nvPr/>
          </p:nvCxnSpPr>
          <p:spPr>
            <a:xfrm flipH="1">
              <a:off x="2444040" y="545040"/>
              <a:ext cx="269640" cy="937440"/>
            </a:xfrm>
            <a:prstGeom prst="straightConnector1">
              <a:avLst/>
            </a:prstGeom>
            <a:ln w="19080">
              <a:solidFill>
                <a:srgbClr val="000000"/>
              </a:solidFill>
              <a:miter/>
              <a:headEnd len="med" type="triangle" w="med"/>
              <a:tailEnd len="med" type="triangle" w="med"/>
            </a:ln>
          </p:spPr>
        </p:cxnSp>
        <p:cxnSp>
          <p:nvCxnSpPr>
            <p:cNvPr id="267" name=""/>
            <p:cNvCxnSpPr>
              <a:stCxn id="263" idx="3"/>
              <a:endCxn id="260" idx="1"/>
            </p:cNvCxnSpPr>
            <p:nvPr/>
          </p:nvCxnSpPr>
          <p:spPr>
            <a:xfrm>
              <a:off x="3451320" y="341640"/>
              <a:ext cx="402480" cy="671760"/>
            </a:xfrm>
            <a:prstGeom prst="straightConnector1">
              <a:avLst/>
            </a:prstGeom>
            <a:ln w="19080">
              <a:solidFill>
                <a:srgbClr val="000000"/>
              </a:solidFill>
              <a:miter/>
              <a:headEnd len="med" type="triangle" w="med"/>
              <a:tailEnd len="med" type="triangle" w="med"/>
            </a:ln>
          </p:spPr>
        </p:cxnSp>
        <p:cxnSp>
          <p:nvCxnSpPr>
            <p:cNvPr id="268" name=""/>
            <p:cNvCxnSpPr>
              <a:stCxn id="264" idx="1"/>
              <a:endCxn id="260" idx="3"/>
            </p:cNvCxnSpPr>
            <p:nvPr/>
          </p:nvCxnSpPr>
          <p:spPr>
            <a:xfrm flipH="1">
              <a:off x="5596920" y="342360"/>
              <a:ext cx="270360" cy="670680"/>
            </a:xfrm>
            <a:prstGeom prst="straightConnector1">
              <a:avLst/>
            </a:prstGeom>
            <a:ln w="19080">
              <a:solidFill>
                <a:srgbClr val="000000"/>
              </a:solidFill>
              <a:miter/>
              <a:headEnd len="med" type="triangle" w="med"/>
              <a:tailEnd len="med" type="triangle" w="med"/>
            </a:ln>
          </p:spPr>
        </p:cxnSp>
        <p:cxnSp>
          <p:nvCxnSpPr>
            <p:cNvPr id="269" name=""/>
            <p:cNvCxnSpPr>
              <a:stCxn id="264" idx="2"/>
              <a:endCxn id="261" idx="0"/>
            </p:cNvCxnSpPr>
            <p:nvPr/>
          </p:nvCxnSpPr>
          <p:spPr>
            <a:xfrm>
              <a:off x="6604200" y="545760"/>
              <a:ext cx="403560" cy="936720"/>
            </a:xfrm>
            <a:prstGeom prst="straightConnector1">
              <a:avLst/>
            </a:prstGeom>
            <a:ln w="19080">
              <a:solidFill>
                <a:srgbClr val="000000"/>
              </a:solidFill>
              <a:miter/>
              <a:headEnd len="med" type="triangle" w="med"/>
              <a:tailEnd len="med" type="triangle" w="med"/>
            </a:ln>
          </p:spPr>
        </p:cxnSp>
        <p:cxnSp>
          <p:nvCxnSpPr>
            <p:cNvPr id="270" name=""/>
            <p:cNvCxnSpPr>
              <a:stCxn id="260" idx="3"/>
              <a:endCxn id="261" idx="1"/>
            </p:cNvCxnSpPr>
            <p:nvPr/>
          </p:nvCxnSpPr>
          <p:spPr>
            <a:xfrm>
              <a:off x="5597280" y="1012680"/>
              <a:ext cx="672840" cy="739080"/>
            </a:xfrm>
            <a:prstGeom prst="straightConnector1">
              <a:avLst/>
            </a:prstGeom>
            <a:ln w="19080">
              <a:solidFill>
                <a:srgbClr val="000000"/>
              </a:solidFill>
              <a:miter/>
              <a:headEnd len="med" type="triangle" w="med"/>
              <a:tailEnd len="med" type="triangle" w="med"/>
            </a:ln>
          </p:spPr>
        </p:cxnSp>
        <p:cxnSp>
          <p:nvCxnSpPr>
            <p:cNvPr id="271" name=""/>
            <p:cNvCxnSpPr>
              <a:stCxn id="260" idx="1"/>
              <a:endCxn id="262" idx="3"/>
            </p:cNvCxnSpPr>
            <p:nvPr/>
          </p:nvCxnSpPr>
          <p:spPr>
            <a:xfrm flipH="1">
              <a:off x="3182040" y="1012680"/>
              <a:ext cx="671760" cy="739080"/>
            </a:xfrm>
            <a:prstGeom prst="straightConnector1">
              <a:avLst/>
            </a:prstGeom>
            <a:ln w="19080">
              <a:solidFill>
                <a:srgbClr val="000000"/>
              </a:solidFill>
              <a:miter/>
              <a:headEnd len="med" type="triangle" w="med"/>
              <a:tailEnd len="med" type="triangle" w="med"/>
            </a:ln>
          </p:spPr>
        </p:cxnSp>
        <p:sp>
          <p:nvSpPr>
            <p:cNvPr id="272" name=""/>
            <p:cNvSpPr/>
            <p:nvPr/>
          </p:nvSpPr>
          <p:spPr>
            <a:xfrm>
              <a:off x="4525200" y="3898440"/>
              <a:ext cx="401760" cy="402480"/>
            </a:xfrm>
            <a:prstGeom prst="downArrow">
              <a:avLst>
                <a:gd name="adj1" fmla="val 50000"/>
                <a:gd name="adj2" fmla="val 250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780280" y="3360960"/>
              <a:ext cx="671040" cy="804960"/>
            </a:xfrm>
            <a:custGeom>
              <a:avLst/>
              <a:gdLst>
                <a:gd name="textAreaLeft" fmla="*/ 0 w 671040"/>
                <a:gd name="textAreaRight" fmla="*/ 671400 w 671040"/>
                <a:gd name="textAreaTop" fmla="*/ 0 h 804960"/>
                <a:gd name="textAreaBottom" fmla="*/ 805320 h 804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658760" y="5240160"/>
              <a:ext cx="267120" cy="537480"/>
            </a:xfrm>
            <a:prstGeom prst="upDownArrow">
              <a:avLst>
                <a:gd name="adj1" fmla="val 50000"/>
                <a:gd name="adj2" fmla="val 400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403680" y="4972320"/>
              <a:ext cx="2689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914560" y="4972320"/>
              <a:ext cx="2671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4814400">
              <a:off x="5731920" y="4568760"/>
              <a:ext cx="267480" cy="26712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rot="6731400">
              <a:off x="3450240" y="4569120"/>
              <a:ext cx="267480" cy="266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4814400">
              <a:off x="5530320" y="5697360"/>
              <a:ext cx="267480" cy="401760"/>
            </a:xfrm>
            <a:prstGeom prst="upDownArrow">
              <a:avLst>
                <a:gd name="adj1" fmla="val 50000"/>
                <a:gd name="adj2" fmla="val 299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6731400">
              <a:off x="3787560" y="5681520"/>
              <a:ext cx="268560" cy="404640"/>
            </a:xfrm>
            <a:prstGeom prst="upDownArrow">
              <a:avLst>
                <a:gd name="adj1" fmla="val 50000"/>
                <a:gd name="adj2" fmla="val 299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048120" y="542880"/>
              <a:ext cx="1073520" cy="187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5330160" y="542880"/>
              <a:ext cx="938160" cy="187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377080" y="2019240"/>
              <a:ext cx="107424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6001560" y="2019240"/>
              <a:ext cx="107352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85" name=""/>
            <p:cNvCxnSpPr>
              <a:stCxn id="260" idx="2"/>
              <a:endCxn id="251" idx="0"/>
            </p:cNvCxnSpPr>
            <p:nvPr/>
          </p:nvCxnSpPr>
          <p:spPr>
            <a:xfrm>
              <a:off x="4726440" y="1347840"/>
              <a:ext cx="1440" cy="1074600"/>
            </a:xfrm>
            <a:prstGeom prst="straightConnector1">
              <a:avLst/>
            </a:prstGeom>
            <a:ln w="19080">
              <a:solidFill>
                <a:srgbClr val="000000"/>
              </a:solidFill>
              <a:miter/>
              <a:tailEnd len="med" type="triangle" w="med"/>
            </a:ln>
          </p:spPr>
        </p:cxnSp>
        <p:sp>
          <p:nvSpPr>
            <p:cNvPr id="286" name=""/>
            <p:cNvSpPr/>
            <p:nvPr/>
          </p:nvSpPr>
          <p:spPr>
            <a:xfrm rot="16200000">
              <a:off x="5934600" y="3427920"/>
              <a:ext cx="804960" cy="671040"/>
            </a:xfrm>
            <a:custGeom>
              <a:avLst/>
              <a:gdLst>
                <a:gd name="textAreaLeft" fmla="*/ 268200 w 804960"/>
                <a:gd name="textAreaRight" fmla="*/ 689400 w 804960"/>
                <a:gd name="textAreaTop" fmla="*/ 451800 h 671040"/>
                <a:gd name="textAreaBottom" fmla="*/ 574920 h 671040"/>
              </a:gdLst>
              <a:ahLst/>
              <a:rect l="textAreaLeft" t="textAreaTop" r="textAreaRight" b="textAreaBottom"/>
              <a:pathLst>
                <a:path w="21600" h="21600">
                  <a:moveTo>
                    <a:pt x="0" y="17643"/>
                  </a:moveTo>
                  <a:lnTo>
                    <a:pt x="14543" y="17643"/>
                  </a:lnTo>
                  <a:lnTo>
                    <a:pt x="14543" y="7200"/>
                  </a:lnTo>
                  <a:lnTo>
                    <a:pt x="11443" y="7200"/>
                  </a:lnTo>
                  <a:lnTo>
                    <a:pt x="16522"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1571760" y="6851520"/>
              <a:ext cx="6308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88" name=""/>
            <p:cNvSpPr/>
            <p:nvPr/>
          </p:nvSpPr>
          <p:spPr>
            <a:xfrm flipV="1">
              <a:off x="1571760" y="5400"/>
              <a:ext cx="72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571760" y="5400"/>
              <a:ext cx="63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80400" y="5400"/>
              <a:ext cx="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Суть ітегративної функції полягає</a:t>
            </a:r>
            <a:endParaRPr b="0" lang="en-US" sz="4000" spc="-1" strike="noStrike">
              <a:solidFill>
                <a:srgbClr val="ccecff"/>
              </a:solidFill>
              <a:latin typeface="Arial"/>
            </a:endParaRPr>
          </a:p>
        </p:txBody>
      </p:sp>
      <p:sp>
        <p:nvSpPr>
          <p:cNvPr id="292"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в огранізуючих можливостях і здатності релігії через релігійні інститути, спільноти, організації забезпечувати в’язок, певну злагоду, солідарність, згуртованість одновірців, соціальних, етнічних та конфесійних груп. Але інтегративна функція проявляється як правило у внутріконфесійних відносинах, тоді як у міжконфесійних відносинах дуже часто на релігіному грунті виникає чимало конфліктів, в результаті чого в поліконфесійному суспільстві релігія призводить до розколів, ворожнеч та війн, в чому проявляється її дезінтегруюча функці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Комунікативна роль релігії</a:t>
            </a:r>
            <a:r>
              <a:rPr b="0" lang="uk-UA" sz="3200" spc="-1" strike="noStrike">
                <a:solidFill>
                  <a:srgbClr val="ffffff"/>
                </a:solidFill>
                <a:latin typeface="Verdana"/>
              </a:rPr>
              <a:t> полягає у забезпеченні зв’язку віруючих з Богом (вертикальний зв’язок), спілкування віруючих між собою як у межах певної релігійної спільноти так і поза нею (горизонтальний зв’язок).</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Здатність релігії через систему норм, правил, установок, канонів бути регулятором відносин, поведінки, вчинків, дій віруючих релігійних спільнот і навіть суспільства в цілому заклечається в </a:t>
            </a:r>
            <a:r>
              <a:rPr b="1" i="1" lang="uk-UA" sz="3200" spc="-1" strike="noStrike">
                <a:solidFill>
                  <a:srgbClr val="ffff00"/>
                </a:solidFill>
                <a:latin typeface="Verdana"/>
              </a:rPr>
              <a:t>регулятивній функції релігії</a:t>
            </a:r>
            <a:r>
              <a:rPr b="0" lang="uk-UA"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Світоглядна функція релігії</a:t>
            </a:r>
            <a:r>
              <a:rPr b="0" lang="uk-UA" sz="3200" spc="-1" strike="noStrike">
                <a:solidFill>
                  <a:srgbClr val="ffffff"/>
                </a:solidFill>
                <a:latin typeface="Verdana"/>
              </a:rPr>
              <a:t> проявляється у тому, що релігія як цілісна система світосприйняття дає осмислення навколишнього світу, людини, формує картину світу, шкалу пріоритетів та цінностей, дає знання про історію людства, розкриває сенс буття людини, наповнює певним смислом вчинки.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r>
              <a:rPr b="0" lang="uk-UA" sz="4000" spc="-1" strike="noStrike">
                <a:solidFill>
                  <a:srgbClr val="ccecff"/>
                </a:solidFill>
                <a:latin typeface="Arial"/>
              </a:rPr>
              <a:t>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Це явище просторового поєднання елементів релігійного життя і діяльності населення на будь-якому масштабному рівні у відповідності до впливу місцевих умов і факторів яке супроводжуються складними історичними процесами територіальних системоутворень.</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шими словами, під </a:t>
            </a:r>
            <a:r>
              <a:rPr b="0" lang="uk-UA" sz="2800" spc="-1" strike="noStrike">
                <a:solidFill>
                  <a:srgbClr val="ffcc66"/>
                </a:solidFill>
                <a:latin typeface="Verdana"/>
              </a:rPr>
              <a:t>ТОРС</a:t>
            </a:r>
            <a:r>
              <a:rPr b="0" lang="uk-UA" sz="2800" spc="-1" strike="noStrike">
                <a:solidFill>
                  <a:srgbClr val="ffffff"/>
                </a:solidFill>
                <a:latin typeface="Verdana"/>
              </a:rPr>
              <a:t> розуміється просторове розміщення різних релігійних форм і видів релігійної діяльності людини у відповідності до умов розвитку регіон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6840" y="228600"/>
            <a:ext cx="84582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Не менш важливою для людини є </a:t>
            </a:r>
            <a:r>
              <a:rPr b="1" i="1" lang="uk-UA" sz="2400" spc="-1" strike="noStrike">
                <a:solidFill>
                  <a:srgbClr val="ffff00"/>
                </a:solidFill>
                <a:latin typeface="Verdana"/>
              </a:rPr>
              <a:t>компенсаторна (компенсаційна) функція</a:t>
            </a:r>
            <a:r>
              <a:rPr b="0" lang="uk-UA" sz="2400" spc="-1" strike="noStrike">
                <a:solidFill>
                  <a:srgbClr val="ffffff"/>
                </a:solidFill>
                <a:latin typeface="Verdana"/>
              </a:rPr>
              <a:t>, яка спрямована на підтримку психологічної рівноваги особи, яка переживає труднощі. Тобто, дана функція дозволяє в психологічному, моральному, духовному сенсі компенсувати стресові ситуації, що можуть бути пов’язані з складними умовами життя, глибокими переживаннями, хворобою, неминучою смертю , тобто компенсує негативні почуття, які виникають через залежність людини від об’єктивних обставин. В руслі цього реалізуються терапевтична, «утішна», «лікувальна» функції релігії, які дозволяють полегшувати психологічний стан, пов’язаний з негативними емоціями, стресами, «лікує» душу, сприяють збереженню внутрішнього спокою.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304560" y="0"/>
            <a:ext cx="883908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хідними від інтегративної та комунікаційної функцій релігії є </a:t>
            </a:r>
            <a:r>
              <a:rPr b="1" i="1" lang="uk-UA" sz="2800" spc="-1" strike="noStrike">
                <a:solidFill>
                  <a:srgbClr val="ffff00"/>
                </a:solidFill>
                <a:latin typeface="Verdana"/>
              </a:rPr>
              <a:t>етноформуюча, етноідентифікаційна, етноконсолідуюча, етнозбірігаюча функції</a:t>
            </a:r>
            <a:r>
              <a:rPr b="0" lang="uk-UA" sz="2800" spc="-1" strike="noStrike">
                <a:solidFill>
                  <a:srgbClr val="ffffff"/>
                </a:solidFill>
                <a:latin typeface="Verdana"/>
              </a:rPr>
              <a:t>, оскільки полягають в тому, що деякі релігії стають каталізаторами формування етносів. (Наприклад: індуїсти-індуси, сикхісти-сикхи тощо.)</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Verdana"/>
              </a:rPr>
              <a:t>Культуроформуюча або культурозберігаюча функція</a:t>
            </a:r>
            <a:r>
              <a:rPr b="0" lang="uk-UA" sz="2800" spc="-1" strike="noStrike">
                <a:solidFill>
                  <a:srgbClr val="ffffff"/>
                </a:solidFill>
                <a:latin typeface="Verdana"/>
              </a:rPr>
              <a:t> дозволяє в межах релігійних віровчень, спільнот формуються єдині зразки почуттів, думок, поведінки людей, культури, завдяки чому релігія виступає як потужний засіб упорядкування й збереження традицій та звичаїв певних національностей етносів, народі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Висновки </a:t>
            </a:r>
            <a:endParaRPr b="0" lang="en-US" sz="4000" spc="-1" strike="noStrike">
              <a:solidFill>
                <a:srgbClr val="ccecff"/>
              </a:solidFill>
              <a:latin typeface="Arial"/>
            </a:endParaRPr>
          </a:p>
        </p:txBody>
      </p:sp>
      <p:sp>
        <p:nvSpPr>
          <p:cNvPr id="299" name="PlaceHolder 2"/>
          <p:cNvSpPr>
            <a:spLocks noGrp="1"/>
          </p:cNvSpPr>
          <p:nvPr>
            <p:ph/>
          </p:nvPr>
        </p:nvSpPr>
        <p:spPr>
          <a:xfrm>
            <a:off x="151920" y="609120"/>
            <a:ext cx="899172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Отже, неоднозначність впливу викликають функції релігії, які вона здійснює. З одного боку релігія може об’єднувати людей в певні спільноти на різних ієрархічних рівнях (етнічні та соціальні групи, держава і т.д.), бути консолідуючим чинником нації, прищеплювати морально-етичні цінності, які були сформовані людством у процесі свого історичного розвитку, а з іншого – релігія є своєрідним «яблуком роздору» - на фоні соціального розшарування населення України, спалахів міжетнічних конфліктів, що були зумовлені, зокрема, активізацією міграційних процесів після розпаду СРСР та збільшенням етногруп, двомовності (білінгвізму) та полікультурності українського соціуму. В Україні спостерігається розкол православ’я та наявність латентних міжетнічних та міжконфесійних конфліктів, в основі яких лежать майнові питання. Це відбувається на різних ієрархічних рівнях – від державного до локального. Така неоднозначність обумовлюється своєрідністю та складністю релігійного життя. Подібна картина спостерігається і в деяких країнах світу (слід згадати воєнні дії між Ізраїлем та Палестиною, в основі яких покладено певною мірою і релігійний чинник).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endParaRPr b="0" lang="en-US" sz="4000" spc="-1" strike="noStrike">
              <a:solidFill>
                <a:srgbClr val="ccecff"/>
              </a:solidFill>
              <a:latin typeface="Arial"/>
            </a:endParaRPr>
          </a:p>
        </p:txBody>
      </p:sp>
      <p:sp>
        <p:nvSpPr>
          <p:cNvPr id="202"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просторове поєднання релігійних елементів, а саме релігійних об'єднань та їх сукупностей, які формуються на основі територіальних утворень систем розселення населення, взаємозв'язки, які виникають між цими елементами  та діяльності населення, що виникають на різних ієрархічних рівнях організації суспільств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компонентна структура</a:t>
            </a:r>
            <a:endParaRPr b="0" lang="en-US" sz="4000" spc="-1" strike="noStrike">
              <a:solidFill>
                <a:srgbClr val="ccecff"/>
              </a:solidFill>
              <a:latin typeface="Arial"/>
            </a:endParaRPr>
          </a:p>
        </p:txBody>
      </p:sp>
      <p:sp>
        <p:nvSpPr>
          <p:cNvPr id="204"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 </a:t>
            </a:r>
            <a:r>
              <a:rPr b="0" lang="uk-UA" sz="3200" spc="-1" strike="noStrike">
                <a:solidFill>
                  <a:srgbClr val="ffffff"/>
                </a:solidFill>
                <a:latin typeface="Verdana"/>
              </a:rPr>
              <a:t>це просторове поєднання різних складових частин релігійного життя і діяльності населення певної країни, включаючи конфесії та набір різного роду допоміжних та обслуговуючих компонентів, що впливають на процеси соціально-економічного і культурно-духовного розвитку території. Головна функція існування релігійних структур – надання духовних послуг.</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територіальна структура</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набір компонентів релігійної сфери та їх концентрація на певний території відповідно до факторів, що зумовлюють вибір місця локалізації будь-якого релігійно-географічного об‘єкта, включаючи як точкові, так і просторові створення.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Verdana"/>
              </a:rPr>
              <a:t>Основними елементами функціонально-територіальної структури </a:t>
            </a:r>
            <a:r>
              <a:rPr b="0" lang="uk-UA" sz="2800" spc="-1" strike="noStrike">
                <a:solidFill>
                  <a:srgbClr val="ffffff"/>
                </a:solidFill>
                <a:latin typeface="Verdana"/>
              </a:rPr>
              <a:t>є точкові (релігійно-географічний пункт і релігійно-географічний центр) та ареальні (релігійно-географічний район).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пункт</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 </a:t>
            </a:r>
            <a:r>
              <a:rPr b="0" lang="uk-UA" sz="2400" spc="-1" strike="noStrike">
                <a:solidFill>
                  <a:srgbClr val="ffffff"/>
                </a:solidFill>
                <a:latin typeface="Verdana"/>
              </a:rPr>
              <a:t>це поєднання будь-яких компонентів релігійного життя і діяльності в певному населеному пункті, які стаціонарно здійснюють хоча б один вид культової практики і надають духовні послуги населенню на порівняно малих територіях. Важливою характеристикою релігійно-географічного пункту є зона його впливу, тобто територія, яку фактично поширюється вплив однієї культової споруди. У більшості випадків релігійно-географічні пункти мають незначний радіус впливу. Ця величина дає змогу оцінити, на яку відстань поширюються релігійні послуги, що надають стаціонарні об'єкти релігійної сфер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центр</a:t>
            </a:r>
            <a:endParaRPr b="0" lang="en-US" sz="40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таке поєднання елементів релігійного життя і діяльності в населеному пункті, яке включає в себе обов‘язково три і більше головних та інші компоненти РС, в тому числі хоча б один управлінський – кущового тип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район</a:t>
            </a:r>
            <a:endParaRPr b="0" lang="en-US" sz="4000" spc="-1" strike="noStrike">
              <a:solidFill>
                <a:srgbClr val="ccecff"/>
              </a:solidFill>
              <a:latin typeface="Arial"/>
            </a:endParaRPr>
          </a:p>
        </p:txBody>
      </p:sp>
      <p:sp>
        <p:nvSpPr>
          <p:cNvPr id="21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територія, що характеризується інтенсивним проявом релігійного життя й активності населення, спільністю релігійно-географічного положення, на якій проявляються стійкі ознаки релігійної діяльності.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Виділяють релігійно-географічні райони двох видів: моноконфесійні (коли спостерігається чітке домінуюче переважання певної конфесії на даній території) і поліконфесійні (зустрічаються кілька конфесій без вагомої переваги в кількості громад і самих віруючи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управлінська структура</a:t>
            </a:r>
            <a:endParaRPr b="0" lang="en-US" sz="4000" spc="-1" strike="noStrike">
              <a:solidFill>
                <a:srgbClr val="ccecff"/>
              </a:solidFill>
              <a:latin typeface="Arial"/>
            </a:endParaRPr>
          </a:p>
        </p:txBody>
      </p:sp>
      <p:sp>
        <p:nvSpPr>
          <p:cNvPr id="214" name="PlaceHolder 2"/>
          <p:cNvSpPr>
            <a:spLocks noGrp="1"/>
          </p:cNvSpPr>
          <p:nvPr>
            <p:ph/>
          </p:nvPr>
        </p:nvSpPr>
        <p:spPr>
          <a:xfrm>
            <a:off x="0" y="1599840"/>
            <a:ext cx="876312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сукупність керівних релігійних органів та інституцій діяльності населення на певній території відповідно до вимог церковних правил та ієрархічної субординації конфесійних структур з урахуванням адміністративних особливостей територ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За масштабом вона має такі рівні організац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1) місце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2) кущо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3) регіональн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4) всесвітні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1T08:17:0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