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FF0-9060-4DC2-BE34-F4ED8F16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6F2-CCED-49DD-B4C8-DFC4FA34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DEA-44A3-40C5-9832-22C68C09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71D-8D31-4D23-81C8-21365E2E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F605-79DC-4FB2-BB60-DA334C3D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7E9D-DF12-4DCD-813A-34CA7569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22AA-1963-4D9A-80FF-B4D7D690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7B28-5FDE-416F-946F-9535B9E4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78C2-A84B-4552-9FC2-71DE7C20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B2CD-CE30-4FF2-847A-14B57C6C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027C-C32F-4239-AE18-1DAA86D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E71-3143-48FF-9625-1E271A01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5882-16A7-4D10-9A05-F507A80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DE74-29F8-4B93-A701-023F1E56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BF9B-AF33-4983-9B62-C8E0F7CA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2E99-DFEF-4184-8AD7-12948C41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8950-D4DA-4C3A-B943-5845A02C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1F4-42BE-48C3-9E77-D5F1CD8F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BC0-4E21-4D00-B216-7DF0182E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134-F0C1-448A-BDDB-DC6934FF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0A7-6CF6-46D7-A561-DB4C86A3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9F4-FC2D-4907-88BF-A2182083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E2E-BEC1-4272-A9BC-46F6C477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F26-4AAF-4741-B175-51BC4AC0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1634-ED44-41C4-A072-FD05AE18EF8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9D7C-C789-4416-B44C-36740716E9A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Історичні особливості розвитку медичної географії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2f1311"/>
                </a:solidFill>
                <a:latin typeface="Arial"/>
              </a:rPr>
              <a:t>Семінарське заняття 1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7650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о кінця ХІХ ст., з розвитком мікробіології, епідеміології, санітарної статистики і гігієни, характер медико-географічних досліджень змінюєтьс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Зростає інтерес до вивчення соціально-економічних умов, їхнього впливу на стан здоров'я, захворюваність і смертність, організацію охорони здоров'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У цей період розвитку медичної географії вчені стали широко використовувати не тільки описовий, як це було в минулому, але і статистичний, картографічний і історичний методи дослідженн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а початку  ХХ ст. розвиток медичної географії призупинився (почалася диференціація наук). У цей час вітчизняна медична географія розуміється як галузь загальної географії, що займається вивченням географічного поширення хвороб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сновоположниками медичної географії як самостійної науки в СРСР стали Д. К. Заболотний і Е. Н. Павловський, що запропонували методичні основи сучасних медико-географічних досліджень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У 50-60-і рр. великий внесок у вивчення медичної географії зробили А. А. Шошин, Е. І. Ігнатьєв, А. Г. Воронов і ін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У середині 20 ст. радянські вчені (А. П. Авцин, Г. М. Данишевський, А. В. Чаклін та ін.) почали інтенсивне дослідження поширення пухлинних захворювань (головним чином рака), серцево-судинних захворювань і інших у зв'язку з клімато-географічними умовами. Цей напрямок виділився в самостійну галузь медицини й одержав назву </a:t>
            </a:r>
            <a:r>
              <a:rPr b="0" i="1" lang="uk-UA" sz="2400" spc="-1" strike="noStrike">
                <a:solidFill>
                  <a:srgbClr val="2f1311"/>
                </a:solidFill>
                <a:latin typeface="Arial"/>
              </a:rPr>
              <a:t>географічної патології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650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роки Великої вітчизняної війни весь науковий потенціал медицини був мобілізований на обслуговування армії. З 1943 року стали проводитися дослідження з військово-медичної географії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хорона здоров'я вимагало комплексних медико-географічних досліджень при освоєнні нових територій, що відродило інтерес до медичної географії. Почалося експедиційне дослідження територій Далекого Сходу і Сибіру. Багато експедицій проводилися під керівництвом академіка Е.Н. Павловсько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7421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У 80-і роки основні напрямки медико-географічних досліджень залишаються пріоритетним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овим стає медико-географічне прогнозування, на основі якого складаються програми розвитку охорони здоров'я і профілактики захворювань, обумовлених факторами зовнішнього середовищ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Як і раніше серед проблем, що займають медиків-географів важливе місце приділяється питанням адаптації людини до екстремальних умов, нозогеографії, епідеміології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9616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7d47d"/>
                </a:solidFill>
                <a:latin typeface="Arial"/>
              </a:rPr>
              <a:t>Питання для обговоренн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Зародки медико-географічних знань як важливий етап розвитку медичної географі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акопичення медико-географічних знань у цехах цирульників (ХІІ-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т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), в парафіяльних братствах (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ст.), в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едичних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школах (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І ст.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ійськово-медична справа і медична географія (ХІХ ст.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Земський етап розвитку медичної географії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сновні надбання та розвиток медичної географії у дореволюційний період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собливості розвитку медико-географічних досліджень у 20 – 30 рр., воєнні та післявоєнні роки ХХ с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учасний етап розвитку медичної географії – проблеми та перспекти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Здавна було замічено, що багато хвороб людини зустрічаються лише у визначених частинах земної кулі, виникають після контакту з певними видами рослин і тварин, що живуть у конкретних природних умовах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Так, наприклад, жовта лихоманка зустрічається в країнах Південної Америки й Африки, лейшманіоз з'являється тільки в жарких країнах, зокрема  в Середній Азії і Закавказзі, холера - в Індії і найближчих до неї країнах Азії і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авіть хвороби, розповсюджені повсюдно, в одних районах зустрічаються частіше, ніж в інші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742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тановлення медичної географії як науки охоплює тисячоріччя; воно залежало від розвитку багатьох інших наук, насамперед  від географії і медицини, а також від фізики, хімії, біології й ін. Кожне нове відкриття, досягнення в цих областях знання сприяло розвитку медичної географії, її зміс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160" y="228600"/>
            <a:ext cx="7280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ші представлення про вплив природних і соціально-економічних факторів на здоров'я людей почали формуватися ще в далекій давнині, про що свідчать дані археології, елементи медичної діяльності, відбиті в мові, народному епосі, а також у творах мистецтва, що згадують різноманітні хворобливі стани і медичну допомогу при них, що збереглися древні писання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160" y="228240"/>
            <a:ext cx="76611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В епоху середньовіччя характерними є ріст міст, у яких відзначалися висока щільність населення, антисанітарні умови, низький рівень медичної допомоги хворим. Усе це сприяло масовому поширенню епідемій. Судячи з описів, це були чума, тиф, дизентерія, вісп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Значний розвиток медицина одержав в арабських країнах. Видатний лікар середньовіччя Абу Алі Ібн Сина (980-1037 р.) багато уваги приділяв взаємодії середовища і людини, ролі навколишнього середовища у виникненні захворювань, відзначаючи залежність здоров'я від географічних умов місцевості, у якій проживає людину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228240"/>
            <a:ext cx="74325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Початок становлення вітчизняної медичної географії відноситься до першої чверті Х\/ІІІ ст. Медико-географічна інформація міститься в працях перших російських географів і вчених, насамперед  М.В. Ломоносова, що у своїх роботах у 1753 р. вказує на значення погоди для здоров'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У 1762 р. Яків Монзей писав про необхідність займатися природничонауковими спостереженнями, досліджуючи місце розташування, погоду, звичаї місцевих жителів, що можуть впливати на стан здоров'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-360"/>
            <a:ext cx="74325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Також деякі наукові дослідження з медичної географії, що з'явилися ще в 18 ст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у Росії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пов'язані з іменами О. Гуна, А. П., Владимирського і Я. А. Чистович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Значний внесок у розвиток медичної географії внесли роботи англійських вчених С. Хеннена, X. Маршалла, француза Ш. Будена й ін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2c29"/>
            </a:gs>
            <a:gs pos="50000">
              <a:srgbClr val="c16059"/>
            </a:gs>
            <a:gs pos="100000">
              <a:srgbClr val="582c2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650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а початку ХІХ в. медична географія в Росії досягла свого розквіту. Найбільші діячі російської медицини С.П. Боткін, Н.І. Пирогов, І.М. Сєченов приділяли багато уваги використанню кліматичних факторів у лікувальних цілях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У 1893 р. видається книга видатного російського кліматолога і географа А.І. Войейкова "Дослідження кліматів для цілей лікування і гігієни", у якій автор розвиває ідею климатолікування, а також розглядає вплив метеорологічних факторів на організм люди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мец Людмила</cp:lastModifiedBy>
  <dcterms:modified xsi:type="dcterms:W3CDTF">2011-05-30T12:41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