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1DC-814C-4C8A-A6FF-E7A7456A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E1A2-E4D8-4BEF-9A7D-3F82D0A5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06D9-2263-4A20-AE90-56A9D3B0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D748-35FD-46F6-BDEE-18F5033C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0DD9-CCCC-4422-9453-C2DD590E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E79E-89EB-4061-9B5A-3DC8332A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3FD6-E127-4295-8B8F-A6826203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3AEB-F087-4524-8B1E-3D4594A1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46C3-F2CD-441F-AC72-8104FB78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22AB-70D6-4B8F-8EC5-3B7EA5EB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0D13-9CBD-4D9D-84F8-ED9AFC67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8AD9-2B50-4E09-BA6D-99EDF021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05AF-4C4B-4313-B3E1-6788A025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C018-96DD-44D3-818A-1900FBC7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F5EA-3F41-4EC0-909A-D61D1239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9BD7-E0FA-4FCA-A696-6DD455DC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BC68-777A-4036-868B-50BDF6FC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7912-B304-4236-A82B-8DF9C21E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E7B6-5325-40D8-88CA-2CFDB8E6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09E4-4987-4BB9-9958-F227A7BB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EABE-3D45-4F90-84FD-44B7363B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3796-A097-4FE9-803A-7FDA7EF9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645-A6D9-4B2F-B2A7-E724CC23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93AE-0051-411B-8F49-98E5F4E7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815E-3103-44EC-8282-7D7023E244A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15C9-7C05-4876-8698-1AC775207D7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7d47d"/>
                </a:solidFill>
                <a:latin typeface="Arial"/>
              </a:rPr>
              <a:t>Історичні особливості розвитку медичної географії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2f1311"/>
                </a:solidFill>
                <a:latin typeface="Arial"/>
              </a:rPr>
              <a:t>Семінарське заняття 1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7650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о кінця ХІХ ст., з розвитком мікробіології, епідеміології, санітарної статистики і гігієни, характер медико-географічних досліджень змінюєтьс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Зростає інтерес до вивчення соціально-економічних умов, їхнього впливу на стан здоров'я, захворюваність і смертність, організацію охорони здоров'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У цей період розвитку медичної географії вчені стали широко використовувати не тільки описовий, як це було в минулому, але і статистичний, картографічний і історичний методи дослідженн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На початку  ХХ ст. розвиток медичної географії призупинився (почалася диференціація наук). У цей час вітчизняна медична географія розуміється як галузь загальної географії, що займається вивченням географічного поширення хвороб.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Основоположниками медичної географії як самостійної науки в СРСР стали Д. К. Заболотний і Е. Н. Павловський, що запропонували методичні основи сучасних медико-географічних досліджень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У 50-60-і рр. великий внесок у вивчення медичної географії зробили А. А. Шошин, Е. І. Ігнатьєв, А. Г. Воронов і ін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У середині 20 ст. радянські вчені (А. П. Авцин, Г. М. Данишевський, А. В. Чаклін та ін.) почали інтенсивне дослідження поширення пухлинних захворювань (головним чином рака), серцево-судинних захворювань і інших у зв'язку з клімато-географічними умовами. Цей напрямок виділився в самостійну галузь медицини й одержав назву </a:t>
            </a:r>
            <a:r>
              <a:rPr b="0" i="1" lang="uk-UA" sz="2400" spc="-1" strike="noStrike">
                <a:solidFill>
                  <a:srgbClr val="2f1311"/>
                </a:solidFill>
                <a:latin typeface="Arial"/>
              </a:rPr>
              <a:t>географічної патології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7650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роки Великої вітчизняної війни весь науковий потенціал медицини був мобілізований на обслуговування армії. З 1943 року стали проводитися дослідження з військово-медичної географії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Охорона здоров'я вимагало комплексних медико-географічних досліджень при освоєнні нових територій, що відродило інтерес до медичної географії. Почалося експедиційне дослідження територій Далекого Сходу і Сибіру. Багато експедицій проводилися під керівництвом академіка Е.Н. Павловськог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7421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У 80-і роки основні напрямки медико-географічних досліджень залишаються пріоритетним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Новим стає медико-географічне прогнозування, на основі якого складаються програми розвитку охорони здоров'я і профілактики захворювань, обумовлених факторами зовнішнього середовищ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Як і раніше серед проблем, що займають медиків-географів важливе місце приділяється питанням адаптації людини до екстремальних умов, нозогеографії, епідеміології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9616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7d47d"/>
                </a:solidFill>
                <a:latin typeface="Arial"/>
              </a:rPr>
              <a:t>Питання для обговоренн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7620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Зародки медико-географічних знань як важливий етап розвитку медичної географі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Накопичення медико-географічних знань у цехах цирульників (ХІІ-Х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ст.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), в парафіяльних братствах (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XVI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XVII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ст.), в 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медичних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школах (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XVII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І ст.)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Військово-медична справа і медична географія (ХІХ ст.)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Земський етап розвитку медичної географії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Основні надбання та розвиток медичної географії у дореволюційний період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Особливості розвитку медико-географічних досліджень у 20 – 30 рр., воєнні та післявоєнні роки ХХ с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Сучасний етап розвитку медичної географії – проблеми та перспектив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7543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Здавна було замічено, що багато хвороб людини зустрічаються лише у визначених частинах земної кулі, виникають після контакту з певними видами рослин і тварин, що живуть у конкретних природних умовах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Так, наприклад, жовта лихоманка зустрічається в країнах Південної Америки й Африки, лейшманіоз з'являється тільки в жарких країнах, зокрема  в Середній Азії і Закавказзі, холера - в Індії і найближчих до неї країнах Азії і т.д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Навіть хвороби, розповсюджені повсюдно, в одних районах зустрічаються частіше, ніж в інші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742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тановлення медичної географії як науки охоплює тисячоріччя; воно залежало від розвитку багатьох інших наук, насамперед  від географії і медицини, а також від фізики, хімії, біології й ін. Кожне нове відкриття, досягнення в цих областях знання сприяло розвитку медичної географії, її зміст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63160" y="228600"/>
            <a:ext cx="7280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ерші представлення про вплив природних і соціально-економічних факторів на здоров'я людей почали формуватися ще в далекій давнині, про що свідчать дані археології, елементи медичної діяльності, відбиті в мові, народному епосі, а також у творах мистецтва, що згадують різноманітні хворобливі стани і медичну допомогу при них, що збереглися древні писання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63160" y="228240"/>
            <a:ext cx="76611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В епоху середньовіччя характерними є ріст міст, у яких відзначалися висока щільність населення, антисанітарні умови, низький рівень медичної допомоги хворим. Усе це сприяло масовому поширенню епідемій. Судячи з описів, це були чума, тиф, дизентерія, вісп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Значний розвиток медицина одержав в арабських країнах. Видатний лікар середньовіччя Абу Алі Ібн Сина (980-1037 р.) багато уваги приділяв взаємодії середовища і людини, ролі навколишнього середовища у виникненні захворювань, відзначаючи залежність здоров'я від географічних умов місцевості, у якій проживає людину.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63520" y="228240"/>
            <a:ext cx="74325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Початок становлення вітчизняної медичної географії відноситься до першої чверті Х\/ІІІ ст. Медико-географічна інформація міститься в працях перших російських географів і вчених, насамперед  М.В. Ломоносова, що у своїх роботах у 1753 р. вказує на значення погоди для здоров'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У 1762 р. Яків Монзей писав про необхідність займатися природничонауковими спостереженнями, досліджуючи місце розташування, погоду, звичаї місцевих жителів, що можуть впливати на стан здоров'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63520" y="-360"/>
            <a:ext cx="743256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Також деякі наукові дослідження з медичної географії, що з'явилися ще в 18 ст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у Росії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пов'язані з іменами О. Гуна, А. П., Владимирського і Я. А. Чистович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Значний внесок у розвиток медичної географії внесли роботи англійських вчених С. Хеннена, X. Маршалла, француза Ш. Будена й ін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2c29"/>
            </a:gs>
            <a:gs pos="50000">
              <a:srgbClr val="c16059"/>
            </a:gs>
            <a:gs pos="100000">
              <a:srgbClr val="582c2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7650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На початку ХІХ в. медична географія в Росії досягла свого розквіту. Найбільші діячі російської медицини С.П. Боткін, Н.І. Пирогов, І.М. Сєченов приділяли багато уваги використанню кліматичних факторів у лікувальних цілях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У 1893 р. видається книга видатного російського кліматолога і географа А.І. Войейкова "Дослідження кліматів для цілей лікування і гігієни", у якій автор розвиває ідею климатолікування, а також розглядає вплив метеорологічних факторів на організм людин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емец Людмила</cp:lastModifiedBy>
  <dcterms:modified xsi:type="dcterms:W3CDTF">2011-05-30T12:41:4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