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3F73-EBC4-47FB-ABF7-D7E82791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D80-F74D-4498-8DBA-D347E965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A190-05B4-4C7E-98B6-909A77C6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BE9D-3F6C-4854-92DA-96EF8554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4349-9A04-4803-97F0-CD41091D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0F3D-D30C-443F-A0EB-EE3A2F424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F712-B4EE-4454-A9FF-A6C2E29A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E6B8-E350-4A00-B5F0-C78D293C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1194-5F0F-4959-B34B-A0AB5B97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A545-F843-41E0-8CAB-74CB016C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3594-3524-4BE4-AB69-E3FB567D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1C19-C83C-43A5-947D-6DA9C9ED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6D51-EC07-40F1-9109-15076F6E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AE55-B0E3-4F84-B51C-D2FF08D9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8CCD-4EE8-4616-A738-B78770EF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6214-7F8F-4D6B-BE54-2CA21A608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C8F8-BDCE-44C4-814F-475D6FB87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A49-5B29-4D66-AC46-10C628CC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90A2-7DA0-4AEA-8805-7B938C9C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BD25-AF2D-438B-8644-C5AC0DA2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058D-A4A2-48E5-90FB-572F8E56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D747-D39A-49CC-9694-73ADD832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1AEB-D4D3-4FB4-A939-9F46459E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9435-B847-498E-9780-E2C236EB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21489-D136-4203-BB76-6696EB2B690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FF88-7D4B-42D1-9696-0C093608ACF3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7d47d"/>
                </a:solidFill>
                <a:latin typeface="Arial"/>
              </a:rPr>
              <a:t>Історичні особливості розвитку медичної географії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2f1311"/>
                </a:solidFill>
                <a:latin typeface="Arial"/>
              </a:rPr>
              <a:t>Семінарське заняття 1.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76500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До кінця ХІХ ст., з розвитком мікробіології, епідеміології, санітарної статистики і гігієни, характер медико-географічних досліджень змінюєтьс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Зростає інтерес до вивчення соціально-економічних умов, їхнього впливу на стан здоров'я, захворюваність і смертність, організацію охорони здоров'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У цей період розвитку медичної географії вчені стали широко використовувати не тільки описовий, як це було в минулому, але і статистичний, картографічний і історичний методи дослідженн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На початку  ХХ ст. розвиток медичної географії призупинився (почалася диференціація наук). У цей час вітчизняна медична географія розуміється як галузь загальної географії, що займається вивченням географічного поширення хвороб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Основоположниками медичної географії як самостійної науки в СРСР стали Д. К. Заболотний і Е. Н. Павловський, що запропонували методичні основи сучасних медико-географічних досліджень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У 50-60-і рр. великий внесок у вивчення медичної географії зробили А. А. Шошин, Е. І. Ігнатьєв, А. Г. Воронов і ін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У середині 20 ст. радянські вчені (А. П. Авцин, Г. М. Данишевський, А. В. Чаклін та ін.) почали інтенсивне дослідження поширення пухлинних захворювань (головним чином рака), серцево-судинних захворювань і інших у зв'язку з клімато-географічними умовами. Цей напрямок виділився в самостійну галузь медицини й одержав назву </a:t>
            </a:r>
            <a:r>
              <a:rPr b="0" i="1" lang="uk-UA" sz="2400" spc="-1" strike="noStrike">
                <a:solidFill>
                  <a:srgbClr val="2f1311"/>
                </a:solidFill>
                <a:latin typeface="Arial"/>
              </a:rPr>
              <a:t>географічної патології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650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 роки Великої вітчизняної війни весь науковий потенціал медицини був мобілізований на обслуговування армії. З 1943 року стали проводитися дослідження з військово-медичної географії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Охорона здоров'я вимагало комплексних медико-географічних досліджень при освоєнні нових територій, що відродило інтерес до медичної географії. Почалося експедиційне дослідження територій Далекого Сходу і Сибіру. Багато експедицій проводилися під керівництвом академіка Е.Н. Павловського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7421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У 80-і роки основні напрямки медико-географічних досліджень залишаються пріоритетними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Новим стає медико-географічне прогнозування, на основі якого складаються програми розвитку охорони здоров'я і профілактики захворювань, обумовлених факторами зовнішнього середовища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Як і раніше серед проблем, що займають медиків-географів важливе місце приділяється питанням адаптації людини до екстремальних умов, нозогеографії, епідеміології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9240" y="226800"/>
            <a:ext cx="869616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7d47d"/>
                </a:solidFill>
                <a:latin typeface="Arial"/>
              </a:rPr>
              <a:t>Питання для обговорення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914400"/>
            <a:ext cx="7620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Зародки медико-географічних знань як важливий етап розвитку медичної географі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Накопичення медико-географічних знань у цехах цирульників (ХІІ-Х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V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т.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), в парафіяльних братствах (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V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ст.), в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медичних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школах (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XVII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І ст.)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Військово-медична справа і медична географія (ХІХ ст.)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Земський етап розвитку медичної географії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Основні надбання та розвиток медичної географії у дореволюційний період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Особливості розвитку медико-географічних досліджень у 20 – 30 рр., воєнні та післявоєнні роки ХХ ст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f131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f1311"/>
                </a:solidFill>
                <a:latin typeface="Arial"/>
              </a:rPr>
              <a:t>Сучасний етап розвитку медичної географії – проблеми та перспективи.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75438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Здавна було замічено, що багато хвороб людини зустрічаються лише у визначених частинах земної кулі, виникають після контакту з певними видами рослин і тварин, що живуть у конкретних природних умовах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Так, наприклад, жовта лихоманка зустрічається в країнах Південної Америки й Африки, лейшманіоз з'являється тільки в жарких країнах, зокрема  в Середній Азії і Закавказзі, холера - в Індії і найближчих до неї країнах Азії і т.д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Навіть хвороби, розповсюджені повсюдно, в одних районах зустрічаються частіше, ніж в інші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7421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Становлення медичної географії як науки охоплює тисячоріччя; воно залежало від розвитку багатьох інших наук, насамперед  від географії і медицини, а також від фізики, хімії, біології й ін. Кожне нове відкриття, досягнення в цих областях знання сприяло розвитку медичної географії, її змісту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63160" y="228600"/>
            <a:ext cx="7280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Перші представлення про вплив природних і соціально-економічних факторів на здоров'я людей почали формуватися ще в далекій давнині, про що свідчать дані археології, елементи медичної діяльності, відбиті в мові, народному епосі, а також у творах мистецтва, що згадують різноманітні хворобливі стани і медичну допомогу при них, що збереглися древні писання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63160" y="228240"/>
            <a:ext cx="76611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В епоху середньовіччя характерними є ріст міст, у яких відзначалися висока щільність населення, антисанітарні умови, низький рівень медичної допомоги хворим. Усе це сприяло масовому поширенню епідемій. Судячи з описів, це були чума, тиф, дизентерія, віспа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Значний розвиток медицина одержав в арабських країнах. Видатний лікар середньовіччя Абу Алі Ібн Сина (980-1037 р.) багато уваги приділяв взаємодії середовища і людини, ролі навколишнього середовища у виникненні захворювань, відзначаючи залежність здоров'я від географічних умов місцевості, у якій проживає людину.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263520" y="228240"/>
            <a:ext cx="743256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Початок становлення вітчизняної медичної географії відноситься до першої чверті Х\/ІІІ ст. Медико-географічна інформація міститься в працях перших російських географів і вчених, насамперед  М.В. Ломоносова, що у своїх роботах у 1753 р. вказує на значення погоди для здоров'я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У 1762 р. Яків Монзей писав про необхідність займатися природничонауковими спостереженнями, досліджуючи місце розташування, погоду, звичаї місцевих жителів, що можуть впливати на стан здоров'я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263520" y="-360"/>
            <a:ext cx="743256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Також деякі наукові дослідження з медичної географії, що з'явилися ще в 18 ст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у Росії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пов'язані з іменами О. Гуна, А. П., Владимирського і Я. А. Чистовича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f1311"/>
                </a:solidFill>
                <a:latin typeface="Arial"/>
              </a:rPr>
              <a:t>Значний внесок у розвиток медичної географії внесли роботи англійських вчених С. Хеннена, X. Маршалла, француза Ш. Будена й ін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82c29"/>
            </a:gs>
            <a:gs pos="50000">
              <a:srgbClr val="c16059"/>
            </a:gs>
            <a:gs pos="100000">
              <a:srgbClr val="582c2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-360"/>
            <a:ext cx="7650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На початку ХІХ в. медична географія в Росії досягла свого розквіту. Найбільші діячі російської медицини С.П. Боткін, Н.І. Пирогов, І.М. Сєченов приділяли багато уваги використанню кліматичних факторів у лікувальних цілях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f1311"/>
                </a:solidFill>
                <a:latin typeface="Arial"/>
              </a:rPr>
              <a:t>У 1893 р. видається книга видатного російського кліматолога і географа А.І. Войейкова "Дослідження кліматів для цілей лікування і гігієни", у якій автор розвиває ідею климатолікування, а також розглядає вплив метеорологічних факторів на організм людин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емец Людмила</cp:lastModifiedBy>
  <dcterms:modified xsi:type="dcterms:W3CDTF">2011-05-30T12:41:4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