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D2F9-3850-4AC5-A29D-1F6F27E3F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3C08-7280-4321-A647-E1D36F42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68B1-EBAD-406A-A746-19EDBE1D7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233D-FEA7-4C09-9D8D-920531365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B5D9-F111-4BFF-8716-B38825D25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5A6E-5A4A-4F43-9959-508800E7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A930-05CB-4832-90AB-FE2D3489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8342-4345-4D0C-A8A2-1D1E0902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15C1-E90B-4C9B-8FCA-5E3F8898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73165-0C1D-4FBC-A3A7-1E040353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7C0AD-DAFB-47FC-81CB-8D1AD7F8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A7A5-2887-4C04-A117-8786D3C3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7E68-27C1-4944-B7B1-D5BE5884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7AE97-3717-4DAF-9E3A-483BD1B9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9013D-CEE8-42F1-A785-1730C6C3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B5A9-15BA-41C5-8148-517C150FC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3F53-6EDE-47EC-8A95-045BABFC9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8DBE-03FA-4E37-8D26-EF6F031D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8F1A-5FC1-4351-8BA0-A30911F0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455F-E2C7-4DAC-9C18-8E60D603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F3F1-D5DC-432F-8F18-CB7E2260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117D-C0CC-4C9A-A372-A2CD3FD7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A5F3-29CE-43AF-9980-588E0322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5EF0-C0FB-47C0-8841-236DDBB1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5632-641C-424F-9CB4-67A571A9758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CF05-0DCA-4B2A-8ECA-CACDDBF3C30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Тема 5: Вивчення простору в </a:t>
            </a:r>
            <a:br>
              <a:rPr sz="4000"/>
            </a:b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медичній географії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екція 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83516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едовище проживання в медичній географії розглядається як багаторівнева структура, яку можна поділити на декілька взаємопов’язаних підсистем, що мають вплив на стан здоров’я: природне , техногенне, соціально-економічне, та соціально-психологічне середовища, які взаємопов’язані і взаємоперетинаються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707760" y="505800"/>
            <a:ext cx="7727760" cy="5396760"/>
            <a:chOff x="707760" y="505800"/>
            <a:chExt cx="7727760" cy="5396760"/>
          </a:xfrm>
        </p:grpSpPr>
        <p:sp>
          <p:nvSpPr>
            <p:cNvPr id="160" name="_s78852"/>
            <p:cNvSpPr/>
            <p:nvPr/>
          </p:nvSpPr>
          <p:spPr>
            <a:xfrm>
              <a:off x="3511800" y="1271520"/>
              <a:ext cx="2120040" cy="2193480"/>
            </a:xfrm>
            <a:prstGeom prst="ellipse">
              <a:avLst/>
            </a:prstGeom>
            <a:solidFill>
              <a:srgbClr val="66ccff">
                <a:alpha val="50000"/>
              </a:srgbClr>
            </a:solidFill>
            <a:ln w="468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_s78853"/>
            <p:cNvSpPr/>
            <p:nvPr/>
          </p:nvSpPr>
          <p:spPr>
            <a:xfrm>
              <a:off x="3679920" y="505800"/>
              <a:ext cx="178488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700" spc="-1" strike="noStrike">
                  <a:solidFill>
                    <a:srgbClr val="ffff00"/>
                  </a:solidFill>
                  <a:latin typeface="Tahoma"/>
                </a:rPr>
                <a:t>Середовище існування людини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_s78854"/>
            <p:cNvSpPr/>
            <p:nvPr/>
          </p:nvSpPr>
          <p:spPr>
            <a:xfrm>
              <a:off x="4319280" y="2107440"/>
              <a:ext cx="2120040" cy="2193480"/>
            </a:xfrm>
            <a:prstGeom prst="ellipse">
              <a:avLst/>
            </a:prstGeom>
            <a:solidFill>
              <a:srgbClr val="ffffcc">
                <a:alpha val="50000"/>
              </a:srgbClr>
            </a:solidFill>
            <a:ln w="46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_s78855"/>
            <p:cNvSpPr/>
            <p:nvPr/>
          </p:nvSpPr>
          <p:spPr>
            <a:xfrm>
              <a:off x="6650640" y="2930400"/>
              <a:ext cx="178488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_s78856"/>
            <p:cNvSpPr/>
            <p:nvPr/>
          </p:nvSpPr>
          <p:spPr>
            <a:xfrm>
              <a:off x="3511800" y="2943000"/>
              <a:ext cx="2120040" cy="2193480"/>
            </a:xfrm>
            <a:prstGeom prst="ellipse">
              <a:avLst/>
            </a:prstGeom>
            <a:solidFill>
              <a:srgbClr val="ff99cc">
                <a:alpha val="50000"/>
              </a:srgbClr>
            </a:solidFill>
            <a:ln w="46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_s78857"/>
            <p:cNvSpPr/>
            <p:nvPr/>
          </p:nvSpPr>
          <p:spPr>
            <a:xfrm>
              <a:off x="3679920" y="5355000"/>
              <a:ext cx="178488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3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_s78858"/>
            <p:cNvSpPr/>
            <p:nvPr/>
          </p:nvSpPr>
          <p:spPr>
            <a:xfrm>
              <a:off x="2704320" y="2107440"/>
              <a:ext cx="2120040" cy="219348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468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_s78859"/>
            <p:cNvSpPr/>
            <p:nvPr/>
          </p:nvSpPr>
          <p:spPr>
            <a:xfrm>
              <a:off x="707760" y="2930400"/>
              <a:ext cx="178488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1747440" y="2895480"/>
            <a:ext cx="17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Соціаль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психологіч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18880" y="12193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Техноген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631480" y="29718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Природ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46320" y="441972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Соціально-економічне 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>
            <a:lum contrast="1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07552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 u="sng">
                <a:solidFill>
                  <a:srgbClr val="ffffff"/>
                </a:solidFill>
                <a:uFillTx/>
                <a:latin typeface="Verdana"/>
              </a:rPr>
              <a:t>Список рекомендованої літератури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1.  Агесс Пьер. Ключи к екологии. – Л.: Гидрометиздат, 1986. – 86 с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2.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Баландин Р. К., Бондарев Л. Г. Природа и цивилизация. — М: Мысль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986.—391с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3.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Беллер Г. А. Экзамен разума. — М.: Мысль, 1988. — 251 с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4.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Гирусов Э. В. Основы социальной экологии. — М, 1998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5.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Горелов А. А. Экология. —М: Центр, 2000. —240 с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6. Никитин Д.П., Новиков Ю.В. Окружающая среда и человек. – М,1993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7.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епмерс Н. Ф. Экология: теории, законы, правила, принципы и гипоте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зы. — М.: Мысль, 1994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06:27:39Z</dcterms:created>
  <dc:creator>КАН</dc:creator>
  <dc:description/>
  <dc:language>en-US</dc:language>
  <cp:lastModifiedBy>Немец Людмила</cp:lastModifiedBy>
  <dcterms:modified xsi:type="dcterms:W3CDTF">2011-05-30T14:38:43Z</dcterms:modified>
  <cp:revision>16</cp:revision>
  <dc:subject/>
  <dc:title>Науковий семінар</dc:title>
</cp:coreProperties>
</file>