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9CE-DAEB-4FEB-BEA1-AD36AACC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C8A2-834D-4872-BB75-FAA68145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FE13-9DDA-44CE-BD72-DF660C59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463A-5061-42A1-B1FE-D2C05233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47A3-CEDD-49DD-B95F-62BB6749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A57D-8058-4588-855A-04ED38BE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A778-2722-4E8A-B0E8-060E5E3E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C694-BDCB-4232-B768-5C3F32C3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912F-F17B-43F5-B531-D6FF1C7B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7126-4F83-47CE-B2F2-8A9BE58D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99A1-6CAB-4CCC-8FBF-1140FD87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76F3-3C5A-4303-8DA9-7E77DEA6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693F-6687-4AE0-91FB-88289D08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4561-458D-4A1C-B960-81819D76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AD6B-0E1E-461B-A9CE-8A3879AF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8FF9-8FAB-4ED8-ACB0-D010531B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9239-A0EC-46C7-9D74-BE9849A70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EA52-2F09-4DD9-A906-E25C560B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839-E372-4090-9700-8DF23FB6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9A2E-DDBE-496A-8E06-B58451AF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5EE7-51C2-4D76-8C3D-CA41B13A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F54A-E9FF-49B6-9C97-E69D3306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1810-AB80-45AD-9C55-92C718A6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5510-563A-45A6-945A-5A7838B4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BED9-DCF3-48B3-97F1-46FECDF0476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919F-6DB0-48EE-B430-3B8D6031201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Тема 5: Вивчення простору в </a:t>
            </a:r>
            <a:br>
              <a:rPr sz="4000"/>
            </a:b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медичній географії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Лекція 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3640" y="333000"/>
            <a:ext cx="83516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Verdana"/>
              </a:rPr>
              <a:t>Середовище проживання в медичній географії розглядається як багаторівнева структура, яку можна поділити на декілька взаємопов’язаних підсистем, що мають вплив на стан здоров’я: природне , техногенне, соціально-економічне, та соціально-психологічне середовища, які взаємопов’язані і взаємоперетинаються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707760" y="505800"/>
            <a:ext cx="7727760" cy="5396760"/>
            <a:chOff x="707760" y="505800"/>
            <a:chExt cx="7727760" cy="5396760"/>
          </a:xfrm>
        </p:grpSpPr>
        <p:sp>
          <p:nvSpPr>
            <p:cNvPr id="160" name="_s78852"/>
            <p:cNvSpPr/>
            <p:nvPr/>
          </p:nvSpPr>
          <p:spPr>
            <a:xfrm>
              <a:off x="3511800" y="1271520"/>
              <a:ext cx="2120040" cy="2193480"/>
            </a:xfrm>
            <a:prstGeom prst="ellipse">
              <a:avLst/>
            </a:prstGeom>
            <a:solidFill>
              <a:srgbClr val="66ccff">
                <a:alpha val="50000"/>
              </a:srgbClr>
            </a:solidFill>
            <a:ln w="468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_s78853"/>
            <p:cNvSpPr/>
            <p:nvPr/>
          </p:nvSpPr>
          <p:spPr>
            <a:xfrm>
              <a:off x="3679920" y="505800"/>
              <a:ext cx="178488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1700" spc="-1" strike="noStrike">
                  <a:solidFill>
                    <a:srgbClr val="ffff00"/>
                  </a:solidFill>
                  <a:latin typeface="Tahoma"/>
                </a:rPr>
                <a:t>Середовище існування людини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_s78854"/>
            <p:cNvSpPr/>
            <p:nvPr/>
          </p:nvSpPr>
          <p:spPr>
            <a:xfrm>
              <a:off x="4319280" y="2107440"/>
              <a:ext cx="2120040" cy="2193480"/>
            </a:xfrm>
            <a:prstGeom prst="ellipse">
              <a:avLst/>
            </a:prstGeom>
            <a:solidFill>
              <a:srgbClr val="ffffcc">
                <a:alpha val="50000"/>
              </a:srgbClr>
            </a:solidFill>
            <a:ln w="4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78855"/>
            <p:cNvSpPr/>
            <p:nvPr/>
          </p:nvSpPr>
          <p:spPr>
            <a:xfrm>
              <a:off x="6650640" y="2930400"/>
              <a:ext cx="17848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78856"/>
            <p:cNvSpPr/>
            <p:nvPr/>
          </p:nvSpPr>
          <p:spPr>
            <a:xfrm>
              <a:off x="3511800" y="2943000"/>
              <a:ext cx="2120040" cy="2193480"/>
            </a:xfrm>
            <a:prstGeom prst="ellipse">
              <a:avLst/>
            </a:prstGeom>
            <a:solidFill>
              <a:srgbClr val="ff99cc">
                <a:alpha val="50000"/>
              </a:srgbClr>
            </a:solidFill>
            <a:ln w="468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78857"/>
            <p:cNvSpPr/>
            <p:nvPr/>
          </p:nvSpPr>
          <p:spPr>
            <a:xfrm>
              <a:off x="3679920" y="5355000"/>
              <a:ext cx="178488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3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_s78858"/>
            <p:cNvSpPr/>
            <p:nvPr/>
          </p:nvSpPr>
          <p:spPr>
            <a:xfrm>
              <a:off x="2704320" y="2107440"/>
              <a:ext cx="2120040" cy="219348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468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_s78859"/>
            <p:cNvSpPr/>
            <p:nvPr/>
          </p:nvSpPr>
          <p:spPr>
            <a:xfrm>
              <a:off x="707760" y="2930400"/>
              <a:ext cx="1784880" cy="54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747440" y="2895480"/>
            <a:ext cx="17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Соціаль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психологіч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18880" y="121932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Техноген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631480" y="297180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Природ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6320" y="4419720"/>
            <a:ext cx="301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Соціально-економічне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075520" cy="65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ffffff"/>
                </a:solidFill>
                <a:uFillTx/>
                <a:latin typeface="Verdana"/>
              </a:rPr>
              <a:t>Список рекомендованої літератури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1.  Агесс Пьер. Ключи к екологии. – Л.: Гидрометиздат, 1986. – 86 с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2.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аландин Р. К., Бондарев Л. Г. Природа и цивилизация. — М: Мысль,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986.—391с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3.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Беллер Г. А. Экзамен разума. — М.: Мысль, 1988. — 251 с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4.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ирусов Э. В. Основы социальной экологии. — М, 1998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5.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орелов А. А. Экология. —М: Центр, 2000. —240 с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6. Никитин Д.П., Новиков Ю.В. Окружающая среда и человек. – М,1993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Verdana"/>
              </a:rPr>
              <a:t>7.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епмерс Н. Ф. Экология: теории, законы, правила, принципы и гипоте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зы. — М.: Мысль, 1994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6:27:39Z</dcterms:created>
  <dc:creator>КАН</dc:creator>
  <dc:description/>
  <dc:language>en-US</dc:language>
  <cp:lastModifiedBy>Немец Людмила</cp:lastModifiedBy>
  <dcterms:modified xsi:type="dcterms:W3CDTF">2011-05-30T14:38:43Z</dcterms:modified>
  <cp:revision>16</cp:revision>
  <dc:subject/>
  <dc:title>Науковий семінар</dc:title>
</cp:coreProperties>
</file>