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26B-42A2-4B74-8BE0-BC713C22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33F-B22C-46C9-B13A-65669BF4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4E6-750A-4B98-A49C-D2C0557C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B5A-5947-4F54-8B0A-5962931F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914B-A4BE-4AEC-9D8F-5567DCDA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1454-D1EE-4DB5-AF1C-63C5D5F7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ECDF-F44B-4EED-8717-4468BCDC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686A-6122-4204-B68A-8C5FB298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288B-622D-44F9-9763-7945096F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B793-7F2E-4785-A5AC-705BDC1C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A08A-BCD0-40FD-BC83-5CE15EF0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258-DC49-4876-8432-33B2C392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76CC-248C-4FE2-A6FA-ED0956D9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868A-EBC0-4066-82EB-AB474D48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2149-990B-424B-9ED7-C1BAAFCF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1FDE-373A-406D-A60A-BD0467B7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AD00-027A-4C72-A440-4F759359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541-C38D-4300-9B69-634E542F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4E4-DCAD-4775-AA72-E6253C8E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F97-72CA-4A86-8A33-1E53EC80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411-736F-4B39-8EEF-54F97BAF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E3E-C2F3-45B7-A181-D1324AF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D22-005B-4ACC-A5F4-D8BAB86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5C2-EDE4-4850-8EAF-88AC24B6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BC68-C06D-4300-A2FF-C94D8747709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1C9-A19C-4A0C-A9BF-4C0ED57F84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ема 5: Вивчення простору в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едичній географії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екція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51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овище проживання в медичній географії розглядається як багаторівнева структура, яку можна поділити на декілька взаємопов’язаних підсистем, що мають вплив на стан здоров’я: природне , техногенне, соціально-економічне, та соціально-психологічне середовища, які взаємопов’язані і взаємоперетинаютьс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707760" y="505800"/>
            <a:ext cx="7727760" cy="5396760"/>
            <a:chOff x="707760" y="505800"/>
            <a:chExt cx="7727760" cy="5396760"/>
          </a:xfrm>
        </p:grpSpPr>
        <p:sp>
          <p:nvSpPr>
            <p:cNvPr id="160" name="_s78852"/>
            <p:cNvSpPr/>
            <p:nvPr/>
          </p:nvSpPr>
          <p:spPr>
            <a:xfrm>
              <a:off x="3511800" y="1271520"/>
              <a:ext cx="2120040" cy="219348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46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78853"/>
            <p:cNvSpPr/>
            <p:nvPr/>
          </p:nvSpPr>
          <p:spPr>
            <a:xfrm>
              <a:off x="3679920" y="505800"/>
              <a:ext cx="17848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ffff00"/>
                  </a:solidFill>
                  <a:latin typeface="Tahoma"/>
                </a:rPr>
                <a:t>Середовище існування людин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78854"/>
            <p:cNvSpPr/>
            <p:nvPr/>
          </p:nvSpPr>
          <p:spPr>
            <a:xfrm>
              <a:off x="4319280" y="2107440"/>
              <a:ext cx="2120040" cy="219348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4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78855"/>
            <p:cNvSpPr/>
            <p:nvPr/>
          </p:nvSpPr>
          <p:spPr>
            <a:xfrm>
              <a:off x="6650640" y="2930400"/>
              <a:ext cx="17848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78856"/>
            <p:cNvSpPr/>
            <p:nvPr/>
          </p:nvSpPr>
          <p:spPr>
            <a:xfrm>
              <a:off x="3511800" y="2943000"/>
              <a:ext cx="2120040" cy="219348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4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78857"/>
            <p:cNvSpPr/>
            <p:nvPr/>
          </p:nvSpPr>
          <p:spPr>
            <a:xfrm>
              <a:off x="3679920" y="5355000"/>
              <a:ext cx="17848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78858"/>
            <p:cNvSpPr/>
            <p:nvPr/>
          </p:nvSpPr>
          <p:spPr>
            <a:xfrm>
              <a:off x="2704320" y="2107440"/>
              <a:ext cx="2120040" cy="21934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468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78859"/>
            <p:cNvSpPr/>
            <p:nvPr/>
          </p:nvSpPr>
          <p:spPr>
            <a:xfrm>
              <a:off x="707760" y="2930400"/>
              <a:ext cx="17848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747440" y="289548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Соці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сихологіч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18880" y="1219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Техноген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1480" y="2971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рирод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6320" y="44197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Соціально-економічне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ffff"/>
                </a:solidFill>
                <a:uFillTx/>
                <a:latin typeface="Verdana"/>
              </a:rPr>
              <a:t>Список рекомендованої літератури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1.  Агесс Пьер. Ключи к екологии. – Л.: Гидрометиздат, 1986. – 86 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аландин Р. К., Бондарев Л. Г. Природа и цивилизация. — М: Мысл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986.—391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ллер Г. А. Экзамен разума. — М.: Мысль, 1988. — 251 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ирусов Э. В. Основы социальной экологии. — М, 199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релов А. А. Экология. —М: Центр, 2000. —240 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6. Никитин Д.П., Новиков Ю.В. Окружающая среда и человек. – М,199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7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пмерс Н. Ф. Экология: теории, законы, правила, принципы и гипот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ы. — М.: Мысль, 1994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6:27:39Z</dcterms:created>
  <dc:creator>КАН</dc:creator>
  <dc:description/>
  <dc:language>en-US</dc:language>
  <cp:lastModifiedBy>Немец Людмила</cp:lastModifiedBy>
  <dcterms:modified xsi:type="dcterms:W3CDTF">2011-05-30T14:38:43Z</dcterms:modified>
  <cp:revision>16</cp:revision>
  <dc:subject/>
  <dc:title>Науковий семінар</dc:title>
</cp:coreProperties>
</file>